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27DDB-B493-496B-B38E-7449091CE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BD6E5-74C0-4345-87B1-0A945F03A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E7DF2-2432-4516-AB39-FEA46ADDD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E0385-8E0E-4CBA-8D76-47F3120C9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3FBA5-2AA1-48F9-9029-E000C0279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0C7D7-EAB4-4F0C-8D2E-933CC0366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31DE6-2950-43E0-88DC-E50C433E4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477B5-FFBA-4C12-AA3D-CD57294DF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67D26-E9C7-4622-AE4E-C232D5243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DC1E7-A237-4C5A-A6D1-2E950189C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1A195-CF70-49BF-95E7-D3182DCAA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EA66B-9828-4365-A63F-2B92BF40E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2DEFC-5127-4D06-9DD5-3EC545A93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D41DD-EAE8-43BF-9988-647DD0FF4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6CDF0-A529-46CB-80D8-9AB67317A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679DA-F7A8-4FE4-BE0A-27D0EE6BE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DE51B-A08E-45BB-92D8-6256F9C96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50B22C-B137-49C6-9FC3-9DE0BB84BF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2A93E-9175-41E4-B7F7-D5ECBBFBF2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494B02-C25F-4B8C-BF99-582C4C63F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849BF-F559-4ADB-8FBC-0ECB7BE989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287EAD-0C6C-4743-8B4A-AE5987FA4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6AB3B-5CDF-41A0-813F-036E1734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70330C-DBCB-458A-AE26-52FBCC02A6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6C8FE-3BDC-4F35-94DC-DBB2A7AB9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BF150-70DE-43B0-9884-A17D0D9AA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538B7-54C6-4DFF-B5DF-AFA0DBB71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B87ACD-B672-46BE-BBBC-B7826D0BC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E67D9B-00F9-4F8E-A365-CCB18F8988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C5960C-30D5-4ED6-9684-C928AC5454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8067E4-FB48-49D2-AF52-ED4B5E8A9F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2C4CEC-E3C1-4F22-841B-DA321ABD53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3EE4E1-F346-47B9-A7DE-055F790D9A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1D1CE-62CE-4BF4-B163-9C3A653EF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528446-8563-4D5C-A8B7-95F416B89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3B885-3711-4421-B93E-E62CDB60E2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BB7F9-4A05-442D-937A-2C2D3CD19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D20DBC-E21C-4E1A-B890-53ED2AA84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11183-576F-40F9-826B-4369195E2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9AFBB-A04F-43A4-A6EC-6CAED7E535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6B1566-6533-44C6-B8A4-CE48E86042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BE591F-066A-41E3-ABE0-6D06E341E7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F5232F-8315-4650-B2BB-A6306B88FF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CFD56-3A65-4D61-849D-80B09815D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34338-65AF-48EC-AF14-5835BDC58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4B32E-4BEE-460F-9596-4EC5D9EE2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9E70C-ED5B-4958-9CB8-29A6A6E54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35CA-8FA2-4FE2-908B-91CABD9D6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B77B-FF67-47F6-86FA-C1DE21EA5A5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79CD-8BE1-4ED1-AA64-CF73B44892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3D80-8FFD-4CCC-9669-02F6BC0E464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02CD-0B40-405A-8F98-364373F51F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85E8-7BEB-42FC-9461-AB5BE44CCD8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C9A1-66D2-49D5-82D2-A6600DED8E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EF91-28D8-4411-A620-D7541052BF8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1BD3-AC2F-4B4A-BDF9-0AD6ADFD34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A1FA-9823-429D-85F1-CDAAC218F127}" type="slidenum">
              <a:rPr b="0" lang="en-US" sz="1200" spc="-1" strike="noStrike">
                <a:solidFill>
                  <a:srgbClr val="898989"/>
                </a:solidFill>
                <a:latin typeface="Arial"/>
              </a:rPr>
              <a:t>1</a:t>
            </a:fld>
            <a:endParaRPr b="0" lang="en-US" sz="1200" spc="-1" strike="noStrike">
              <a:solidFill>
                <a:srgbClr val="000000"/>
              </a:solidFill>
              <a:latin typeface="Arial"/>
            </a:endParaRPr>
          </a:p>
        </p:txBody>
      </p:sp>
      <p:sp>
        <p:nvSpPr>
          <p:cNvPr id="176"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welve Propositions Resulting from the Stocktaking Exercise</a:t>
            </a:r>
            <a:endParaRPr b="0" lang="en-US" sz="4000" spc="-1" strike="noStrike">
              <a:solidFill>
                <a:srgbClr val="000000"/>
              </a:solidFill>
              <a:latin typeface="Arial"/>
            </a:endParaRPr>
          </a:p>
        </p:txBody>
      </p:sp>
      <p:sp>
        <p:nvSpPr>
          <p:cNvPr id="177" name="TextBox 4"/>
          <p:cNvSpPr/>
          <p:nvPr/>
        </p:nvSpPr>
        <p:spPr>
          <a:xfrm>
            <a:off x="4572000" y="923760"/>
            <a:ext cx="358128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1E0A-C3E8-4BEF-BE39-8842E36792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A7FA-838E-4B00-AA2E-A877C302C5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7"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indeed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F02D-C2D8-4320-A350-E8C0204850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9"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dels for effective community engagement –  of relevance to any adaptation work –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86E8-3929-44FC-9E21-A868ABC75A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DCB1-663A-41F2-AE2E-C17FC806E3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outscaling at the higher level have also been demonstrated through such approaches as Learning Alliances and other multistakeholder platforms. (</a:t>
            </a:r>
            <a:r>
              <a:rPr b="0" i="1" lang="en-US" sz="3200" spc="-1" strike="noStrike">
                <a:solidFill>
                  <a:srgbClr val="000000"/>
                </a:solidFill>
                <a:latin typeface="Calibri"/>
                <a:ea typeface="Calibri"/>
              </a:rPr>
              <a:t>http://www.capri.cgiar.org</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9DF7-2F8E-4A33-9559-2233E93084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5" name=""/>
          <p:cNvSpPr txBox="1"/>
          <p:nvPr/>
        </p:nvSpPr>
        <p:spPr>
          <a:xfrm>
            <a:off x="685800" y="2057040"/>
            <a:ext cx="8153280" cy="24382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 community of practice on areas related to social learning may be considered building on champions within each CRP.</a:t>
            </a:r>
            <a:endParaRPr b="0" lang="en-US" sz="36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CF22-F5DF-4357-9B42-FCFBB8013C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7" name=""/>
          <p:cNvSpPr txBox="1"/>
          <p:nvPr/>
        </p:nvSpPr>
        <p:spPr>
          <a:xfrm>
            <a:off x="685800" y="1981080"/>
            <a:ext cx="8153280" cy="38102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A compilation for wider sharing and promotion of the diverse range of field tested tools and past and current approaches, currently widely dispersed and remaining unknown to the wider community, would be a logical early step to take.</a:t>
            </a:r>
            <a:endParaRPr b="0" lang="en-US" sz="34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9468-1959-46F4-AED4-2F879F4D03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9"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wo key reminders are essential.</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49C1-679F-4222-AB05-243B50FF82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qual exposure and substantive interaction to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5B10-9C91-4FD2-9FB3-DCD4F412AE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3" name=""/>
          <p:cNvSpPr txBox="1"/>
          <p:nvPr/>
        </p:nvSpPr>
        <p:spPr>
          <a:xfrm>
            <a:off x="685800" y="1676160"/>
            <a:ext cx="82296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a:t>
            </a:r>
            <a:endParaRPr b="0" lang="en-US" sz="32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a:t>
            </a:r>
            <a:endParaRPr b="0" lang="en-US" sz="3600" spc="-1" strike="noStrike">
              <a:solidFill>
                <a:srgbClr val="b23b7e"/>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ED7C-FEF9-4F6D-92DF-7C72B36813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0463-980D-48AA-BB7A-726EEEFE5F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
          <p:cNvSpPr txBox="1"/>
          <p:nvPr/>
        </p:nvSpPr>
        <p:spPr>
          <a:xfrm>
            <a:off x="837720" y="1752120"/>
            <a:ext cx="7543800" cy="4343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particularly climate change implies that it simply cannot be business as usual and involving a diversity of stakeholders (with different perspectives and sometimes competing interests).</a:t>
            </a: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EDAD-C800-431C-9E9B-7994E1CCCB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
          <p:cNvSpPr txBox="1"/>
          <p:nvPr/>
        </p:nvSpPr>
        <p:spPr>
          <a:xfrm>
            <a:off x="685440" y="2133360"/>
            <a:ext cx="7924680" cy="1904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new demand for supporting social learning-related areas is naturally expected to arise.</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9FDE-ADDF-4B4C-98FA-651C153211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5"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also an “all time high” awareness of the limited uptake of research products and processes – the gap between R &amp; D, resulting in the wider promotion of partnership-based platforms directed primarily at demonstrating the relevance of an innovation perspective and aimed at enhancing research uptake/use.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82E8-94ED-4D72-AF63-F3AF7D90F1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7"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EE61-C8E3-4DCC-96A5-3E577BBA7F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9"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thodological innovations and new work modalities are needed in order to respond increasing complexities of partnership-based and trans-disciplinary research required for better uptake. However, biases still characterize some of the work of some CG center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1C43-4A56-43B9-8998-077D85DCBF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1"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emphasis on strategic and purposive integration of the national research sectors. AR4D cannot succeed without a genuine and empowering engagement of the national research sector.</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ED07-BB54-4847-A697-1AFC38AF2F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3" name=""/>
          <p:cNvSpPr txBox="1"/>
          <p:nvPr/>
        </p:nvSpPr>
        <p:spPr>
          <a:xfrm>
            <a:off x="685440" y="1828440"/>
            <a:ext cx="7924680" cy="3809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sulting primarily from the CRP orientation, emerging partnerships, new work arrangements, ICT tools and related increased networking are providing new opportunities for demonstrating the value of social learning approaches. However, there is a risk that if this is not done in an organized, coordinated, reflective and consultative manner, these approaches will not have a lasting impact. </a:t>
            </a:r>
            <a:endParaRPr b="0" lang="en-US" sz="28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0T21:37:25Z</dcterms:modified>
  <cp:revision>22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