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11839-0BE0-4640-8089-8841646A5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AD1DE-C0CB-495C-9F4B-D520B1656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763E1-02B3-4820-B26B-A4D3A528D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91B07-C6D2-4767-9CBC-DC5CC8F84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05D7C8-B5D4-4377-AAAE-19D980FEF1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ED2BC-031D-4E1F-BECC-CEE2F172A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29999-32C0-4D65-B328-04DAC158D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2245A-C7A2-4AB6-8F8A-33963867E2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D822D-B69A-4059-BFC7-9F04EA3BDF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0F562-312D-4F72-8C31-0A1173CDE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6E43F-C960-4B73-BD1B-1A1BDEF59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81291-94C8-47A1-8267-FBEACA210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10975-546B-43DB-B669-44736252B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92829-4532-4A25-BC18-2A22C0A03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507994-691F-4B20-85D8-C471D6A8F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F9960A-22AB-4AC6-85C7-BCDCA6E4C3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E0D34C-E5FF-4894-A587-9BC7357D0A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1A12FD-A338-4DEB-A13D-56F2C20535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68B834-03F9-40BA-90CD-01D93C78BD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500AD9-2436-4E1C-8089-80485536A3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9971A8-D86E-4943-A26C-3695DB30C4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2221F9-FBD7-4556-9CA3-0D97EE4B64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FF8F3-8BB9-40D5-9AB5-A411324F4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51EFE3-B7C2-43AA-B0F1-6FFC616AEF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775F2B-3737-46C6-882B-05954D1E7C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B71E36-838B-4CCE-B1C3-A31B4A9BB0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AC20C4-8D24-431E-B0DE-A8B4B2AB3B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50CB22-FD1C-4378-98A7-9A732A0C10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CD0DFC-234A-4A44-8FAF-422C528A6A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784992-95FF-4F20-A3D8-80A2079AAD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DB4A02-CE54-40F3-8058-3330F01641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0E6F35-D3A1-4C74-9211-A87ADCB658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45A69A-C748-4F08-BC85-F2D2AE47C0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26664-21D1-4438-8561-661D04E0C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E677E9-B796-4DFC-A8DA-B05D3CCA7F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255A82-0A83-4E05-9D9D-4074B5CDAA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3A25A2-F9D7-4B4E-B8AE-5A36286CC2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BEB62B-CAB9-47D7-8128-283E618E2C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1B26D0-6AF8-4EF0-8069-1ABF253715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4D959F-56C1-4048-8F38-0917FC75B3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BD37EE-5339-49FA-9DC3-206436FD5C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F25B00-50FF-4AF6-8084-C30D243636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52A4A0-A521-4052-B7EE-CD8E8DE097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7404F-B554-4FBD-AC3A-311EECFA9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D3970-2239-469D-98A0-74705617E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6C018-0F42-40F3-9778-266FE0CA5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21423-8773-4BAA-8459-BD3317CFD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79699-150F-42E1-8100-FF2F70F20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1E20A-FF56-4A3E-AEF6-081DF2A0FED0}"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261B1-0807-421E-8DB3-1E62D65DE7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18A82-7A9D-416C-9AED-A137FD52030D}"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6F62A-B5F2-4520-8CFE-785A1EC26A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prstGeom prst="pie">
            <a:avLst/>
          </a:prstGeom>
          <a:solidFill>
            <a:srgbClr val="295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9"/>
          <p:cNvSpPr/>
          <p:nvPr/>
        </p:nvSpPr>
        <p:spPr>
          <a:xfrm flipV="1">
            <a:off x="-25200" y="4889160"/>
            <a:ext cx="8839440" cy="3276720"/>
          </a:xfrm>
          <a:prstGeom prst="pie">
            <a:avLst/>
          </a:prstGeom>
          <a:solidFill>
            <a:srgbClr val="e0e7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8"/>
          <p:cNvSpPr/>
          <p:nvPr/>
        </p:nvSpPr>
        <p:spPr>
          <a:xfrm flipV="1">
            <a:off x="-25200" y="4785120"/>
            <a:ext cx="9144000" cy="322740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5"/>
          <p:cNvSpPr/>
          <p:nvPr/>
        </p:nvSpPr>
        <p:spPr>
          <a:xfrm>
            <a:off x="1440" y="268200"/>
            <a:ext cx="9142560" cy="176076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6"/>
          <p:cNvSpPr/>
          <p:nvPr/>
        </p:nvSpPr>
        <p:spPr>
          <a:xfrm>
            <a:off x="523800" y="190440"/>
            <a:ext cx="8620200" cy="165888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3635-B980-4FD6-987F-6AD11D1B8C5A}"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06492-D391-4DD1-A1C2-89EC82542A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6"/>
          <p:cNvSpPr/>
          <p:nvPr/>
        </p:nvSpPr>
        <p:spPr>
          <a:xfrm>
            <a:off x="533520" y="322200"/>
            <a:ext cx="8610480" cy="158292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8"/>
          <p:cNvSpPr/>
          <p:nvPr/>
        </p:nvSpPr>
        <p:spPr>
          <a:xfrm>
            <a:off x="-9360" y="4572000"/>
            <a:ext cx="9153360" cy="2309760"/>
          </a:xfrm>
          <a:prstGeom prst="pie">
            <a:avLst/>
          </a:prstGeom>
          <a:solidFill>
            <a:srgbClr val="295f7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9"/>
          <p:cNvSpPr/>
          <p:nvPr/>
        </p:nvSpPr>
        <p:spPr>
          <a:xfrm flipV="1">
            <a:off x="0" y="4113720"/>
            <a:ext cx="8991720" cy="380988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9"/>
          <p:cNvSpPr/>
          <p:nvPr/>
        </p:nvSpPr>
        <p:spPr>
          <a:xfrm flipV="1">
            <a:off x="0" y="4570920"/>
            <a:ext cx="9144000" cy="325116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6403F-6B4C-46CF-B5C5-FDEB4EBB5EB9}"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D9381-46CD-4778-9803-6E9C1E836E8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114800" y="4114800"/>
            <a:ext cx="4038480" cy="457200"/>
          </a:xfrm>
          <a:prstGeom prst="rect">
            <a:avLst/>
          </a:prstGeom>
          <a:noFill/>
          <a:ln w="0">
            <a:noFill/>
          </a:ln>
        </p:spPr>
        <p:txBody>
          <a:bodyPr anchor="t">
            <a:normAutofit/>
          </a:bodyPr>
          <a:p>
            <a:pPr marL="343080" indent="-343080"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Julian F. Gonsalves PhD.</a:t>
            </a:r>
            <a:endParaRPr b="0" lang="en-US" sz="2200" spc="-1" strike="noStrike">
              <a:solidFill>
                <a:srgbClr val="b23b7e"/>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477C8-C79A-4332-94AD-46227094FE5C}" type="slidenum">
              <a:rPr b="0" lang="en-US" sz="1200" spc="-1" strike="noStrike">
                <a:solidFill>
                  <a:srgbClr val="898989"/>
                </a:solidFill>
                <a:latin typeface="Arial"/>
              </a:rPr>
              <a:t>1</a:t>
            </a:fld>
            <a:endParaRPr b="0" lang="en-US" sz="1200" spc="-1" strike="noStrike">
              <a:solidFill>
                <a:srgbClr val="000000"/>
              </a:solidFill>
              <a:latin typeface="Arial"/>
            </a:endParaRPr>
          </a:p>
        </p:txBody>
      </p:sp>
      <p:sp>
        <p:nvSpPr>
          <p:cNvPr id="176" name="TextBox 4"/>
          <p:cNvSpPr/>
          <p:nvPr/>
        </p:nvSpPr>
        <p:spPr>
          <a:xfrm>
            <a:off x="914400" y="1828800"/>
            <a:ext cx="7315200" cy="17388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Twelve Propositions Resulting from the Stocktaking Exercise</a:t>
            </a:r>
            <a:endParaRPr b="0" lang="en-US" sz="4000" spc="-1" strike="noStrike">
              <a:solidFill>
                <a:srgbClr val="000000"/>
              </a:solidFill>
              <a:latin typeface="Arial"/>
            </a:endParaRPr>
          </a:p>
        </p:txBody>
      </p:sp>
      <p:sp>
        <p:nvSpPr>
          <p:cNvPr id="177" name="TextBox 4"/>
          <p:cNvSpPr/>
          <p:nvPr/>
        </p:nvSpPr>
        <p:spPr>
          <a:xfrm>
            <a:off x="4572000" y="923760"/>
            <a:ext cx="3581280" cy="596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Draft for Discussion</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cience Meeting</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March 2013</a:t>
            </a:r>
            <a:endParaRPr b="0" lang="en-US" sz="11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C6036-8781-4E85-973E-3E97856B09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5" name=""/>
          <p:cNvSpPr txBox="1"/>
          <p:nvPr/>
        </p:nvSpPr>
        <p:spPr>
          <a:xfrm>
            <a:off x="685440" y="1752480"/>
            <a:ext cx="7924680" cy="3810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 past should inform the future. The social and institutional issues associated with an AR4D in a changing climate contest are often not always new. There are similarities with past CG efforts in natural resources management research and collective action and pockets of work on participatory and adaptive management research, upscaling research, etc.</a:t>
            </a:r>
            <a:endParaRPr b="0" lang="en-US" sz="3000" spc="-1" strike="noStrike">
              <a:solidFill>
                <a:srgbClr val="b23b7e"/>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04839-4C09-43BC-B6E3-BFE088F5C3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7" name=""/>
          <p:cNvSpPr txBox="1"/>
          <p:nvPr/>
        </p:nvSpPr>
        <p:spPr>
          <a:xfrm>
            <a:off x="685440" y="1828800"/>
            <a:ext cx="7924680" cy="220968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CCAFs can indeed rely on well demonstrated past models to build on its adaptive management work.</a:t>
            </a:r>
            <a:endParaRPr b="0" lang="en-US" sz="4000" spc="-1" strike="noStrike">
              <a:solidFill>
                <a:srgbClr val="b23b7e"/>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B0567-D95C-48DA-AD19-E2C781C3D0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9" name=""/>
          <p:cNvSpPr txBox="1"/>
          <p:nvPr/>
        </p:nvSpPr>
        <p:spPr>
          <a:xfrm>
            <a:off x="685440" y="1752480"/>
            <a:ext cx="7924680" cy="3810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Models for effective community engagement –  of relevance to any adaptation work – of  relevance to any subsequent upscaling efforts are best developed through effective researcher engagement at the local level. The value of FFS, CIALs and ACM/Co-Management as relevant approaches for researchers to engage local communities has been proven.</a:t>
            </a:r>
            <a:endParaRPr b="0" lang="en-US" sz="3000" spc="-1" strike="noStrike">
              <a:solidFill>
                <a:srgbClr val="b23b7e"/>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3BDEB-C8F5-49B2-9D3D-14C630B7765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1" name=""/>
          <p:cNvSpPr txBox="1"/>
          <p:nvPr/>
        </p:nvSpPr>
        <p:spPr>
          <a:xfrm>
            <a:off x="685800" y="1828440"/>
            <a:ext cx="8153280" cy="38098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Efforts to address institutional issues associated with climate change can draw heavily from a rich and long tradition of research on collective action (</a:t>
            </a:r>
            <a:r>
              <a:rPr b="0" i="1" lang="en-US" sz="3600" spc="-1" strike="noStrike">
                <a:solidFill>
                  <a:srgbClr val="000000"/>
                </a:solidFill>
                <a:latin typeface="Calibri"/>
                <a:ea typeface="Calibri"/>
              </a:rPr>
              <a:t>http://www.capri.cgiar.org</a:t>
            </a:r>
            <a:r>
              <a:rPr b="0" lang="en-US" sz="3600" spc="-1" strike="noStrike">
                <a:solidFill>
                  <a:srgbClr val="000000"/>
                </a:solidFill>
                <a:latin typeface="Calibri"/>
                <a:ea typeface="Calibri"/>
              </a:rPr>
              <a:t>)</a:t>
            </a:r>
            <a:endParaRPr b="0" lang="en-US" sz="3600" spc="-1" strike="noStrike">
              <a:solidFill>
                <a:srgbClr val="b23b7e"/>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25DA5-A758-4971-A37F-DA50EB248F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3"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odels for outscaling at the higher level have also been demonstrated through such approaches as Learning Alliances and other multistakeholder platforms. (</a:t>
            </a:r>
            <a:r>
              <a:rPr b="0" i="1" lang="en-US" sz="3200" spc="-1" strike="noStrike">
                <a:solidFill>
                  <a:srgbClr val="000000"/>
                </a:solidFill>
                <a:latin typeface="Calibri"/>
                <a:ea typeface="Calibri"/>
              </a:rPr>
              <a:t>http://www.capri.cgiar.org</a:t>
            </a:r>
            <a:r>
              <a:rPr b="0" lang="en-US" sz="3200" spc="-1" strike="noStrike">
                <a:solidFill>
                  <a:srgbClr val="000000"/>
                </a:solidFill>
                <a:latin typeface="Calibri"/>
                <a:ea typeface="Calibri"/>
              </a:rPr>
              <a:t>)</a:t>
            </a:r>
            <a:endParaRPr b="0" lang="en-US" sz="3200" spc="-1" strike="noStrike">
              <a:solidFill>
                <a:srgbClr val="b23b7e"/>
              </a:solidFill>
              <a:latin typeface="Calibri"/>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63302-48D7-4D4D-9450-F94B542A7D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5" name=""/>
          <p:cNvSpPr txBox="1"/>
          <p:nvPr/>
        </p:nvSpPr>
        <p:spPr>
          <a:xfrm>
            <a:off x="685800" y="2057040"/>
            <a:ext cx="8153280" cy="24382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A community of practice on areas related to social learning may be considered building on champions within each CRP.</a:t>
            </a:r>
            <a:endParaRPr b="0" lang="en-US" sz="3600" spc="-1" strike="noStrike">
              <a:solidFill>
                <a:srgbClr val="b23b7e"/>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606B6-9FE4-4C8A-A5D6-63AB6B643DD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7" name=""/>
          <p:cNvSpPr txBox="1"/>
          <p:nvPr/>
        </p:nvSpPr>
        <p:spPr>
          <a:xfrm>
            <a:off x="685800" y="1981080"/>
            <a:ext cx="8153280" cy="381024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Calibri"/>
              </a:rPr>
              <a:t>A compilation for wider sharing and promotion of the diverse range of field tested tools and past and current approaches, currently widely dispersed and remaining unknown to the wider community, would be a logical early step to take.</a:t>
            </a:r>
            <a:endParaRPr b="0" lang="en-US" sz="3400" spc="-1" strike="noStrike">
              <a:solidFill>
                <a:srgbClr val="b23b7e"/>
              </a:solidFill>
              <a:latin typeface="Calibri"/>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EF920-B5E2-40CA-B59D-1AA67C5A4B3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9" name=""/>
          <p:cNvSpPr txBox="1"/>
          <p:nvPr/>
        </p:nvSpPr>
        <p:spPr>
          <a:xfrm>
            <a:off x="685800" y="2666880"/>
            <a:ext cx="8153280" cy="13716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wo key reminders are essential.</a:t>
            </a:r>
            <a:endParaRPr b="0" lang="en-US" sz="3600" spc="-1" strike="noStrike">
              <a:solidFill>
                <a:srgbClr val="b23b7e"/>
              </a:solidFill>
              <a:latin typeface="Calibri"/>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B13C8-B095-4EF3-A4C8-0BE64A1C13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1" name=""/>
          <p:cNvSpPr txBox="1"/>
          <p:nvPr/>
        </p:nvSpPr>
        <p:spPr>
          <a:xfrm>
            <a:off x="685800" y="1828440"/>
            <a:ext cx="8153280" cy="38098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Social learning in AR4D out of necessity implies frequent, equal exposure and substantive interaction to lower level stakeholders (e.g. communities, farmer groups).</a:t>
            </a:r>
            <a:endParaRPr b="0" lang="en-US" sz="3600" spc="-1" strike="noStrike">
              <a:solidFill>
                <a:srgbClr val="b23b7e"/>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4DC2C-5BD5-4A52-A837-3F371EA8AB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3" name=""/>
          <p:cNvSpPr txBox="1"/>
          <p:nvPr/>
        </p:nvSpPr>
        <p:spPr>
          <a:xfrm>
            <a:off x="685800" y="1676160"/>
            <a:ext cx="8229600" cy="4190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cial learning efforts are knowledge and time intensive – involving cycles of learning and reflection – and cannot be rushed. Social learning efforts are likely to generate “real” results at the </a:t>
            </a:r>
            <a:r>
              <a:rPr b="0" i="1" lang="en-US" sz="3200" spc="-1" strike="noStrike">
                <a:solidFill>
                  <a:srgbClr val="000000"/>
                </a:solidFill>
                <a:latin typeface="Calibri"/>
                <a:ea typeface="Calibri"/>
              </a:rPr>
              <a:t>local</a:t>
            </a:r>
            <a:r>
              <a:rPr b="0" lang="en-US" sz="3200" spc="-1" strike="noStrike">
                <a:solidFill>
                  <a:srgbClr val="000000"/>
                </a:solidFill>
                <a:latin typeface="Calibri"/>
                <a:ea typeface="Calibri"/>
              </a:rPr>
              <a:t> level only if adequate investment of time and effort in community level engagement is undertaken before upscaling is attempted.</a:t>
            </a:r>
            <a:endParaRPr b="0" lang="en-US" sz="3200" spc="-1" strike="noStrike">
              <a:solidFill>
                <a:srgbClr val="b23b7e"/>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837720" y="2209320"/>
            <a:ext cx="7543800" cy="358164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he reformed CGIAR, especially the CRP structures are helping foster increased inter-center collaboration and cooperation among scientists.</a:t>
            </a:r>
            <a:endParaRPr b="0" lang="en-US" sz="3600" spc="-1" strike="noStrike">
              <a:solidFill>
                <a:srgbClr val="b23b7e"/>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C74FF-210A-4ADB-86AB-8F552BBFF2E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FED7E-4F63-4223-A524-EB5DF1B2CB9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1" name=""/>
          <p:cNvSpPr txBox="1"/>
          <p:nvPr/>
        </p:nvSpPr>
        <p:spPr>
          <a:xfrm>
            <a:off x="837720" y="1752120"/>
            <a:ext cx="7543800" cy="4343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current AR4D focus with its emphasis on addressing poverty, food security, environment and particularly climate change implies that it simply cannot be business as usual and involving a diversity of stakeholders (with different perspectives and sometimes competing interests).</a:t>
            </a:r>
            <a:endParaRPr b="0" lang="en-US" sz="3200" spc="-1" strike="noStrike">
              <a:solidFill>
                <a:srgbClr val="b23b7e"/>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6AAC3-9C46-4FDC-9CC8-A5296B70FF1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
          <p:cNvSpPr txBox="1"/>
          <p:nvPr/>
        </p:nvSpPr>
        <p:spPr>
          <a:xfrm>
            <a:off x="685440" y="2133360"/>
            <a:ext cx="7924680" cy="1904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new demand for supporting social learning-related areas is naturally expected to arise.</a:t>
            </a:r>
            <a:endParaRPr b="0" lang="en-US" sz="3200" spc="-1" strike="noStrike">
              <a:solidFill>
                <a:srgbClr val="b23b7e"/>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986B6-B2D4-4DCE-B01B-2CABA6BE39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5"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re is also an “all time high” awareness of the limited uptake of research products and processes – the gap between R &amp; D, resulting in the wider promotion of partnership-based platforms directed primarily at demonstrating the relevance of an innovation perspective and aimed at enhancing research uptake/use.  </a:t>
            </a:r>
            <a:endParaRPr b="0" lang="en-US" sz="3200" spc="-1" strike="noStrike">
              <a:solidFill>
                <a:srgbClr val="b23b7e"/>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C976A-8A05-4891-A282-786A440D44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7"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re is wider acceptance and bigger emphasis of the scientific community on the importance and legitimacy of doing </a:t>
            </a:r>
            <a:r>
              <a:rPr b="1" i="1" lang="en-US" sz="3200" spc="-1" strike="noStrike">
                <a:solidFill>
                  <a:srgbClr val="000000"/>
                </a:solidFill>
                <a:latin typeface="Calibri"/>
                <a:ea typeface="Calibri"/>
              </a:rPr>
              <a:t>research</a:t>
            </a:r>
            <a:r>
              <a:rPr b="0" lang="en-US" sz="3200" spc="-1" strike="noStrike">
                <a:solidFill>
                  <a:srgbClr val="000000"/>
                </a:solidFill>
                <a:latin typeface="Calibri"/>
                <a:ea typeface="Calibri"/>
              </a:rPr>
              <a:t> on issues related to upscaling and outscaling. Learning and participatory communication come “into play” in a bigger way.</a:t>
            </a:r>
            <a:endParaRPr b="0" lang="en-US" sz="3200" spc="-1" strike="noStrike">
              <a:solidFill>
                <a:srgbClr val="b23b7e"/>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7D917-6052-4DE7-A710-5DD52ABAFAF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9"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ethodological innovations and new work modalities are needed in order to respond increasing complexities of partnership-based and trans-disciplinary research required for better uptake. However, biases still characterize some of the work of some CG centers.</a:t>
            </a:r>
            <a:endParaRPr b="0" lang="en-US" sz="3200" spc="-1" strike="noStrike">
              <a:solidFill>
                <a:srgbClr val="b23b7e"/>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D202-1E32-4EF2-B915-6B2B75DFC38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1"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New research modalities must recognize the value of bringing stakeholders across the RD spectrum with special emphasis on strategic and purposive integration of the national research sectors. AR4D cannot succeed without a genuine and empowering engagement of the national research sector.</a:t>
            </a:r>
            <a:endParaRPr b="0" lang="en-US" sz="3200" spc="-1" strike="noStrike">
              <a:solidFill>
                <a:srgbClr val="b23b7e"/>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944CE-49CC-4B07-A184-0CDF58D7DA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3" name=""/>
          <p:cNvSpPr txBox="1"/>
          <p:nvPr/>
        </p:nvSpPr>
        <p:spPr>
          <a:xfrm>
            <a:off x="685440" y="1828440"/>
            <a:ext cx="7924680" cy="38098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sulting primarily from the CRP orientation, emerging partnerships, new work arrangements, ICT tools and related increased networking are providing new opportunities for demonstrating the value of social learning approaches. However, there is a risk that if this is not done in an organized, coordinated, reflective and consultative manner, these approaches will not have a lasting impact. </a:t>
            </a:r>
            <a:endParaRPr b="0" lang="en-US" sz="2800" spc="-1" strike="noStrike">
              <a:solidFill>
                <a:srgbClr val="b23b7e"/>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user</cp:lastModifiedBy>
  <dcterms:modified xsi:type="dcterms:W3CDTF">2013-02-20T21:37:25Z</dcterms:modified>
  <cp:revision>227</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