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8CD-7DDF-47B0-8745-E1C6CACD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54D-7550-4193-9477-C91D2EA4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C25-ACA3-446C-BA1A-C1437673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331-C3C5-4FC2-89DD-A1AE4F30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828-2A02-44AF-AFF3-5C8B0261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6A9-C46F-4942-9326-8ACE7D6D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62A-E555-4B56-803E-A13341EB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31A-71F7-49D9-A05E-E9FC5FF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EF0-0206-4E27-ABFE-DF20AA08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D19-AA73-4066-886A-D604552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D1F-532B-457D-872F-A97E56DC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E754-D80F-4E77-9447-06518DA3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C610-C4BD-4097-86E6-66EA3C3B89A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5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?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aptive capacity will be limited if long-term changes are not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ow do long term changes relate to the time horizons of different ac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ng-term considerations should be addressed through short-term incentives of relevance and interest to stakeholders for their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tivations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cipated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58Z</dcterms:modified>
  <cp:revision>51</cp:revision>
  <dc:subject/>
  <dc:title>Action planning work Tuesday</dc:title>
</cp:coreProperties>
</file>