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193-CB16-4611-BF86-1298DE72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9C8-FB27-498E-8E8E-B58C0AF9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9E3-19D8-44A4-ADE5-9B15E0D6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512-7E14-4F11-8092-1850F3C7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FBF-CB0A-483C-BC47-FAF0856B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87E-3E3F-4902-A5F4-24A10F30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2D6-4B4B-47B7-B002-6172CD89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03B-1591-4F39-BC16-3406A36D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BA6-74B0-4AEA-873F-9751B2A6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D71-D24A-47E9-A055-864C52F2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D8A-FF83-4295-9F87-C1DABF9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EDE-047D-445E-9E16-CFF0E60E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AE07-9D3D-4229-81DB-AB7E58577F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4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imate change  = long-term problem that needs adaptation by stakeholders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these relate to the time horizons of different actor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can long-term considerations be brought into short-term concerns and acti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y? Adaptive capacity will be limited if long-term changes are not consi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? Long-term considerations should be addressed through short-term incentives of relevance and interest to stakeholders for their eng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into time horizons building on state of the art (risk management, psychology, behavioural econom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CCAFS site + sub-national/hub level (coffee under pressure) + national (scenario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Makueni, Nya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6 person/months research, 1-3 person/months testing + tra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10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entives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building into incentives based on state of the art (psych, eco, risk + development social sci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Retro-apply to scenarios, coffee under pressure, on-going risk manage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3 person/months research, 1-3 person/months testing +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7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ities (sequenced): Applying the tool to evaluate imp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pecific scale / who is targeted: Previously involv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ime needed to do it: 6 person/months research person/months testing +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unding ballpark: 60K US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47Z</dcterms:modified>
  <cp:revision>45</cp:revision>
  <dc:subject/>
  <dc:title>Action planning work Tuesday</dc:title>
</cp:coreProperties>
</file>