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D17-785E-444C-9C7C-B8EFD9B8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098-3633-4EA8-8430-470F846D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B38-43B6-4F0A-B5CA-6306F2C4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642-78A9-4B1A-A95E-5960AA1E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AE8-B45F-4FA1-AAAD-B50338A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82A-6AC4-49BE-8BC6-2FA33501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16F-1442-4D6F-A403-27C4616C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78A-6A07-4632-A451-B809FFB6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817-84EB-4E2F-B42D-307B1813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B4C-DA7D-4A2F-AAAE-AFFF75D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F47-0C0E-4414-B7EA-41188758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6CA-D571-435D-BFC9-234B8144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66EB-9769-4754-937D-86573D29882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4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imate change  = long-term problem that needs adaptation by stakeholder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these relate to the time horizons of different actor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can long-term considerations be brought into short-term concerns and acti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y? Adaptive capacity will be limited if long-term changes are not consi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? Long-term considerations should be addressed through short-term incentives of relevance and interest to stakeholders for their eng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into time horizons building on state of the art (risk management, psychology, behavioural econo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CCAFS site + sub-national/hub level (coffee under pressure) + national (scenari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Makueni, Nya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6 person/months research, 1-3 person/months testing + tra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10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entive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building into incentives based on state of the art (psych, eco, risk + development social sc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Retro-apply to scenarios, coffee under pressure, on-going risk manage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3 person/months research, 1-3 person/months testing +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7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ities (sequenced): Applying the tool to evaluate imp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cific scale / who is targeted: Previously involv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ime needed to do it: 6 person/months research person/months testing +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nding ballpark: 60K US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47Z</dcterms:modified>
  <cp:revision>45</cp:revision>
  <dc:subject/>
  <dc:title>Action planning work Tuesday</dc:title>
</cp:coreProperties>
</file>