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CAB3-4934-4EF9-BAEF-3E76D8FF2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5942-8189-4196-81B0-A0F6CA116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17E0-A6C0-463F-A05E-E32AA2F6E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3A1C-4E0E-492E-9828-E24392402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35F8-A3AE-4E2E-AE69-B33DE5FE3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19E8-33C8-41F7-B2CB-E62D7C5E1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FBC9-4EAB-4C0D-93BF-DCE5FDDC7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D118-FCCA-41B9-8B68-C2E92DCC1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B618-FFE2-4122-BA69-9380B2DC1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7B57-C1D5-40F9-BBCD-B4F2FA54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CC88-8698-44F0-ABEC-CD2A01BD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E2D1-D482-4192-B8D6-164030CA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A8DAA-E869-4AAD-837F-B9E0BF64157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nge 4: Time Sc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limate change  = long-term problem that needs adaptation by stakeholders n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ow do these relate to the time horizons of different actors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ow can long-term considerations be brought into short-term concerns and action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ory of ch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hy? Adaptive capacity will be limited if long-term changes are not consider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How? Long-term considerations should be addressed through short-term incentives of relevance and interest to stakeholders for their engag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Example of a tool to enrich existing projects through social learning processes and make them more effective by connecting short-term relevance to longer term understanding of climate change and ability to adap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me horizons evaluation to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ctivities (sequenced): Commission research into time horizons building on state of the art (risk management, psychology, behavioural economic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pecific scale / who is targeted: CCAFS site + sub-national/hub level (coffee under pressure) + national (scenario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ere (optional): Makueni, Nyan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o plays what role: Topic experts, project organizers, stakehol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ime needed to do it: 6 person/months research, 1-3 person/months testing + tra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unding ballpark: 100K US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ocial differentiation: Target different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centives fra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ctivities (sequenced): Commission research building into incentives based on state of the art (psych, eco, risk + development social scienc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pecific scale / who is targeted: Retro-apply to scenarios, coffee under pressure, on-going risk management pro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ere (optional): CCAFS target reg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o plays what role: Topic experts, project organizers, stakehol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ime needed to do it: 3 person/months research, 1-3 person/months testing + resear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unding ballpark: 70K US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ocial differentiation: Target different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aluating ch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ctivities (sequenced): Applying the tool to evaluate impac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pecific scale / who is targeted: Previously involved projec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here (optional): CCAFS target reg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ho plays what role: Topic experts, project organizers, stakehol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ime needed to do it: 6 person/months research person/months testing + resear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unding ballpark: 60K US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ocial differentiation: Target different group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5:54:51Z</dcterms:created>
  <dc:creator>eleborgne</dc:creator>
  <dc:description/>
  <dc:language>en-US</dc:language>
  <cp:lastModifiedBy>eleborgne</cp:lastModifiedBy>
  <dcterms:modified xsi:type="dcterms:W3CDTF">2012-05-10T12:02:47Z</dcterms:modified>
  <cp:revision>45</cp:revision>
  <dc:subject/>
  <dc:title>Action planning work Tuesday</dc:title>
</cp:coreProperties>
</file>