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AC8-2A34-4CEC-884D-E5A561F2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2BF-7F32-4F98-9E38-F57EF705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854-D74E-4CBD-8134-562C7F2D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A0B-8E51-4E02-A78E-3DD304FF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F38-EF82-4856-A105-0F119BFE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EC6-CD68-44DE-B9D0-19D5BD67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1FE-D147-4888-9750-360E8A4D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B6F-D7FC-4AEF-97E5-B57E67AF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E9BA-9576-4887-B788-8208FA85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5A0-ADF7-4525-BFD6-111D18CB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F23-8864-4E30-9165-745A93F3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9CC-D455-4B7B-8EC7-A73B156A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5DE6-0B1A-4A0B-8BFD-BE02AC69781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4: Time 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imate change  = long-term problem that needs adaptation by stakeholders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 these relate to the time horizons of different actor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can long-term considerations be brought into short-term concerns and actio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y? Adaptive capacity will be limited if long-term changes are not conside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? Long-term considerations should be addressed through short-term incentives of relevance and interest to stakeholders for their eng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horizons evaluation t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tivities (sequenced): Commission research into time horizons building on state of the art (risk management, psychology, behavioural economic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fic scale / who is targeted: CCAFS site + sub-national/hub level (coffee under pressure) + national (scenario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(optional): Makueni, Nyan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needed to do it: 6 person/months research, 1-3 person/months testing + tra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ding ballpark: 100K U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entives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tivities (sequenced): Commission research building into incentives based on state of the art (psych, eco, risk + development social sci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fic scale / who is targeted: Retro-apply to scenarios, coffee under pressure, on-going risk manage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(optional): CCAFS target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needed to do it: 3 person/months research, 1-3 person/months testing +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ding ballpark: 70K U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ng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ities (sequenced): Applying the tool to evaluate imp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pecific scale / who is targeted: Previously involv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ere (optional): CCAFS target reg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ime needed to do it: 6 person/months research person/months testing + resear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unding ballpark: 60K US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eleborgne</cp:lastModifiedBy>
  <dcterms:modified xsi:type="dcterms:W3CDTF">2012-05-10T12:02:47Z</dcterms:modified>
  <cp:revision>45</cp:revision>
  <dc:subject/>
  <dc:title>Action planning work Tuesday</dc:title>
</cp:coreProperties>
</file>