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434-B217-4C50-BBE8-551AF178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8AB1-FB6F-4BB8-8E41-EC344227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7EA-9414-4B9F-AA59-BF836DC0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812-FE28-4A38-A58C-F4B2B026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6D8-742F-4CF0-8BBF-010C5312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C20-A68D-4D63-BF78-70E1821C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7470-CF2C-4377-9E22-74455070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8FFD-CD64-4F42-A528-D19F947E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7464-D48D-42C8-AEF2-AFA1B9BA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45E-8971-4962-85D6-8669278F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B8B-376B-4941-8943-CAC12267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5E4F-4569-4721-B121-F819F6A5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4EEC-9E1A-43E4-8BA7-63AFF658AD3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5: Time 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y?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aptive capacity will be limited if long-term changes are not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How do long term changes relate to the time horizons of different ac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Long-term considerations should be addressed through short-term incentives of relevance and interest to stakeholders for their eng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ime horizons evaluation to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: Commission research into time horizons building on state of the art (risk management, psychology, behavioural economic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tivations frame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ission research building in short term motivations and goals. Applied at the project level with stakeholders learning from each oth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valuating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incentives and evaluate effectiveness in behaviour change over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icipated outc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s better linked to stakeholder needs as well as short/medium term development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 term responses linked to long term adaptation understanding and behaviour change to improve adaptive capac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eleborgne</cp:lastModifiedBy>
  <dcterms:modified xsi:type="dcterms:W3CDTF">2012-05-10T12:02:58Z</dcterms:modified>
  <cp:revision>51</cp:revision>
  <dc:subject/>
  <dc:title>Action planning work Tuesday</dc:title>
</cp:coreProperties>
</file>