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705-542F-4F2D-929D-01FBAAD7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FBE-8C6A-409D-8C8C-4F86CCA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2D2-4B5A-47CD-9918-25AE4287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CD9-FEE6-440F-9D10-3BEC096C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BA3-D991-4D6E-BCC4-E8EC7198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5EC-4F2B-4BD9-8917-4F4C22A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E41-E946-4783-A9F6-A01A7593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542-E170-46B9-BF3D-D556C1A1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B9D-705D-4054-9C5F-DFF342B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2FB-B474-4857-A74E-3B124C1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17F-210D-4067-8397-332CB5E8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17C-33B8-4F38-8C4F-E605504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EFAB-EE49-4E73-934F-6B98F7EE75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5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y?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aptive capacity will be limited if long-term changes are not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ow do long term changes relate to the time horizons of different ac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Long-term considerations should be addressed through short-term incentives of relevance and interest to stakeholders for their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: Commission research into time horizons building on state of the art (risk management, psychology, behavioural econom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tivations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ission research building in short term motivations and goals. Applied at the project level with stakeholders learning from each o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incentives and evaluate effectiveness in behaviour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cipated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s better linked to stakeholder needs as well as short/medium term development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term responses linked to long term adaptation understanding and behaviour change to improve adaptive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58Z</dcterms:modified>
  <cp:revision>51</cp:revision>
  <dc:subject/>
  <dc:title>Action planning work Tuesday</dc:title>
</cp:coreProperties>
</file>