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A80-9609-45CE-BE08-1540A7DB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B64-576F-4E61-A6DA-CCC0FA9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96F-3EC8-43A9-B834-89DBC64C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B6A-3C8A-442C-BD7B-DCB4160F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EF5-1A8B-4682-A79C-C7F43163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BD6-3142-4494-8C92-1A5C541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B0F-93A5-41B7-B48C-71771BB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1C1-E848-400E-A279-0D9D7B2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E28-7925-4C59-B76D-4994834D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77E-9877-40BE-8FA5-235552E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84F-C0F3-4887-854E-75A3A790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3EC-4DA7-4699-B08E-7CFB170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F8B-B040-49FC-A79F-3C8FAA82E8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4: Time 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imate change  = long-term problem that needs adaptation by stakeholders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these relate to the time horizons of different actor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can long-term considerations be brought into short-term concerns and acti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ory of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 Adaptive capacity will be limited if long-term changes are not conside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? Long-term considerations should be addressed through short-term incentives of relevance and interest to stakeholders for their eng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 of a tool to enrich existing projects through social learning processes and make them more effective by connecting short-term relevance to longer term understanding of climate change and ability to adap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horizons evaluation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into time horizons building on state of the art (risk management, psychology, behavioural economi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CCAFS site + sub-national/hub level (coffee under pressure) + national (scenari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Makueni, Nya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6 person/months research, 1-3 person/months testing + tra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10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entives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vities (sequenced): Commission research building into incentives based on state of the art (psych, eco, risk + development social sci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fic scale / who is targeted: Retro-apply to scenarios, coffee under pressure, on-going risk manage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needed to do it: 3 person/months research, 1-3 person/months testing +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unding ballpark: 70K U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ities (sequenced): Applying the tool to evaluate imp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cific scale / who is targeted: Previously involv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ere (optional): CCAFS target reg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plays what role: Topic experts, project organizers, stakehol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ime needed to do it: 6 person/months research person/months testing + resea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nding ballpark: 60K US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cial differentiation: Target different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5:54:51Z</dcterms:created>
  <dc:creator>eleborgne</dc:creator>
  <dc:description/>
  <dc:language>en-US</dc:language>
  <cp:lastModifiedBy>eleborgne</cp:lastModifiedBy>
  <dcterms:modified xsi:type="dcterms:W3CDTF">2012-05-10T12:02:47Z</dcterms:modified>
  <cp:revision>45</cp:revision>
  <dc:subject/>
  <dc:title>Action planning work Tuesday</dc:title>
</cp:coreProperties>
</file>