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B0B-5482-4A16-BB58-FDE29E73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295-7FE7-4A84-9EF2-2A4613D4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3DD-FC4C-4D1B-9961-6DA04292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19A-391E-461D-AA77-075F0369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0F9-2B36-4CDD-9A90-0EB67EEB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71E-2BF6-4ADD-AF6B-86C63EE1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3B9-2312-40DF-A14F-893709D4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856-30B3-4DA6-946B-CD95647A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6D6-A822-435F-9592-B7529AF6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03C-4795-48E7-B709-2A48B038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830-E09F-42D0-8D7F-26FE1178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342-1E3B-4356-AA46-164815A9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DAD4-1F08-4747-8D82-70B8496C48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4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imate change  = long-term problem that needs adaptation by stakeholders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 these relate to the time horizons of different actor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can long-term considerations be brought into short-term concerns and actio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y? Adaptive capacity will be limited if long-term changes are not consid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? Long-term considerations should be addressed through short-term incentives of relevance and interest to stakeholders for their eng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into time horizons building on state of the art (risk management, psychology, behavioural economi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CCAFS site + sub-national/hub level (coffee under pressure) + national (scenario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Makueni, Nyan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6 person/months research, 1-3 person/months testing + tra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10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entives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building into incentives based on state of the art (psych, eco, risk + development social sci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Retro-apply to scenarios, coffee under pressure, on-going risk manage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3 person/months research, 1-3 person/months testing +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7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ities (sequenced): Applying the tool to evaluate imp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pecific scale / who is targeted: Previously involv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ime needed to do it: 6 person/months research person/months testing +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unding ballpark: 60K US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47Z</dcterms:modified>
  <cp:revision>45</cp:revision>
  <dc:subject/>
  <dc:title>Action planning work Tuesday</dc:title>
</cp:coreProperties>
</file>