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5FD-46CE-439A-AD9A-A41B1803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8F2-1CF4-45F4-8D7C-BE5B0233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9757-5D4C-451E-907A-4B87933E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75F-A4CB-44A5-AE36-98701758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5783-2C4D-481B-B472-1E814C6A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5BF-F572-4353-8837-1541932E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DAF-9EE6-4B00-8322-A986CB74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A73-1A85-4CAE-97AA-23C4B1AC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A08-944F-47E5-9E76-5AC69A04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DA4-C31F-4001-88BC-C03B6E31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F3A-2DA8-4886-9BE1-E5A0B055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6C97-2A34-4226-A3A2-542EF155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CD3E-C64D-4BDA-9F19-274244297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1 – Catalyzing Change from Within (2012 – 201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ead: CCAFS Theme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rget Audience: CCAFS &amp; current project partn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rnal review of CCAFS/CG to look for opportunities to further social differentiation and developing strategy for augmenting this work through developing a social learning proces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se baseline work to analyze social differentiation, findings from PAR 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inking social learning process to its annual Science Mee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eate working group with CCAFS and experts on social learning and differenti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(Social LS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2 – Facilitation (2012 – 202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Lead: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 a dynamic network cutting across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dentify ways to coordinate &amp; facilitate the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rganize a working group to lead Activity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ACTIVITY 3  - Global Action Research Agenda on Social LSD in CC,A, FS (2012-2013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udience: Climate change and food security community in CCAFS countr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a) Phase 1 – Developing a research agenda (loop 1): Facilitate social learning process to devise research agenda. Phase 1 will help to provide evidence, identify partnership, better understanding, principles, rigorous methodology, and communities of practice. This will also include linking practioners with researchers. This process will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Use crowd sourc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roduce literature review on existing 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onduct scoping process (activities at sub-national level) to help create a research frame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Generate a bucket of tools and approaches on to conduct research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velop a framework and principles on conducting social learning and differentiation, including action resear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Fund initial proposals through a call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b) Phase 2 (loop 2): Research to action 2014-202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Iterative process of learning as research underway – e.g. Online forum; Wiki; annual workshops; public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apacity development on methodology and approach within the CG system and beyo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monstrate the evid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Move towards impact with partn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Funding ballpark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1 &amp; 2: $5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3: $30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9:06:21Z</dcterms:created>
  <dc:creator>Ak</dc:creator>
  <dc:description/>
  <dc:language>en-US</dc:language>
  <cp:lastModifiedBy>eleborgne</cp:lastModifiedBy>
  <dcterms:modified xsi:type="dcterms:W3CDTF">2012-05-10T12:02:14Z</dcterms:modified>
  <cp:revision>3</cp:revision>
  <dc:subject/>
  <dc:title>Social differentiation</dc:title>
</cp:coreProperties>
</file>