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13F-CC3A-4E1D-8E90-4AC9DA65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BFF-2DC3-476F-8D07-E5F0D2F1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3AB-1596-4523-812E-3BAF6946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5DAE-913C-4E75-86F8-0B5E0B6C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722-E3A7-40F0-9504-E5C310A0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925-34C5-4C3A-A419-2866B763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208-42E4-4B95-9D2A-19ABFA8B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6C4-8E83-498E-BAD9-36954463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9B2-5BB1-433D-9C12-46B16826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9E7-70CE-4906-87EE-037046DF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EC5-DB0A-4408-B11B-BD6EDFC0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2D8-7697-4256-9017-6A915266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46C7-2F40-4069-AA14-FF22FE806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1 – Catalyzing Change from Within (2012 – 201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ead: CCAFS Theme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rget Audience: CCAFS &amp; current project partn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inking social learning process to its annual Science Mee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(Social LS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2 – Facilitation (2012 – 202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Lead: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a dynamic network cutting across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dentify ways to coordinate &amp; facilitate th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ganize a working group to lead Activity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Use crowd sourc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roduce literature review on existing 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b) Phase 2 (loop 2): Research to action 2014-202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monstrate the evid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Move towards impact with partn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Funding ballpark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1 &amp; 2: $5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3: $30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9:06:21Z</dcterms:created>
  <dc:creator>Ak</dc:creator>
  <dc:description/>
  <dc:language>en-US</dc:language>
  <cp:lastModifiedBy>eleborgne</cp:lastModifiedBy>
  <dcterms:modified xsi:type="dcterms:W3CDTF">2012-05-10T12:02:14Z</dcterms:modified>
  <cp:revision>3</cp:revision>
  <dc:subject/>
  <dc:title>Social differentiation</dc:title>
</cp:coreProperties>
</file>