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C7C-EE25-4F11-9609-0CC9DE1E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B23-189A-4A70-918A-DD7F8269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7A8-2375-4F47-AA80-2AF6CB56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4AF-A52C-4885-A769-59AC8EF3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164-BFF0-4565-81D6-B1530031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B5D-A809-4F12-B4B2-BD669DC4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02F-7CA6-4B10-BA59-03B72C5C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CE3-76FB-4D5D-8F32-956790C1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7EB-AC98-4ED3-8101-80E93AB6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851-DE5A-440C-8977-D52E1AF6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59F-AE07-45A5-A2E2-F1AE959D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190-180E-478B-9984-7FAD5E7D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A591-2464-4646-9C59-AC407301B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1 – Catalyzing Change from Within (2012 –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ead: CCAFS Theme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rget Audience: CCAFS &amp; current project partn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inking social learning process to its annual Science Me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Social LS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2 – Facilitation (2012 – 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Lead: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a dynamic network cutting across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dentify ways to coordinate &amp; facilitate th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ganize a working group to lead Activity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Use crowd sourc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roduce literature review on existing 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b) Phase 2 (loop 2): Research to action 2014-20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monstrate the evid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Move towards impact with partn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Funding ballpark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1 &amp; 2: $5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3: $30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06:21Z</dcterms:created>
  <dc:creator>Ak</dc:creator>
  <dc:description/>
  <dc:language>en-US</dc:language>
  <cp:lastModifiedBy>eleborgne</cp:lastModifiedBy>
  <dcterms:modified xsi:type="dcterms:W3CDTF">2012-05-10T12:02:14Z</dcterms:modified>
  <cp:revision>3</cp:revision>
  <dc:subject/>
  <dc:title>Social differentiation</dc:title>
</cp:coreProperties>
</file>