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8680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798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732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  <a:ea typeface="Arial"/>
              </a:rPr>
              <a:t>Change Goal 3: </a:t>
            </a:r>
            <a:r>
              <a:rPr b="0" i="1" lang="en-US" sz="4400" spc="-1" strike="noStrike">
                <a:solidFill>
                  <a:srgbClr val="262673"/>
                </a:solidFill>
                <a:latin typeface="Arial"/>
                <a:ea typeface="Arial"/>
              </a:rPr>
              <a:t>Social Learning is validated within CCAFS as a mainstream methodology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9440" y="2274840"/>
            <a:ext cx="11704320" cy="64375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lvl="1" marL="39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Indicators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lvl="1" marL="3999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gnificant percentage of CG funded proposals that include SL explicitly as a central part, by 2020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3999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Dynamic basket of artifacts with shared attribution/use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3999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A porous CGIAR and partners’ network with two-way learning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88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600" spc="-1" strike="noStrike">
                <a:solidFill>
                  <a:srgbClr val="262673"/>
                </a:solidFill>
                <a:latin typeface="Helvetica Light"/>
              </a:rPr>
              <a:t>Activities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50880" y="167616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405720" indent="-405720">
              <a:spcBef>
                <a:spcPts val="6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A dynamic Basket of Good Practices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Design, piloting &amp; launch of a basket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Innovation fund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Enabling environment…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marL="405720" indent="-405720">
              <a:spcBef>
                <a:spcPts val="6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atalysing Social Learning across CCAFS network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acilitating the emergence of a Community of practice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Advisory group &amp; </a:t>
            </a:r>
            <a:r>
              <a:rPr b="0" lang="en-GB" sz="3200" spc="-1" strike="noStrike">
                <a:solidFill>
                  <a:srgbClr val="000000"/>
                </a:solidFill>
                <a:latin typeface="Helvetica Light"/>
              </a:rPr>
              <a:t>Coaching Pan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Helvetica Light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Helvetica Light"/>
              </a:rPr>
              <a:t>Awareness Raising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649080" indent="-40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405720" indent="-405720">
              <a:spcBef>
                <a:spcPts val="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oerch, Wiebke (ILRI)</dc:creator>
  <dc:description/>
  <dc:language>en-US</dc:language>
  <cp:lastModifiedBy>eleborgne</cp:lastModifiedBy>
  <dcterms:modified xsi:type="dcterms:W3CDTF">2012-05-10T10:00:24Z</dcterms:modified>
  <cp:revision>12</cp:revision>
  <dc:subject/>
  <dc:title>Action planning work Wednesday</dc:title>
</cp:coreProperties>
</file>