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232-CF1F-495C-BA4B-5E25FB7A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008-9EE2-4861-A20B-254448B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8A2-AE00-4E92-BD11-FFD95E31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166-B9E2-42BB-A501-3B8D490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D1B-2F55-4B0A-B889-5B6B7AC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26E-551B-4E91-8073-37EA4E3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812-EA9C-4EF6-84E3-A3DDFE4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11A-1C56-45D9-8E75-838BC35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955-33DD-4CE4-A998-673EE3F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FF9-1087-4B7A-AA66-0A0247C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0E0-FF8A-4A9D-8C40-E7E06B6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162-7F9E-49E9-836B-7518EDE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EBF4-8551-403C-B1B0-E8E67FA95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1 – Catalyzing Change from Within (2012 –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ead: CCAFS Theme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rget Audience: CCAFS &amp; current project partn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nal review of CCAFS/CG to look for opportunities to further social differentiation and developing strategy for augmenting this work through developing a social learning proces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baseline work to analyze social differentiation, findings from PAR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inking social learning process to its annual Science Me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eate working group with CCAFS and experts on social learning and differenti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(Social LS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TIVITY 2 – Facilitation (2012 – 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Lead: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evelop a dynamic network cutting across Social LS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dentify ways to coordinate &amp; facilitate th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ganize a working group to lead Activity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ifferent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CTIVITY 3  - Global Action Research Agenda on Social LSD in CC,A, FS (2012-20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udience: Climate change and food security community in CCAFS coun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a) Phase 1 – Developing a research agenda (loop 1): Facilitate social learning process to devise research agenda. Phase 1 will help to provide evidence, identify partnership, better understanding, principles, rigorous methodology, and communities of practice. This will also include linking practioners with researchers. This process will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Use crowd sourc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roduce literature review on existing 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onduct scoping process (activities at sub-national level) to help create a research framewor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Generate a bucket of tools and approaches on to conduct research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velop a framework and principles on conducting social learning and differentiation, including action resear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Fund initial proposals through a call on social learning and differenti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b) Phase 2 (loop 2): Research to action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Iterative process of learning as research underway – e.g. Online forum; Wiki; annual workshops; publ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apacity development on methodology and approach within the CG system and beyo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emonstrate the evid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Move towards impact with partn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Funding ballpark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1 &amp; 2: $5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tivity 3: $300,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06:21Z</dcterms:created>
  <dc:creator>Ak</dc:creator>
  <dc:description/>
  <dc:language>en-US</dc:language>
  <cp:lastModifiedBy>eleborgne</cp:lastModifiedBy>
  <dcterms:modified xsi:type="dcterms:W3CDTF">2012-05-10T12:02:14Z</dcterms:modified>
  <cp:revision>3</cp:revision>
  <dc:subject/>
  <dc:title>Social differentiation</dc:title>
</cp:coreProperties>
</file>