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4D85-C345-4BE9-BFD3-71F549A1A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3498-C2F3-41BA-92EA-E28CB7FF6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188D-1951-4039-B32A-AF129077D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0594D-0BA3-4188-A22A-F1C14599F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C9EA-C32E-4AFB-8A10-40F75004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520F9-2572-418E-A9C3-121AABEF2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305BF-54CF-43B0-B1D2-44EEFEEC5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2DB74-EDBE-4AEA-BE95-5833C1EDF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E86A3-8B77-473B-BEB8-0C2657FAF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AFC10-CAAA-40E0-B4DE-47B818491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EF02A-0C65-4F5C-86EA-16A9E0731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196CB-1A4C-49FD-A90F-5702CF32A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C5414-6F67-450B-8430-AD1A0C4AA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73D26-606E-4ECD-A6E2-A12844CA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17990-11F3-4B21-B8E3-C629771E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869A7-9F8E-499C-B7E9-B08DD9DDC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BAAAC-5C3B-4E3F-9562-3E3302698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AB445-4A15-401D-92C3-AAB0E8EF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0EEE1-BA05-4E7D-BB33-ABC66EFEF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65C71-CCC1-4FC4-BFD0-3162EBDE5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20BC4-F73B-42B8-9940-81CA361F0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78764-7908-4E1E-B42C-3CDA5B52D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507DC-D0DD-44CC-977D-E80856870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30C18-EC86-471B-88BC-3987A34B2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454EE-E4BC-4E3D-B586-6DCD54B0D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E34E-D9F7-46E9-906C-D8514AB2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FC868-8846-4C9F-9CE6-1F46226B9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2F9E5-5B81-4182-A651-53491002B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E81EC-AB0F-48B3-B9EA-0DDC2D85F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46077-565D-4D0F-9ED7-E154DC44A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3C0B0-F4F6-401D-B104-CA348A2F7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AB8236-80D1-427A-925B-4542BAEA0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0AEF6-6BC6-46AE-824F-843587DDB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970E4B-9392-4620-A45C-0DF84D4AEC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36E52-E79C-422D-A742-5CB0F24C6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07638-66BC-4D5E-9E6D-652F36D41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0222F-B16D-4DAE-B1AC-23372FF07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2926E-00B4-454B-9F8E-06A62B7BF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F99672-8FEA-4C29-A946-F6684A4D2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DCFFD-E2D7-493F-9976-06AFA5E3F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B12C5-4D5B-4886-B4EF-D815315D7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FA61E-C59C-40BE-B085-79E9AC0F1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AAFA5-0973-4574-95D0-D10860118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7832C-85EF-4C41-BE91-759ADFE41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D4E3E7-6303-4A57-9E3C-3706C8DAA6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F4C5BE-747F-473E-8A1F-C026120B10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369D-C87B-4CFF-8639-01303851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81607-7FA2-492F-B1ED-888909B2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29D6-F31A-4027-ACE1-F75F4164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1B09-9606-415B-A73B-05952DEB7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26AF-73B4-4033-B624-336DD78D6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4BC1-19A1-4B22-B646-45816AD0F021}"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FA9F-893D-4F84-8BA2-F85CDF7D4C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B26F-48D4-4B3F-B221-A602F2E2FBF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F677-AF8C-4BDE-864A-76F0068D57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2846-18D0-444E-93C4-1F734BA62A6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D8D9-F1F0-446D-9C28-4A3F27D6DE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A25B-5B29-4DD9-8EDF-95EA4F45100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B0C8-DCE8-4738-A622-8A8248934B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ebapp.ciat.cgiar.org/agroempresas/pdf/learning_alliances.pdf"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E6AE-C511-48EA-A99D-C1616D3B74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ropositions Resulting from the Social Learning Stocktaking Exercise</a:t>
            </a:r>
            <a:endParaRPr b="0" lang="en-US" sz="4000" spc="-1" strike="noStrike">
              <a:solidFill>
                <a:srgbClr val="000000"/>
              </a:solidFill>
              <a:latin typeface="Arial"/>
            </a:endParaRPr>
          </a:p>
        </p:txBody>
      </p:sp>
      <p:sp>
        <p:nvSpPr>
          <p:cNvPr id="184" name="TextBox 4"/>
          <p:cNvSpPr/>
          <p:nvPr/>
        </p:nvSpPr>
        <p:spPr>
          <a:xfrm>
            <a:off x="4572000" y="923760"/>
            <a:ext cx="35812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ised</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25 February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42D0-52D2-410E-8690-3498BC55D7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2" name=""/>
          <p:cNvSpPr txBox="1"/>
          <p:nvPr/>
        </p:nvSpPr>
        <p:spPr>
          <a:xfrm>
            <a:off x="685440" y="1676520"/>
            <a:ext cx="7924680" cy="27432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pportunities have grown  for the inclusion of  social learning in AR4D. Researchers might be engaged in social learning for different reasons. Hence the diversity of approaches. We need to grant that this accounts for a range of approaches.</a:t>
            </a:r>
            <a:endParaRPr b="0" lang="en-US" sz="32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F111-685F-4310-AA22-68B3134EA3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ough there are new opportunities for demonstrating the value of social learning approaches, there is a risk that if this is not done in an organized, coordinated, reflective and consultative manner, these approaches will not have a lasting impact. </a:t>
            </a:r>
            <a:endParaRPr b="0" lang="en-US" sz="32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7B9D-2B77-4588-BF8B-92379B30B8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
          <p:cNvSpPr txBox="1"/>
          <p:nvPr/>
        </p:nvSpPr>
        <p:spPr>
          <a:xfrm>
            <a:off x="685440" y="1752480"/>
            <a:ext cx="7924680" cy="38102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a:t>
            </a:r>
            <a:endParaRPr b="0" lang="en-US" sz="3000" spc="-1" strike="noStrike">
              <a:solidFill>
                <a:srgbClr val="b23b7e"/>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DF03-3D75-4537-93BD-C8CCCD81B3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therefore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72C8-3A61-4AC7-BFFF-041B0A8E67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2FCD-4F10-4500-B4FB-E0B11684B8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2" name="Group 2"/>
          <p:cNvGrpSpPr/>
          <p:nvPr/>
        </p:nvGrpSpPr>
        <p:grpSpPr>
          <a:xfrm>
            <a:off x="747360" y="990720"/>
            <a:ext cx="7719840" cy="5498640"/>
            <a:chOff x="747360" y="990720"/>
            <a:chExt cx="7719840" cy="5498640"/>
          </a:xfrm>
        </p:grpSpPr>
        <p:sp>
          <p:nvSpPr>
            <p:cNvPr id="21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1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1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1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1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1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1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22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22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22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22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22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22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22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22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22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22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23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23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23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23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23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23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23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5F8B-3B55-43A7-B56A-6014AE9607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
          <p:cNvSpPr txBox="1"/>
          <p:nvPr/>
        </p:nvSpPr>
        <p:spPr>
          <a:xfrm>
            <a:off x="685440" y="12189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a AR4D framework, a research related interventions are needed in at least three level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 or in evaluating technologies, to more complex participatory breeding program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management, co-management, etc.</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9AE4-C494-4E15-873F-F3D7EDC539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0"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Calibri"/>
              </a:rPr>
              <a:t>Model Building</a:t>
            </a:r>
            <a:r>
              <a:rPr b="0" lang="en-US" sz="3000" spc="-1" strike="noStrike">
                <a:solidFill>
                  <a:srgbClr val="000000"/>
                </a:solidFill>
                <a:latin typeface="Calibri"/>
                <a:ea typeface="Calibri"/>
              </a:rPr>
              <a:t> for effective community engagement –  of relevance to any adaptation work and any subsequent upscaling efforts -- are best developed through effective researcher engagement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The value of FFS, CIALs and ACM/Co-Management as relevant approaches for researchers to engage local communities has already been proven.</a:t>
            </a:r>
            <a:endParaRPr b="0" lang="en-US" sz="30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639A-4652-491B-94F9-6221147F1E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69B2-5291-41B0-A00F-D5D97CA7A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
          <p:cNvSpPr txBox="1"/>
          <p:nvPr/>
        </p:nvSpPr>
        <p:spPr>
          <a:xfrm>
            <a:off x="685440" y="1828440"/>
            <a:ext cx="7924680" cy="38098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a:t>
            </a:r>
            <a:r>
              <a:rPr b="0" i="1" lang="en-US" sz="3200" spc="-1" strike="noStrike">
                <a:solidFill>
                  <a:srgbClr val="000000"/>
                </a:solidFill>
                <a:latin typeface="Calibri"/>
                <a:ea typeface="Calibri"/>
              </a:rPr>
              <a:t>out-scaling</a:t>
            </a:r>
            <a:r>
              <a:rPr b="0" lang="en-US" sz="3200" spc="-1" strike="noStrike">
                <a:solidFill>
                  <a:srgbClr val="000000"/>
                </a:solidFill>
                <a:latin typeface="Calibri"/>
                <a:ea typeface="Calibri"/>
              </a:rPr>
              <a:t> at the higher levels have also been demonstrated through such approaches as Learning Alliances, Innovation Platforms and other  related multistakeholder platforms.</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u="sng">
                <a:solidFill>
                  <a:srgbClr val="410082"/>
                </a:solidFill>
                <a:uFillTx/>
                <a:latin typeface="Calibri"/>
                <a:ea typeface="Calibri"/>
                <a:hlinkClick r:id="rId1"/>
              </a:rPr>
              <a:t>http://webapp.ciat.cgiar.org/agroempresas/pdf/learning_alliances.pdf</a:t>
            </a:r>
            <a:r>
              <a:rPr b="0" lang="en-US" sz="3200" spc="-1" strike="noStrike" u="sng">
                <a:solidFill>
                  <a:srgbClr val="b23b7e"/>
                </a:solidFill>
                <a:uFillTx/>
                <a:latin typeface="Calibri"/>
              </a:rPr>
              <a:t>)</a:t>
            </a:r>
            <a:r>
              <a:rPr b="0" lang="en-US" sz="3200" spc="-1" strike="noStrike">
                <a:solidFill>
                  <a:srgbClr val="b23b7e"/>
                </a:solidFill>
                <a:latin typeface="Calibri"/>
              </a:rPr>
              <a:t>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2C3C-734F-4EBD-BE3C-B6A0C779D3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6"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 conclusion , key reminders are offered.</a:t>
            </a:r>
            <a:endParaRPr b="0" lang="en-US" sz="36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CRPs with increased funding  is creating an environment favoring change</a:t>
            </a:r>
            <a:endParaRPr b="0" lang="en-US" sz="36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7C67-F6FF-4BA7-B9EF-8EAAFCD997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E80A-7B89-4E00-8292-A3D7E1B841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8"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xposure and substantive interaction and learning  with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0FA9-0200-4760-99CC-B8FB8877BE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
          <p:cNvSpPr txBox="1"/>
          <p:nvPr/>
        </p:nvSpPr>
        <p:spPr>
          <a:xfrm>
            <a:off x="685800" y="1447920"/>
            <a:ext cx="8229600" cy="4952880"/>
          </a:xfrm>
          <a:prstGeom prst="rect">
            <a:avLst/>
          </a:prstGeom>
          <a:noFill/>
          <a:ln w="0">
            <a:noFill/>
          </a:ln>
        </p:spPr>
        <p:txBody>
          <a:bodyPr anchor="t">
            <a:norm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knowledge and time intensive – involving cycles of learning and reflection – and cannot be rushed. </a:t>
            </a:r>
            <a:endParaRPr b="0" lang="en-US" sz="3000" spc="-1" strike="noStrike">
              <a:solidFill>
                <a:srgbClr val="b23b7e"/>
              </a:solidFill>
              <a:latin typeface="Calibri"/>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likely to generate “real” results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only if adequate investment of time and effort is made at the  community level engagement is undertaken. </a:t>
            </a:r>
            <a:endParaRPr b="0" lang="en-US" sz="3000" spc="-1" strike="noStrike">
              <a:solidFill>
                <a:srgbClr val="b23b7e"/>
              </a:solidFill>
              <a:latin typeface="Calibri"/>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imilarly upscaling and outscaling is contingent on  sound evidence generated locally</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13C0-57AF-4065-9E72-AB8DEEF0C0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6"/>
          <p:cNvSpPr/>
          <p:nvPr/>
        </p:nvSpPr>
        <p:spPr>
          <a:xfrm>
            <a:off x="609480" y="1371600"/>
            <a:ext cx="8153640" cy="39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Optimism for the future:</a:t>
            </a:r>
            <a:endParaRPr b="0" lang="en-US" sz="3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 </a:t>
            </a:r>
            <a:r>
              <a:rPr b="0" lang="en-PH" sz="32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3200" spc="-1" strike="noStrike">
              <a:solidFill>
                <a:srgbClr val="000000"/>
              </a:solidFill>
              <a:latin typeface="Arial"/>
            </a:endParaRPr>
          </a:p>
        </p:txBody>
      </p:sp>
      <p:sp>
        <p:nvSpPr>
          <p:cNvPr id="253" name="TextBox 5"/>
          <p:cNvSpPr/>
          <p:nvPr/>
        </p:nvSpPr>
        <p:spPr>
          <a:xfrm>
            <a:off x="40384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A0C4-8063-474F-8CB8-79A292AF64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8" name=""/>
          <p:cNvSpPr txBox="1"/>
          <p:nvPr/>
        </p:nvSpPr>
        <p:spPr>
          <a:xfrm>
            <a:off x="837720" y="1447560"/>
            <a:ext cx="75438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climate change implies that it simply cannot be business as usual.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ea typeface="Calibri"/>
              </a:rPr>
              <a:t>There is a consequently a new awareness of the diversity and complexity of the challenges. Complex problems need a knowledge intensive approach.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7E64-1F2B-485B-8ABA-642EF9B688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0"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diversity of stakeholders (with different perspectives and sometimes competing interests) need to be engaged in order to deliver results in any AR4D approach.</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CB2C-2655-4DFC-BA2B-95AB61642A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2"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the same time, there is an acute realization of the limited uptake of past research products and processes – resulting in a growing awareness of  value  for innovation platforms, alliances and partnerships.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DD57-4497-4E86-8951-9165D9DC64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what related is the wider acceptance of the value, importance and legitimacy of doing </a:t>
            </a:r>
            <a:r>
              <a:rPr b="0"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5C99-EBD8-42AB-A3DA-5B7B753045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now increasingly focus on  challenges characterized by multiple stakeholders with often divergent perspectives and competing goal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9DCB-581E-4F8E-9499-45B3E47045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
          <p:cNvSpPr txBox="1"/>
          <p:nvPr/>
        </p:nvSpPr>
        <p:spPr>
          <a:xfrm>
            <a:off x="685440" y="1828800"/>
            <a:ext cx="792468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work modalities and methodological innovations are needed in order to respond to these increasing complexities of partnership-based and trans-disciplinary research.</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9BAE-C55F-4029-BCBF-41EBFBD05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
          <p:cNvSpPr txBox="1"/>
          <p:nvPr/>
        </p:nvSpPr>
        <p:spPr>
          <a:xfrm>
            <a:off x="685440" y="1294920"/>
            <a:ext cx="79246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attention devoted to strategic and purposive integration of the national research and rural advisory sectors.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4D cannot succeed without a genuine and empowering engagement of these national research sectors.</a:t>
            </a:r>
            <a:endParaRPr b="0" lang="en-US" sz="32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6T01:49:41Z</dcterms:modified>
  <cp:revision>24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