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E49C-59B7-41D9-80EC-33939391B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BFAA-4106-4307-A2C9-45DA074BE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DC296-26D3-4566-B30B-7F6DBC18E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9E2DB-F2DB-493C-B891-773F12F40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B39A2-7C58-4E5D-92C8-AD080D43E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CC697-730E-4D55-99DE-9AB7917BE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8E0BE-88DF-4807-8172-C3EF25C51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6C347-F207-49B7-B9D3-0A7E86210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DFFC9-B9D4-4104-96E6-20FAC2392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B9DD3-58F4-4AC0-9024-61D26174D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49415-2A63-4650-A594-2B3B88D40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0A519-3644-4663-BC7F-D3AD35B7A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DF752-1A19-41B8-9AC9-62ACF5FEB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20550-A327-45A6-BCEC-0E34EE538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2C073-F217-4CA4-A14D-32B402D27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48C41-5263-494B-8288-574C15520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44911-F055-4BC6-AED1-6B5A14E6C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6B797-DD38-4501-9B05-DC679D74C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9C98D-D07E-4750-B1B6-3BA92C8D0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F7ED23-B052-460F-ABC0-B1F979D2DC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B165A1-B77F-4F58-A366-42AEC2E62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92942F-4121-40F1-B640-4CFEA747A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890B3-B16D-49DE-810F-FFF417A67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4F3CD-3607-4AD6-A2C2-3894026C4B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4257F-3339-45CB-B073-12F13113A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EACDE8-B1B9-40DC-AB2F-AA56CB5CE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99CE8-8783-4246-AED4-A50499345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B75B6-C878-47D5-A2F6-D0BF4B63D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6C31E-BBA2-45C7-A810-1596CD7D9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7C56F-87C5-4D49-BF4F-C82F1106A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524F44-B09D-4080-98A9-01E925BCD4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FC469E-B527-4F6B-A740-5ECBB14999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503FB5-AEE8-44BC-B961-9096DD553C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6F6DE-33A6-46F4-819B-4E4DC4CEB3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14B898-080C-483D-BC78-E6E06EE2B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CBFC8-AC02-4853-9FF6-7FCF9FCB8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D82BD-70D5-45C5-92A2-2A2091F4AB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AAA03-57E3-4B5D-ACE5-A6F885FF43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0EED38-F55C-412B-9F34-10EF7DBD3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62F4A-59B3-447B-B7CA-83FF16535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887A0-2677-449F-B28A-7DE8917CA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42C01-46AF-47A7-9870-695115DFD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503B9-77E3-450B-88F6-767A7D665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515DE7-27B0-4C12-B4E8-19ABF7492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5F5A42-2970-4649-982D-A2716D62E9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7862A-84B8-4E12-8003-20CA93098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CC665-0AF2-403B-A22E-5912CA9BB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4BD52-53D8-4165-A29D-00E5D116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16899-F841-4F82-958D-F267828B7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02933-56D1-4357-ADE4-472580A80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4E52-FB2C-4947-A88D-4773AC1CB53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F27F-C76D-4FBD-A1A1-7FE8258044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F872-EA8A-4394-8641-63BD75533BD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7CEF-2B28-4B0F-87C3-C6445998AC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7733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ef0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F4A5-ADAC-47D9-955E-AA1ECFCD559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CF8F-27C3-4A29-8AC6-AD9B6845AA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7733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0147-3BF4-4D61-9AED-4C77275F6E7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7355-1B7A-4A93-8B8C-9523055169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343400" y="4648320"/>
            <a:ext cx="4038480" cy="457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B21A-EF34-4315-BFC8-FBF638DD44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1295280" y="1676520"/>
            <a:ext cx="693432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Social learning in the CGIAR: </a:t>
            </a:r>
            <a:endParaRPr b="0" lang="en-US" sz="4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a stocktaking exercise</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7560" y="1828440"/>
            <a:ext cx="720396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 we have a more conducive environment in the CGIAR for Social Learning Approaches? (What the survey respondents say)</a:t>
            </a:r>
            <a:endParaRPr b="0" lang="en-US" sz="36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583E-9AC9-49DA-8463-EF5D4B9B7B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82480" y="1066680"/>
            <a:ext cx="72039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re conducive climate for SL</a:t>
            </a:r>
            <a:endParaRPr b="0" lang="en-US" sz="3200" spc="-1" strike="noStrike">
              <a:solidFill>
                <a:srgbClr val="b24d1d"/>
              </a:solidFill>
              <a:latin typeface="Calibri"/>
            </a:endParaRPr>
          </a:p>
        </p:txBody>
      </p:sp>
      <p:sp>
        <p:nvSpPr>
          <p:cNvPr id="213" name=""/>
          <p:cNvSpPr txBox="1"/>
          <p:nvPr/>
        </p:nvSpPr>
        <p:spPr>
          <a:xfrm>
            <a:off x="969840" y="190476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der recognition of the </a:t>
            </a:r>
            <a:r>
              <a:rPr b="1" lang="en-US" sz="3200" spc="-1" strike="noStrike" u="sng">
                <a:solidFill>
                  <a:srgbClr val="000000"/>
                </a:solidFill>
                <a:uFillTx/>
                <a:latin typeface="Calibri"/>
                <a:ea typeface="Calibri"/>
              </a:rPr>
              <a:t>relevance</a:t>
            </a:r>
            <a:r>
              <a:rPr b="0" lang="en-US" sz="3200" spc="-1" strike="noStrike">
                <a:solidFill>
                  <a:srgbClr val="000000"/>
                </a:solidFill>
                <a:latin typeface="Calibri"/>
                <a:ea typeface="Calibri"/>
              </a:rPr>
              <a:t> of social learning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knowledgement of the need for engaging a wider range of stakeholders</a:t>
            </a:r>
            <a:endParaRPr b="0" lang="en-US" sz="3200" spc="-1" strike="noStrike">
              <a:solidFill>
                <a:srgbClr val="b23b7e"/>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332B-01E8-4AAA-8A92-A69E077CA1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A1B4-7422-4214-A013-928B27AF3B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3A0D-6746-46A8-994E-7065D6C8C8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0"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evailing R &amp; D gaps</a:t>
            </a:r>
            <a:endParaRPr b="0" lang="en-US" sz="3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7D05-A6B3-40C5-954B-D750A640F7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3"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C921-8EC6-45F4-8721-9D78A48ED2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6"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8"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69E2-F8FA-4A22-B862-A15CBF8156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31"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ope to reach the billion left behind by the green revolution through “new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pressures to bridge the R&amp;D gaps remain?</a:t>
            </a:r>
            <a:endParaRPr b="0" lang="en-US" sz="32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7CDF-AA67-435C-A922-2C69BAC156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llenges remain</a:t>
            </a:r>
            <a:endParaRPr b="0" lang="en-US" sz="3200" spc="-1" strike="noStrike">
              <a:solidFill>
                <a:srgbClr val="b24d1d"/>
              </a:solidFill>
              <a:latin typeface="Calibri"/>
            </a:endParaRPr>
          </a:p>
        </p:txBody>
      </p:sp>
      <p:sp>
        <p:nvSpPr>
          <p:cNvPr id="234"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E8DE-0B6C-45AD-9AE6-EF89123AF0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a:t>
            </a:r>
            <a:r>
              <a:rPr b="0" i="1" lang="en-US" sz="3000" spc="-1" strike="noStrike">
                <a:solidFill>
                  <a:srgbClr val="000000"/>
                </a:solidFill>
                <a:latin typeface="Calibri"/>
                <a:ea typeface="Calibri"/>
              </a:rPr>
              <a:t>not </a:t>
            </a:r>
            <a:r>
              <a:rPr b="0" lang="en-US" sz="3000" spc="-1" strike="noStrike">
                <a:solidFill>
                  <a:srgbClr val="000000"/>
                </a:solidFill>
                <a:latin typeface="Calibri"/>
                <a:ea typeface="Calibri"/>
              </a:rPr>
              <a:t>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F5C5-F923-447E-909C-FB7CD781A5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5"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F0AC-F713-4365-B105-564FD8814A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4095-2C08-443D-AE28-D46430F6E9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72BC-F63B-4F14-AB2A-BEE89E3F7A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46A5-5375-472C-BB57-01ABD65413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Social Learning to Deliver on CCAF’s Theme 4 Objectives</a:t>
            </a:r>
            <a:endParaRPr b="0" lang="en-US" sz="4000" spc="-1" strike="noStrike">
              <a:solidFill>
                <a:srgbClr val="b24d1d"/>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0BE1-3CC3-4516-9F29-9DD01EC00C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4336-A80A-49C9-AE7E-5156A67126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066320"/>
            <a:ext cx="8153280" cy="838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Participatory forms of knowledge creation as social learning</a:t>
            </a:r>
            <a:endParaRPr b="0" lang="en-US" sz="2900" spc="-1" strike="noStrike">
              <a:solidFill>
                <a:srgbClr val="b24d1d"/>
              </a:solidFill>
              <a:latin typeface="Calibri"/>
            </a:endParaRPr>
          </a:p>
        </p:txBody>
      </p:sp>
      <p:sp>
        <p:nvSpPr>
          <p:cNvPr id="251" name=""/>
          <p:cNvSpPr txBox="1"/>
          <p:nvPr/>
        </p:nvSpPr>
        <p:spPr>
          <a:xfrm>
            <a:off x="609480" y="20570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ared or dialogical approaches to knowledge produ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couraging discussion amongst various voices within a community</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oops of action and refle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and skills learned acted upon by multiple participants </a:t>
            </a:r>
            <a:endParaRPr b="0" lang="en-US" sz="28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85E8-652E-4D10-9F72-BA436DC298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TextBox 4"/>
          <p:cNvSpPr/>
          <p:nvPr/>
        </p:nvSpPr>
        <p:spPr>
          <a:xfrm>
            <a:off x="3733920" y="538812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Times New Roman"/>
              </a:rPr>
              <a:t>(CCAF IDS/IIED Study)</a:t>
            </a:r>
            <a:endParaRPr b="0" lang="en-US" sz="2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0BAC-57CC-440A-B0B9-6A0415C0FC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3BD4-A40E-4E60-9F05-FD6E6B534D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09120" y="1523880"/>
            <a:ext cx="8001000" cy="4648320"/>
          </a:xfrm>
          <a:prstGeom prst="rect">
            <a:avLst/>
          </a:prstGeom>
          <a:noFill/>
          <a:ln w="0">
            <a:noFill/>
          </a:ln>
        </p:spPr>
        <p:txBody>
          <a:bodyPr anchor="t">
            <a:normAutofit fontScale="47000"/>
          </a:bodyPr>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Kruijssen et al. (2009) discuss the importance of social learning for collective action in the context of smallholder market participa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Dialogue and social learning foster </a:t>
            </a:r>
            <a:r>
              <a:rPr b="1" i="1" lang="en-US" sz="3000" spc="-1" strike="noStrike">
                <a:solidFill>
                  <a:srgbClr val="000000"/>
                </a:solidFill>
                <a:latin typeface="Calibri"/>
                <a:ea typeface="Calibri"/>
              </a:rPr>
              <a:t>collective cognition</a:t>
            </a:r>
            <a:r>
              <a:rPr b="0" lang="en-US" sz="3000" spc="-1" strike="noStrike">
                <a:solidFill>
                  <a:srgbClr val="000000"/>
                </a:solidFill>
                <a:latin typeface="Calibri"/>
                <a:ea typeface="Calibri"/>
              </a:rPr>
              <a:t> and </a:t>
            </a:r>
            <a:r>
              <a:rPr b="1" i="1" lang="en-US" sz="3000" spc="-1" strike="noStrike">
                <a:solidFill>
                  <a:srgbClr val="000000"/>
                </a:solidFill>
                <a:latin typeface="Calibri"/>
                <a:ea typeface="Calibri"/>
              </a:rPr>
              <a:t>social capital </a:t>
            </a:r>
            <a:r>
              <a:rPr b="0" lang="en-US" sz="3000" spc="-1" strike="noStrike">
                <a:solidFill>
                  <a:srgbClr val="000000"/>
                </a:solidFill>
                <a:latin typeface="Calibri"/>
                <a:ea typeface="Calibri"/>
              </a:rPr>
              <a:t>formation, both of which are necessary for effective joint ac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Social learning and social capital formation are also </a:t>
            </a:r>
            <a:r>
              <a:rPr b="1" i="1" lang="en-US" sz="3000" spc="-1" strike="noStrike">
                <a:solidFill>
                  <a:srgbClr val="000000"/>
                </a:solidFill>
                <a:latin typeface="Calibri"/>
                <a:ea typeface="Calibri"/>
              </a:rPr>
              <a:t>key features of innovation processes.</a:t>
            </a: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	</a:t>
            </a:r>
            <a:r>
              <a:rPr b="1" lang="en-US" sz="3000" spc="-1" strike="noStrike">
                <a:solidFill>
                  <a:srgbClr val="000000"/>
                </a:solidFill>
                <a:latin typeface="Calibri"/>
                <a:ea typeface="Calibri"/>
              </a:rPr>
              <a:t>	</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36CC-CBCF-4933-A93C-CFD4732DF1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0" name="Text Placeholder 2"/>
          <p:cNvSpPr/>
          <p:nvPr/>
        </p:nvSpPr>
        <p:spPr>
          <a:xfrm>
            <a:off x="838080" y="1295280"/>
            <a:ext cx="6858000" cy="11430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3a3"/>
                </a:solidFill>
                <a:latin typeface="Calibri"/>
                <a:ea typeface="Calibri"/>
              </a:rPr>
              <a:t> </a:t>
            </a:r>
            <a:endParaRPr b="0" lang="en-US" sz="24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B45E-7D54-47F7-A066-5A8F50F528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8" name=""/>
          <p:cNvSpPr txBox="1"/>
          <p:nvPr/>
        </p:nvSpPr>
        <p:spPr>
          <a:xfrm>
            <a:off x="969840" y="2209320"/>
            <a:ext cx="720432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25-day assignment</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tober/November 2012</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Commissioned by CCAF Theme 4</a:t>
            </a:r>
            <a:endParaRPr b="0" lang="en-US" sz="3200" spc="-1" strike="noStrike">
              <a:solidFill>
                <a:srgbClr val="b23b7e"/>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97D6-754B-4E39-BFB5-71D931A6B7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FE6C-6C99-483C-A03C-725F8C5307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B424-4F17-492D-919C-6D588B927A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69"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0"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22480" y="914040"/>
            <a:ext cx="7640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do the survey respondents tell us about the relevance of Social Learning for work in CCAFS climate change adaptation research</a:t>
            </a:r>
            <a:endParaRPr b="0" lang="en-US" sz="2000" spc="-1" strike="noStrike">
              <a:solidFill>
                <a:srgbClr val="b24d1d"/>
              </a:solidFill>
              <a:latin typeface="Calibri"/>
            </a:endParaRPr>
          </a:p>
        </p:txBody>
      </p:sp>
      <p:sp>
        <p:nvSpPr>
          <p:cNvPr id="272" name=""/>
          <p:cNvSpPr txBox="1"/>
          <p:nvPr/>
        </p:nvSpPr>
        <p:spPr>
          <a:xfrm>
            <a:off x="304560" y="3885840"/>
            <a:ext cx="7924680" cy="2057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ea typeface="Calibri"/>
              </a:rPr>
              <a:t>Climate change is one among many problems faced by the poor smallholder farming communities. Participatory research involves analyzing existing problems and looking for solutions together with a range of stakeholders. (1.7)</a:t>
            </a:r>
            <a:endParaRPr b="0" lang="en-US" sz="2000" spc="-1" strike="noStrike">
              <a:solidFill>
                <a:srgbClr val="b23b7e"/>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B02B-5C1F-4070-BB05-5ABCEC9BE0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6"/>
          <p:cNvSpPr/>
          <p:nvPr/>
        </p:nvSpPr>
        <p:spPr>
          <a:xfrm>
            <a:off x="609480" y="2057400"/>
            <a:ext cx="8001000" cy="205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1600" spc="-1" strike="noStrike">
                <a:solidFill>
                  <a:srgbClr val="000000"/>
                </a:solidFill>
                <a:latin typeface="Calibri"/>
                <a:ea typeface="Calibri"/>
              </a:rPr>
              <a:t>l</a:t>
            </a:r>
            <a:r>
              <a:rPr b="0" i="1" lang="en-PH" sz="1800" spc="-1" strike="noStrike">
                <a:solidFill>
                  <a:srgbClr val="000000"/>
                </a:solidFill>
                <a:latin typeface="Calibri"/>
                <a:ea typeface="Calibri"/>
              </a:rPr>
              <a:t>oca</a:t>
            </a:r>
            <a:r>
              <a:rPr b="0" i="1" lang="en-PH" sz="1600" spc="-1" strike="noStrike">
                <a:solidFill>
                  <a:srgbClr val="000000"/>
                </a:solidFill>
                <a:latin typeface="Calibri"/>
                <a:ea typeface="Calibri"/>
              </a:rPr>
              <a:t>l</a:t>
            </a:r>
            <a:r>
              <a:rPr b="0" lang="en-PH" sz="16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1600" spc="-1" strike="noStrike">
                <a:solidFill>
                  <a:srgbClr val="000000"/>
                </a:solidFill>
                <a:latin typeface="Calibri"/>
                <a:ea typeface="Calibri"/>
              </a:rPr>
              <a:t>Carol Colfer</a:t>
            </a:r>
            <a:endParaRPr b="0" lang="en-US" sz="16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863360" y="837720"/>
            <a:ext cx="7203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be reminded </a:t>
            </a:r>
            <a:endParaRPr b="0" lang="en-US" sz="4000" spc="-1" strike="noStrike">
              <a:solidFill>
                <a:srgbClr val="b24d1d"/>
              </a:solidFill>
              <a:latin typeface="Calibri"/>
            </a:endParaRPr>
          </a:p>
        </p:txBody>
      </p:sp>
      <p:sp>
        <p:nvSpPr>
          <p:cNvPr id="276" name=""/>
          <p:cNvSpPr txBox="1"/>
          <p:nvPr/>
        </p:nvSpPr>
        <p:spPr>
          <a:xfrm>
            <a:off x="609480" y="1980720"/>
            <a:ext cx="7772400" cy="4038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esearch community is recognizing the need to go beyond technological fixes...</a:t>
            </a:r>
            <a:br>
              <a:rPr sz="2800"/>
            </a:br>
            <a:br>
              <a:rPr sz="2800"/>
            </a:br>
            <a:r>
              <a:rPr b="0" lang="en-US" sz="2800" spc="-1" strike="noStrike">
                <a:solidFill>
                  <a:srgbClr val="000000"/>
                </a:solidFill>
                <a:latin typeface="Calibri"/>
                <a:ea typeface="Calibri"/>
              </a:rPr>
              <a:t>Governance is an overarching factor. Non-technological factors have remained "invisible for too long”. </a:t>
            </a:r>
            <a:br>
              <a:rPr sz="2800"/>
            </a:b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a:t>
            </a:r>
            <a:r>
              <a:rPr b="0" i="1" lang="en-US" sz="2000" spc="-1" strike="noStrike">
                <a:solidFill>
                  <a:srgbClr val="000000"/>
                </a:solidFill>
                <a:latin typeface="Calibri"/>
                <a:ea typeface="Calibri"/>
              </a:rPr>
              <a:t>Wale Adekunle</a:t>
            </a:r>
            <a:r>
              <a:rPr b="0" lang="en-US" sz="2000" spc="-1" strike="noStrike">
                <a:solidFill>
                  <a:srgbClr val="000000"/>
                </a:solidFill>
                <a:latin typeface="Calibri"/>
                <a:ea typeface="Calibri"/>
              </a:rPr>
              <a:t>)</a:t>
            </a:r>
            <a:endParaRPr b="0" lang="en-US" sz="2000" spc="-1" strike="noStrike">
              <a:solidFill>
                <a:srgbClr val="b23b7e"/>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ttp://www.slideshare.net/gcard/p31-adekunle-ssa-cp-pls-and-innovation-platforms</a:t>
            </a:r>
            <a:br>
              <a:rPr sz="2000"/>
            </a:br>
            <a:endParaRPr b="0" lang="en-US" sz="2000" spc="-1" strike="noStrike">
              <a:solidFill>
                <a:srgbClr val="b23b7e"/>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01EE-FFB0-44CF-A134-2B0BA426B8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8" name="Right Arrow 4"/>
          <p:cNvSpPr/>
          <p:nvPr/>
        </p:nvSpPr>
        <p:spPr>
          <a:xfrm rot="5400000">
            <a:off x="2361960" y="990360"/>
            <a:ext cx="609480" cy="457200"/>
          </a:xfrm>
          <a:prstGeom prst="rightArrow">
            <a:avLst>
              <a:gd name="adj1" fmla="val 50000"/>
              <a:gd name="adj2" fmla="val 4999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http://image.slidesharecdn.com/p3-1adekunlessacpplsandinnovationplatforms-121031224612-phpapp02/95/slide-4-638.jpg?1351741709"/>
          <p:cNvPicPr/>
          <p:nvPr/>
        </p:nvPicPr>
        <p:blipFill>
          <a:blip r:embed="rId1"/>
          <a:stretch/>
        </p:blipFill>
        <p:spPr>
          <a:xfrm>
            <a:off x="0" y="0"/>
            <a:ext cx="9144000" cy="6095880"/>
          </a:xfrm>
          <a:prstGeom prst="rect">
            <a:avLst/>
          </a:prstGeom>
          <a:ln w="0">
            <a:noFill/>
          </a:ln>
        </p:spPr>
      </p:pic>
      <p:sp>
        <p:nvSpPr>
          <p:cNvPr id="280" name="TextBox 4"/>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http://image.slidesharecdn.com/p3-1adekunlessacpplsandinnovationplatforms-121031224612-phpapp02/95/slide-5-638.jpg?1351741709"/>
          <p:cNvPicPr/>
          <p:nvPr/>
        </p:nvPicPr>
        <p:blipFill>
          <a:blip r:embed="rId1"/>
          <a:stretch/>
        </p:blipFill>
        <p:spPr>
          <a:xfrm>
            <a:off x="0" y="0"/>
            <a:ext cx="9144000" cy="6172200"/>
          </a:xfrm>
          <a:prstGeom prst="rect">
            <a:avLst/>
          </a:prstGeom>
          <a:ln w="0">
            <a:noFill/>
          </a:ln>
        </p:spPr>
      </p:pic>
      <p:sp>
        <p:nvSpPr>
          <p:cNvPr id="282"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http://image.slidesharecdn.com/p3-1adekunlessacpplsandinnovationplatforms-121031224612-phpapp02/95/slide-7-638.jpg?1351741709"/>
          <p:cNvPicPr/>
          <p:nvPr/>
        </p:nvPicPr>
        <p:blipFill>
          <a:blip r:embed="rId1"/>
          <a:stretch/>
        </p:blipFill>
        <p:spPr>
          <a:xfrm>
            <a:off x="0" y="0"/>
            <a:ext cx="9144000" cy="6095880"/>
          </a:xfrm>
          <a:prstGeom prst="rect">
            <a:avLst/>
          </a:prstGeom>
          <a:ln w="0">
            <a:noFill/>
          </a:ln>
        </p:spPr>
      </p:pic>
      <p:sp>
        <p:nvSpPr>
          <p:cNvPr id="284"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609120" y="1219320"/>
            <a:ext cx="8458200" cy="449568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re are many implementing groups, facilitators, and communities of practice experts as there are method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1602-A79B-444B-9AD1-39A3CDE737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8080" y="1523520"/>
            <a:ext cx="777240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 -management, co-management, etc.</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7015-3577-4480-8ACB-1D0F4A2F79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066680" y="2057400"/>
            <a:ext cx="68580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whatever scale we work a learning framework should apply... should be relevant...</a:t>
            </a:r>
            <a:endParaRPr b="0" lang="en-US" sz="3200" spc="-1" strike="noStrike">
              <a:solidFill>
                <a:srgbClr val="b23b7e"/>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7756-1780-4539-A20A-45DB9B8A24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1" name=""/>
          <p:cNvSpPr txBox="1"/>
          <p:nvPr/>
        </p:nvSpPr>
        <p:spPr>
          <a:xfrm>
            <a:off x="380880" y="1752120"/>
            <a:ext cx="8382240" cy="4373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view of secondary literature, websites and extensive personal correspondence</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enter-specific review limited to website-research and survey respondent inpu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mpilation of Illustrative Cases (128)</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duct of surveys ( one-to-one) and analysis - respondents (47) and personal correspondence (33) </a:t>
            </a:r>
            <a:endParaRPr b="0" lang="en-US" sz="3000" spc="-1" strike="noStrike">
              <a:solidFill>
                <a:srgbClr val="b23b7e"/>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E40C-5D3E-4754-AA6E-8962CF6BFA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Content Placeholder 6" descr="Untitled1.png"/>
          <p:cNvPicPr/>
          <p:nvPr/>
        </p:nvPicPr>
        <p:blipFill>
          <a:blip r:embed="rId1"/>
          <a:stretch/>
        </p:blipFill>
        <p:spPr>
          <a:xfrm>
            <a:off x="2362320" y="892080"/>
            <a:ext cx="5638680" cy="4594320"/>
          </a:xfrm>
          <a:prstGeom prst="rect">
            <a:avLst/>
          </a:prstGeom>
          <a:ln w="0">
            <a:noFill/>
          </a:ln>
        </p:spPr>
      </p:pic>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CD28-C252-4916-A72A-89B39988D6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3" name="TextBox 8"/>
          <p:cNvSpPr/>
          <p:nvPr/>
        </p:nvSpPr>
        <p:spPr>
          <a:xfrm>
            <a:off x="304920" y="6396120"/>
            <a:ext cx="7924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rPr>
              <a:t>Source: For a full discussion refer to  “</a:t>
            </a:r>
            <a:r>
              <a:rPr b="1" i="1" lang="en-US" sz="1200" spc="-1" strike="noStrike">
                <a:solidFill>
                  <a:srgbClr val="ffffff"/>
                </a:solidFill>
                <a:latin typeface="Calibri"/>
              </a:rPr>
              <a:t>Integrating research, development and learning to improve the livelihoods of the rural poor in LAC”</a:t>
            </a:r>
            <a:r>
              <a:rPr b="0" i="1" lang="en-US" sz="1200" spc="-1" strike="noStrike">
                <a:solidFill>
                  <a:srgbClr val="ffffff"/>
                </a:solidFill>
                <a:latin typeface="Calibri"/>
              </a:rPr>
              <a:t> by Mark Lundy</a:t>
            </a:r>
            <a:endParaRPr b="0" lang="en-US" sz="1200" spc="-1" strike="noStrike">
              <a:solidFill>
                <a:srgbClr val="000000"/>
              </a:solidFill>
              <a:latin typeface="Arial"/>
            </a:endParaRPr>
          </a:p>
        </p:txBody>
      </p:sp>
      <p:sp>
        <p:nvSpPr>
          <p:cNvPr id="294" name="PlaceHolder 1"/>
          <p:cNvSpPr>
            <a:spLocks noGrp="1"/>
          </p:cNvSpPr>
          <p:nvPr>
            <p:ph type="title"/>
          </p:nvPr>
        </p:nvSpPr>
        <p:spPr>
          <a:xfrm>
            <a:off x="304560" y="1828800"/>
            <a:ext cx="301284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95d"/>
                </a:solidFill>
                <a:latin typeface="Arial Black"/>
              </a:rPr>
              <a:t>Need for learning framework</a:t>
            </a:r>
            <a:endParaRPr b="0" lang="en-US" sz="3200" spc="-1" strike="noStrike">
              <a:solidFill>
                <a:srgbClr val="b24d1d"/>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09480" y="1600200"/>
            <a:ext cx="8229600" cy="44956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t the heart of it is the development of methods, tools and approaches that facilitate learning and skills development. Then comes knowledge management (“improvement of information backbone”) .</a:t>
            </a:r>
            <a:endParaRPr b="0" lang="en-US" sz="2600" spc="-1" strike="noStrike">
              <a:solidFill>
                <a:srgbClr val="b23b7e"/>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Elements of proces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egin at the beginning</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asure what matters consistently</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nvest in relationship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Cultivate an organisational-support network</a:t>
            </a:r>
            <a:endParaRPr b="0" lang="en-US" sz="2600" spc="-1" strike="noStrike">
              <a:solidFill>
                <a:srgbClr val="b23b7e"/>
              </a:solidFill>
              <a:latin typeface="Calibri"/>
            </a:endParaRPr>
          </a:p>
          <a:p>
            <a:pPr lvl="1" marL="715320" indent="-447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endParaRPr b="0" lang="en-US" sz="2600" spc="-1" strike="noStrike">
              <a:solidFill>
                <a:srgbClr val="b23b7e"/>
              </a:solidFill>
              <a:latin typeface="Calibri"/>
            </a:endParaRPr>
          </a:p>
          <a:p>
            <a:pPr lvl="1" marL="715320" indent="-447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53F1-3A02-4DA5-AF6A-7E79AF4830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09480" y="1600200"/>
            <a:ext cx="7848720" cy="4038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nnovation development should include methodological developmen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gional innovation platforms should be promoted and eventually facilitated by CG center to play useful roles in fostering R&amp;D methods and strengthening national innovation capacities for promoting pro-poor innovation processes. (2.13)</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B7E9-611C-44FB-ADA7-7C3E7382EE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300" name=""/>
          <p:cNvSpPr txBox="1"/>
          <p:nvPr/>
        </p:nvSpPr>
        <p:spPr>
          <a:xfrm>
            <a:off x="969840" y="2057040"/>
            <a:ext cx="7204320" cy="1523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the stocktaking exercise came up with</a:t>
            </a:r>
            <a:endParaRPr b="0" lang="en-US" sz="3600" spc="-1" strike="noStrike">
              <a:solidFill>
                <a:srgbClr val="b23b7e"/>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DD50-E7D5-4553-AB26-ED5850B7AA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969840" y="1980720"/>
            <a:ext cx="7204320" cy="2590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heck out the cases recommended by respondents in this survey</a:t>
            </a:r>
            <a:endParaRPr b="0" lang="en-US" sz="3600" spc="-1" strike="noStrike">
              <a:solidFill>
                <a:srgbClr val="b23b7e"/>
              </a:solidFill>
              <a:latin typeface="Calibri"/>
            </a:endParaRPr>
          </a:p>
        </p:txBody>
      </p:sp>
      <p:sp>
        <p:nvSpPr>
          <p:cNvPr id="3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001E-80F2-4A8F-8807-B68849731A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D972-09A0-4C5E-96DF-0AAFABD4DE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06" name="Group 2"/>
          <p:cNvGrpSpPr/>
          <p:nvPr/>
        </p:nvGrpSpPr>
        <p:grpSpPr>
          <a:xfrm>
            <a:off x="747360" y="990720"/>
            <a:ext cx="7719840" cy="5498640"/>
            <a:chOff x="747360" y="990720"/>
            <a:chExt cx="7719840" cy="5498640"/>
          </a:xfrm>
        </p:grpSpPr>
        <p:sp>
          <p:nvSpPr>
            <p:cNvPr id="307"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308"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309"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310"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311"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312"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313"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14"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15"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16"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17"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18"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19"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20"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21"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22"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23"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24"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25"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26"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27"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28"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29"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30"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69AB-3B59-4698-87A0-B0778658C6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C44F-3420-462C-981B-47A89CBBDB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B8B3-FE43-40EA-BA42-A88A8E9511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607D-93CA-4BC4-B20F-B9A7130F51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2666880"/>
            <a:ext cx="8001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Reform in CGIAR</a:t>
            </a:r>
            <a:endParaRPr b="0" lang="en-US" sz="5400" spc="-1" strike="noStrike">
              <a:solidFill>
                <a:srgbClr val="b24d1d"/>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7BAB-E01C-4FD6-B66C-500FE027A8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Title 1"/>
          <p:cNvSpPr/>
          <p:nvPr/>
        </p:nvSpPr>
        <p:spPr>
          <a:xfrm>
            <a:off x="2895480" y="1447920"/>
            <a:ext cx="327672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41"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20EB-F748-4E21-B5E3-519B12D5FF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35F5-9661-4160-9D08-284F51BE18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10B5-7B0E-419A-B683-5CEFE56E7B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0559-09EE-41CD-B826-4C1D782B22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51"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9025-6398-47E5-A43A-6C58D0EFD7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54" name="Content Placeholder 4" descr="Untitled.png"/>
          <p:cNvPicPr/>
          <p:nvPr/>
        </p:nvPicPr>
        <p:blipFill>
          <a:blip r:embed="rId1"/>
          <a:stretch/>
        </p:blipFill>
        <p:spPr>
          <a:xfrm>
            <a:off x="0" y="1447920"/>
            <a:ext cx="9144000" cy="4800600"/>
          </a:xfrm>
          <a:prstGeom prst="rect">
            <a:avLst/>
          </a:prstGeom>
          <a:ln w="0">
            <a:noFill/>
          </a:ln>
        </p:spPr>
      </p:pic>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08D5-C660-4C73-B76E-DA3E514EA0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017E-639B-40A7-AC7A-689295DAF1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60"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s is crucial</a:t>
            </a:r>
            <a:endParaRPr b="0" lang="en-US" sz="3200" spc="-1" strike="noStrike">
              <a:solidFill>
                <a:srgbClr val="b24d1d"/>
              </a:solidFill>
              <a:latin typeface="Calibri"/>
            </a:endParaRPr>
          </a:p>
        </p:txBody>
      </p:sp>
      <p:sp>
        <p:nvSpPr>
          <p:cNvPr id="362"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F9DB-C2B3-48EA-8573-3A5D14E7AE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480" y="1676160"/>
            <a:ext cx="7488360" cy="3352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utcome based participatory approaches –theory of change for planning, evaluation and organisation building- can help teams within centers and CRPs stay on track in delivering on the consortium goals and agenda (knowing where we want to head, why and how).</a:t>
            </a:r>
            <a:endParaRPr b="0" lang="en-US" sz="30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9402-EF75-49C2-8D3F-1FB6B6BFB7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6" name="TextBox 4"/>
          <p:cNvSpPr/>
          <p:nvPr/>
        </p:nvSpPr>
        <p:spPr>
          <a:xfrm>
            <a:off x="3200400" y="52578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www.theoryofchange.org</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368"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3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225D-0E53-42F2-B39F-A9BD928D64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7B2C-ABAA-4808-ABF4-6F96A22E79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8"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92D8-0739-4A2D-8C50-85453F3843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96EF-F48C-4A6F-B549-8C4B077DC0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4"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76"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C882-03CC-4955-964B-4457405762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07F4-6623-4E15-89F0-231153FA7F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83B3-AFF6-477A-9249-478B7079AB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969840" y="1752120"/>
            <a:ext cx="7204320" cy="297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much of the change is donor driven and how will a bigger buy-in take pla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nior management have a key role in fostering a new environment for change in emphasis, approaches and commitment to development outcomes</a:t>
            </a:r>
            <a:endParaRPr b="0" lang="en-US" sz="2800" spc="-1" strike="noStrike">
              <a:solidFill>
                <a:srgbClr val="b23b7e"/>
              </a:solidFill>
              <a:latin typeface="Calibri"/>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E1B8-1BF5-429B-AAA8-D1E1CEC3D5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69840" y="1676520"/>
            <a:ext cx="720432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The incentives structure must be in place. The requirement to deliver outcomes in term of development is a key step. Scientific publications must be considered as only one contribution to agricultural knowledge for development. Other knowledge products and its effects must be compensated. (2.5)</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8327-AC73-4554-8969-24D07FEAC0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87"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E2EE-5310-4889-B58C-90F905C18B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development outcomes,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8E37-3C62-4C11-8571-2CAE4522F7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69840" y="1447920"/>
            <a:ext cx="72043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respondents were fairly upbeat about new prospects for social learning method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5BB9-98A7-49FC-926C-3DAAF15D92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E845-FC6A-4B80-8A0F-0F7067AE6F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D25C-8659-4407-880B-6D0BECDF1D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5"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3F87-A642-4485-B189-1804EAE85F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7:58:40Z</dcterms:modified>
  <cp:revision>174</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