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8070-285B-4FF1-A0D8-5726E6F97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ED5A-EAD4-44E9-AEE9-8E2B889BE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1F839-6CD8-4B49-A1B6-B38106767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00203-EDB1-444E-AAC1-0F8EEDDB7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4F150-23F1-4771-A2DF-F32324DCD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20898-F2CE-494F-9F81-CF6DEA243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97150-72BE-4B11-A259-9FF01F1D4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A0EAC-1746-4A7B-AF65-2719528C4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3EAC0-A806-443D-B066-85A5E606E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44A45-C603-4B4C-A5A4-A1ECED958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670E6-67EA-4607-9B24-21D1B7798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3D59C-BCA1-4C29-B9AC-EFAB66F73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44D43-1D71-477C-84B3-26C59F0C6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437CF-C286-496F-9FA9-13B76926D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85D4D-8B99-41E6-B504-9BAADBADC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8A095-2760-45D1-B0F2-8B05FBCD7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9D2CB-B495-4DDF-80C5-D3208415A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ACA5C-8EE3-45AE-8F78-7E5BD728F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47900-A2F3-4583-A264-346343B6F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957988-A6D1-464D-BBFD-3884686896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BD92BA-B57A-469B-9C7F-DB17FF882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A3472-0CBB-47B4-A40A-A23D0483E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867734-2486-4191-AFF9-C575878AB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BB9EB-0A5F-474B-BABC-F05A5DC39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FE61C-482A-41CB-A0C2-F377169AE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C55FC-3401-4810-BB0B-CABD6481B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8DEFD-A6D8-41FE-BE04-8499EE584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FBD08-7A85-46EB-BD77-BFE2FE4EB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94D32-A337-486B-AF61-9D3476522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1BD026-37A0-4426-A38C-0D54D3879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2A9ECF-A5F0-4FC1-9F00-5B642B4D4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06165F-6F86-4D51-A98F-BDD59AB0E3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78A4A3-3B03-4BE8-AC19-2252821798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864B16-8E12-40F9-8D9E-A1C754B174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BA0FB2-C032-4097-94E3-036BA9A123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4C979-FB66-4269-9AD7-10B1BA564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05BB8-6969-4BAB-8FC8-4EA6FAA092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033219-81D1-4401-813F-AD1106A45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D37A03-69DE-4C9B-B69B-F54EF1B29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80C2F-BA11-4062-982C-F1DC09ABC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D9D1C-9B05-4F7E-AFEE-67D5B3750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629A3-691F-441C-934A-9D29A5395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92E24-DEF7-4DD9-9266-B47619254E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7377E0-74BC-4F19-B4D5-48CEF4934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3C9842-9E03-4B1A-8312-F43BDB08DB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1F641-04DB-4B5B-8FDE-19327CA12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DB2B7-4D6F-4979-9BDE-3458B7652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546D-BE12-4F89-A59F-2CC54D857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C15E3-FC67-4FAD-AB2A-C643F9038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8B80-EB86-4AE4-86D1-DC56B303B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7D79-592B-42E6-9DCC-9AE83079034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BE6D-0C7E-4D94-AA4A-DAF6B2CE25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56A7-D8A1-47F2-A7EF-4737289EB18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9DB6-DE1A-4F66-B8D6-CA4595309A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7733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ef0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D63E-13E5-4F88-AB42-9F93AC56ECE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0E16-7100-4A83-A3DA-C305BDE3BD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7733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4FE3-28A6-4446-8F86-5D951AEE63C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0970-C2FD-49DD-A9FC-824E4E7762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343400" y="4648320"/>
            <a:ext cx="4038480" cy="457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F363-473F-4741-A745-35D454600F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1295280" y="1676520"/>
            <a:ext cx="693432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Social learning in the CGIAR: </a:t>
            </a:r>
            <a:endParaRPr b="0" lang="en-US" sz="4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a stocktaking exercise</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7560" y="1828440"/>
            <a:ext cx="720396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 we have a more conducive environment in the CGIAR for Social Learning Approaches? (What the survey respondents say)</a:t>
            </a:r>
            <a:endParaRPr b="0" lang="en-US" sz="36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50A1-52DD-404B-84C2-9F514DB08C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82480" y="1066680"/>
            <a:ext cx="72039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re conducive climate for SL</a:t>
            </a:r>
            <a:endParaRPr b="0" lang="en-US" sz="3200" spc="-1" strike="noStrike">
              <a:solidFill>
                <a:srgbClr val="b24d1d"/>
              </a:solidFill>
              <a:latin typeface="Calibri"/>
            </a:endParaRPr>
          </a:p>
        </p:txBody>
      </p:sp>
      <p:sp>
        <p:nvSpPr>
          <p:cNvPr id="213" name=""/>
          <p:cNvSpPr txBox="1"/>
          <p:nvPr/>
        </p:nvSpPr>
        <p:spPr>
          <a:xfrm>
            <a:off x="969840" y="190476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der recognition of the </a:t>
            </a:r>
            <a:r>
              <a:rPr b="1" lang="en-US" sz="3200" spc="-1" strike="noStrike" u="sng">
                <a:solidFill>
                  <a:srgbClr val="000000"/>
                </a:solidFill>
                <a:uFillTx/>
                <a:latin typeface="Calibri"/>
                <a:ea typeface="Calibri"/>
              </a:rPr>
              <a:t>relevance</a:t>
            </a:r>
            <a:r>
              <a:rPr b="0" lang="en-US" sz="3200" spc="-1" strike="noStrike">
                <a:solidFill>
                  <a:srgbClr val="000000"/>
                </a:solidFill>
                <a:latin typeface="Calibri"/>
                <a:ea typeface="Calibri"/>
              </a:rPr>
              <a:t> of social learning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knowledgement of the need for engaging a wider range of stakeholders</a:t>
            </a:r>
            <a:endParaRPr b="0" lang="en-US" sz="3200" spc="-1" strike="noStrike">
              <a:solidFill>
                <a:srgbClr val="b23b7e"/>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5B09-A623-4158-A657-A7C84A0CBA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CEF6-55BA-4B48-8C27-BA9F691FE2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95FD-0AF4-4BAE-BE04-86B8652B1A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0"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evailing R &amp; D gaps</a:t>
            </a:r>
            <a:endParaRPr b="0" lang="en-US" sz="3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B050-4249-4D43-AAD3-BFCB369A63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3"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7B41-0925-417D-804D-2B1D8E5EFF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6"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8"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1443-D91F-4769-A0A2-CA9E03DBBA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31"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ope to reach the billion left behind by the green revolution through “new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pressures to bridge the R&amp;D gaps remain?</a:t>
            </a:r>
            <a:endParaRPr b="0" lang="en-US" sz="32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9AA3-F988-4FDD-8ACC-B40BA34C46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llenges remain</a:t>
            </a:r>
            <a:endParaRPr b="0" lang="en-US" sz="3200" spc="-1" strike="noStrike">
              <a:solidFill>
                <a:srgbClr val="b24d1d"/>
              </a:solidFill>
              <a:latin typeface="Calibri"/>
            </a:endParaRPr>
          </a:p>
        </p:txBody>
      </p:sp>
      <p:sp>
        <p:nvSpPr>
          <p:cNvPr id="234"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2175-A79B-4535-86B5-8509AC7429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a:t>
            </a:r>
            <a:r>
              <a:rPr b="0" i="1" lang="en-US" sz="3000" spc="-1" strike="noStrike">
                <a:solidFill>
                  <a:srgbClr val="000000"/>
                </a:solidFill>
                <a:latin typeface="Calibri"/>
                <a:ea typeface="Calibri"/>
              </a:rPr>
              <a:t>not </a:t>
            </a:r>
            <a:r>
              <a:rPr b="0" lang="en-US" sz="3000" spc="-1" strike="noStrike">
                <a:solidFill>
                  <a:srgbClr val="000000"/>
                </a:solidFill>
                <a:latin typeface="Calibri"/>
                <a:ea typeface="Calibri"/>
              </a:rPr>
              <a:t>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84C4-F047-4F95-B257-42C9F8401D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5"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5889-7357-453B-A9CE-B576D54CD4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5B00-2B2F-44C3-88EB-7D269C5C1A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B05D-E30A-4685-BF78-2CF17A7200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FB97-128A-46BA-AF34-8B978CA658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Social Learning to Deliver on CCAF’s Theme 4 Objectives</a:t>
            </a:r>
            <a:endParaRPr b="0" lang="en-US" sz="4000" spc="-1" strike="noStrike">
              <a:solidFill>
                <a:srgbClr val="b24d1d"/>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CD1C-3641-419F-AD00-153C934C3E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700B-F8B4-49EF-AE8F-8830655546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066320"/>
            <a:ext cx="8153280" cy="838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Participatory forms of knowledge creation as social learning</a:t>
            </a:r>
            <a:endParaRPr b="0" lang="en-US" sz="2900" spc="-1" strike="noStrike">
              <a:solidFill>
                <a:srgbClr val="b24d1d"/>
              </a:solidFill>
              <a:latin typeface="Calibri"/>
            </a:endParaRPr>
          </a:p>
        </p:txBody>
      </p:sp>
      <p:sp>
        <p:nvSpPr>
          <p:cNvPr id="251" name=""/>
          <p:cNvSpPr txBox="1"/>
          <p:nvPr/>
        </p:nvSpPr>
        <p:spPr>
          <a:xfrm>
            <a:off x="609480" y="20570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ared or dialogical approaches to knowledge produ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couraging discussion amongst various voices within a community</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oops of action and refle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and skills learned acted upon by multiple participants </a:t>
            </a:r>
            <a:endParaRPr b="0" lang="en-US" sz="28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89DD-3462-4EE2-B132-CE83D0DDF1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TextBox 4"/>
          <p:cNvSpPr/>
          <p:nvPr/>
        </p:nvSpPr>
        <p:spPr>
          <a:xfrm>
            <a:off x="3733920" y="538812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Times New Roman"/>
              </a:rPr>
              <a:t>(CCAF IDS/IIED Study)</a:t>
            </a:r>
            <a:endParaRPr b="0" lang="en-US" sz="2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243C-DA71-475B-A68B-D1CAD16623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DBCC-8FAD-4CAE-9EC1-B455E2DD2D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09120" y="1523880"/>
            <a:ext cx="8001000" cy="4648320"/>
          </a:xfrm>
          <a:prstGeom prst="rect">
            <a:avLst/>
          </a:prstGeom>
          <a:noFill/>
          <a:ln w="0">
            <a:noFill/>
          </a:ln>
        </p:spPr>
        <p:txBody>
          <a:bodyPr anchor="t">
            <a:normAutofit fontScale="47000"/>
          </a:bodyPr>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Kruijssen et al. (2009) discuss the importance of social learning for collective action in the context of smallholder market participa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Dialogue and social learning foster </a:t>
            </a:r>
            <a:r>
              <a:rPr b="1" i="1" lang="en-US" sz="3000" spc="-1" strike="noStrike">
                <a:solidFill>
                  <a:srgbClr val="000000"/>
                </a:solidFill>
                <a:latin typeface="Calibri"/>
                <a:ea typeface="Calibri"/>
              </a:rPr>
              <a:t>collective cognition</a:t>
            </a:r>
            <a:r>
              <a:rPr b="0" lang="en-US" sz="3000" spc="-1" strike="noStrike">
                <a:solidFill>
                  <a:srgbClr val="000000"/>
                </a:solidFill>
                <a:latin typeface="Calibri"/>
                <a:ea typeface="Calibri"/>
              </a:rPr>
              <a:t> and </a:t>
            </a:r>
            <a:r>
              <a:rPr b="1" i="1" lang="en-US" sz="3000" spc="-1" strike="noStrike">
                <a:solidFill>
                  <a:srgbClr val="000000"/>
                </a:solidFill>
                <a:latin typeface="Calibri"/>
                <a:ea typeface="Calibri"/>
              </a:rPr>
              <a:t>social capital </a:t>
            </a:r>
            <a:r>
              <a:rPr b="0" lang="en-US" sz="3000" spc="-1" strike="noStrike">
                <a:solidFill>
                  <a:srgbClr val="000000"/>
                </a:solidFill>
                <a:latin typeface="Calibri"/>
                <a:ea typeface="Calibri"/>
              </a:rPr>
              <a:t>formation, both of which are necessary for effective joint ac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Social learning and social capital formation are also </a:t>
            </a:r>
            <a:r>
              <a:rPr b="1" i="1" lang="en-US" sz="3000" spc="-1" strike="noStrike">
                <a:solidFill>
                  <a:srgbClr val="000000"/>
                </a:solidFill>
                <a:latin typeface="Calibri"/>
                <a:ea typeface="Calibri"/>
              </a:rPr>
              <a:t>key features of innovation processes.</a:t>
            </a: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	</a:t>
            </a:r>
            <a:r>
              <a:rPr b="1" lang="en-US" sz="3000" spc="-1" strike="noStrike">
                <a:solidFill>
                  <a:srgbClr val="000000"/>
                </a:solidFill>
                <a:latin typeface="Calibri"/>
                <a:ea typeface="Calibri"/>
              </a:rPr>
              <a:t>	</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8793-E12A-4128-9DAA-1D73F86855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0" name="Text Placeholder 2"/>
          <p:cNvSpPr/>
          <p:nvPr/>
        </p:nvSpPr>
        <p:spPr>
          <a:xfrm>
            <a:off x="838080" y="1295280"/>
            <a:ext cx="6858000" cy="11430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3a3"/>
                </a:solidFill>
                <a:latin typeface="Calibri"/>
                <a:ea typeface="Calibri"/>
              </a:rPr>
              <a:t> </a:t>
            </a:r>
            <a:endParaRPr b="0" lang="en-US" sz="24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5F3E-1ADA-4F51-B273-EF7A3E1905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8" name=""/>
          <p:cNvSpPr txBox="1"/>
          <p:nvPr/>
        </p:nvSpPr>
        <p:spPr>
          <a:xfrm>
            <a:off x="969840" y="2209320"/>
            <a:ext cx="720432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25-day assignment</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tober/November 2012</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Commissioned by CCAF Theme 4</a:t>
            </a:r>
            <a:endParaRPr b="0" lang="en-US" sz="3200" spc="-1" strike="noStrike">
              <a:solidFill>
                <a:srgbClr val="b23b7e"/>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2586-948F-4792-86D3-5042A8CD36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3676-4F7A-415E-9FDC-A91CF5E910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D1D0-9018-4D55-B616-9016D5A856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69"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0"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22480" y="914040"/>
            <a:ext cx="7640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do the survey respondents tell us about the relevance of Social Learning for work in CCAFS climate change adaptation research</a:t>
            </a:r>
            <a:endParaRPr b="0" lang="en-US" sz="2000" spc="-1" strike="noStrike">
              <a:solidFill>
                <a:srgbClr val="b24d1d"/>
              </a:solidFill>
              <a:latin typeface="Calibri"/>
            </a:endParaRPr>
          </a:p>
        </p:txBody>
      </p:sp>
      <p:sp>
        <p:nvSpPr>
          <p:cNvPr id="272" name=""/>
          <p:cNvSpPr txBox="1"/>
          <p:nvPr/>
        </p:nvSpPr>
        <p:spPr>
          <a:xfrm>
            <a:off x="304560" y="3885840"/>
            <a:ext cx="7924680" cy="2057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ea typeface="Calibri"/>
              </a:rPr>
              <a:t>Climate change is one among many problems faced by the poor smallholder farming communities. Participatory research involves analyzing existing problems and looking for solutions together with a range of stakeholders. (1.7)</a:t>
            </a:r>
            <a:endParaRPr b="0" lang="en-US" sz="2000" spc="-1" strike="noStrike">
              <a:solidFill>
                <a:srgbClr val="b23b7e"/>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D201-E52C-4E72-9FE6-3895993650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6"/>
          <p:cNvSpPr/>
          <p:nvPr/>
        </p:nvSpPr>
        <p:spPr>
          <a:xfrm>
            <a:off x="609480" y="2057400"/>
            <a:ext cx="8001000" cy="205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1600" spc="-1" strike="noStrike">
                <a:solidFill>
                  <a:srgbClr val="000000"/>
                </a:solidFill>
                <a:latin typeface="Calibri"/>
                <a:ea typeface="Calibri"/>
              </a:rPr>
              <a:t>l</a:t>
            </a:r>
            <a:r>
              <a:rPr b="0" i="1" lang="en-PH" sz="1800" spc="-1" strike="noStrike">
                <a:solidFill>
                  <a:srgbClr val="000000"/>
                </a:solidFill>
                <a:latin typeface="Calibri"/>
                <a:ea typeface="Calibri"/>
              </a:rPr>
              <a:t>oca</a:t>
            </a:r>
            <a:r>
              <a:rPr b="0" i="1" lang="en-PH" sz="1600" spc="-1" strike="noStrike">
                <a:solidFill>
                  <a:srgbClr val="000000"/>
                </a:solidFill>
                <a:latin typeface="Calibri"/>
                <a:ea typeface="Calibri"/>
              </a:rPr>
              <a:t>l</a:t>
            </a:r>
            <a:r>
              <a:rPr b="0" lang="en-PH" sz="16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1600" spc="-1" strike="noStrike">
                <a:solidFill>
                  <a:srgbClr val="000000"/>
                </a:solidFill>
                <a:latin typeface="Calibri"/>
                <a:ea typeface="Calibri"/>
              </a:rPr>
              <a:t>Carol Colfer</a:t>
            </a:r>
            <a:endParaRPr b="0" lang="en-US" sz="16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863360" y="837720"/>
            <a:ext cx="7203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be reminded </a:t>
            </a:r>
            <a:endParaRPr b="0" lang="en-US" sz="4000" spc="-1" strike="noStrike">
              <a:solidFill>
                <a:srgbClr val="b24d1d"/>
              </a:solidFill>
              <a:latin typeface="Calibri"/>
            </a:endParaRPr>
          </a:p>
        </p:txBody>
      </p:sp>
      <p:sp>
        <p:nvSpPr>
          <p:cNvPr id="276" name=""/>
          <p:cNvSpPr txBox="1"/>
          <p:nvPr/>
        </p:nvSpPr>
        <p:spPr>
          <a:xfrm>
            <a:off x="609480" y="1980720"/>
            <a:ext cx="7772400" cy="4038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esearch community is recognizing the need to go beyond technological fixes...</a:t>
            </a:r>
            <a:br>
              <a:rPr sz="2800"/>
            </a:br>
            <a:br>
              <a:rPr sz="2800"/>
            </a:br>
            <a:r>
              <a:rPr b="0" lang="en-US" sz="2800" spc="-1" strike="noStrike">
                <a:solidFill>
                  <a:srgbClr val="000000"/>
                </a:solidFill>
                <a:latin typeface="Calibri"/>
                <a:ea typeface="Calibri"/>
              </a:rPr>
              <a:t>Governance is an overarching factor. Non-technological factors have remained "invisible for too long”. </a:t>
            </a:r>
            <a:br>
              <a:rPr sz="2800"/>
            </a:b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a:t>
            </a:r>
            <a:r>
              <a:rPr b="0" i="1" lang="en-US" sz="2000" spc="-1" strike="noStrike">
                <a:solidFill>
                  <a:srgbClr val="000000"/>
                </a:solidFill>
                <a:latin typeface="Calibri"/>
                <a:ea typeface="Calibri"/>
              </a:rPr>
              <a:t>Wale Adekunle</a:t>
            </a:r>
            <a:r>
              <a:rPr b="0" lang="en-US" sz="2000" spc="-1" strike="noStrike">
                <a:solidFill>
                  <a:srgbClr val="000000"/>
                </a:solidFill>
                <a:latin typeface="Calibri"/>
                <a:ea typeface="Calibri"/>
              </a:rPr>
              <a:t>)</a:t>
            </a:r>
            <a:endParaRPr b="0" lang="en-US" sz="2000" spc="-1" strike="noStrike">
              <a:solidFill>
                <a:srgbClr val="b23b7e"/>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ttp://www.slideshare.net/gcard/p31-adekunle-ssa-cp-pls-and-innovation-platforms</a:t>
            </a:r>
            <a:br>
              <a:rPr sz="2000"/>
            </a:br>
            <a:endParaRPr b="0" lang="en-US" sz="2000" spc="-1" strike="noStrike">
              <a:solidFill>
                <a:srgbClr val="b23b7e"/>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FF24-3C5F-46B4-BCD9-BAD5D08D76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8" name="Right Arrow 4"/>
          <p:cNvSpPr/>
          <p:nvPr/>
        </p:nvSpPr>
        <p:spPr>
          <a:xfrm rot="5400000">
            <a:off x="2361960" y="990360"/>
            <a:ext cx="609480" cy="457200"/>
          </a:xfrm>
          <a:prstGeom prst="rightArrow">
            <a:avLst>
              <a:gd name="adj1" fmla="val 50000"/>
              <a:gd name="adj2" fmla="val 4999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http://image.slidesharecdn.com/p3-1adekunlessacpplsandinnovationplatforms-121031224612-phpapp02/95/slide-4-638.jpg?1351741709"/>
          <p:cNvPicPr/>
          <p:nvPr/>
        </p:nvPicPr>
        <p:blipFill>
          <a:blip r:embed="rId1"/>
          <a:stretch/>
        </p:blipFill>
        <p:spPr>
          <a:xfrm>
            <a:off x="0" y="0"/>
            <a:ext cx="9144000" cy="6095880"/>
          </a:xfrm>
          <a:prstGeom prst="rect">
            <a:avLst/>
          </a:prstGeom>
          <a:ln w="0">
            <a:noFill/>
          </a:ln>
        </p:spPr>
      </p:pic>
      <p:sp>
        <p:nvSpPr>
          <p:cNvPr id="280" name="TextBox 4"/>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http://image.slidesharecdn.com/p3-1adekunlessacpplsandinnovationplatforms-121031224612-phpapp02/95/slide-5-638.jpg?1351741709"/>
          <p:cNvPicPr/>
          <p:nvPr/>
        </p:nvPicPr>
        <p:blipFill>
          <a:blip r:embed="rId1"/>
          <a:stretch/>
        </p:blipFill>
        <p:spPr>
          <a:xfrm>
            <a:off x="0" y="0"/>
            <a:ext cx="9144000" cy="6172200"/>
          </a:xfrm>
          <a:prstGeom prst="rect">
            <a:avLst/>
          </a:prstGeom>
          <a:ln w="0">
            <a:noFill/>
          </a:ln>
        </p:spPr>
      </p:pic>
      <p:sp>
        <p:nvSpPr>
          <p:cNvPr id="282"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http://image.slidesharecdn.com/p3-1adekunlessacpplsandinnovationplatforms-121031224612-phpapp02/95/slide-7-638.jpg?1351741709"/>
          <p:cNvPicPr/>
          <p:nvPr/>
        </p:nvPicPr>
        <p:blipFill>
          <a:blip r:embed="rId1"/>
          <a:stretch/>
        </p:blipFill>
        <p:spPr>
          <a:xfrm>
            <a:off x="0" y="0"/>
            <a:ext cx="9144000" cy="6095880"/>
          </a:xfrm>
          <a:prstGeom prst="rect">
            <a:avLst/>
          </a:prstGeom>
          <a:ln w="0">
            <a:noFill/>
          </a:ln>
        </p:spPr>
      </p:pic>
      <p:sp>
        <p:nvSpPr>
          <p:cNvPr id="284"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609120" y="1219320"/>
            <a:ext cx="8458200" cy="449568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re are many implementing groups, facilitators, and communities of practice experts as there are method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11CE-1E3A-45B3-A91B-3A833AD6EF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8080" y="1523520"/>
            <a:ext cx="777240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 -management, co-management, etc.</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CC42-C604-48E5-815A-3CEA18B7C3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066680" y="2057400"/>
            <a:ext cx="68580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whatever scale we work a learning framework should apply... should be relevant...</a:t>
            </a:r>
            <a:endParaRPr b="0" lang="en-US" sz="3200" spc="-1" strike="noStrike">
              <a:solidFill>
                <a:srgbClr val="b23b7e"/>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B34A-C215-4854-BA28-5249DD55E8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1" name=""/>
          <p:cNvSpPr txBox="1"/>
          <p:nvPr/>
        </p:nvSpPr>
        <p:spPr>
          <a:xfrm>
            <a:off x="380880" y="1752120"/>
            <a:ext cx="8382240" cy="4373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view of secondary literature, websites and extensive personal correspondence</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enter-specific review limited to website-research and survey respondent inpu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mpilation of Illustrative Cases (128)</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duct of surveys ( one-to-one) and analysis - respondents (47) and personal correspondence (33) </a:t>
            </a:r>
            <a:endParaRPr b="0" lang="en-US" sz="3000" spc="-1" strike="noStrike">
              <a:solidFill>
                <a:srgbClr val="b23b7e"/>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E5CC-DF82-4982-BEAF-A60C05518D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Content Placeholder 6" descr="Untitled1.png"/>
          <p:cNvPicPr/>
          <p:nvPr/>
        </p:nvPicPr>
        <p:blipFill>
          <a:blip r:embed="rId1"/>
          <a:stretch/>
        </p:blipFill>
        <p:spPr>
          <a:xfrm>
            <a:off x="2362320" y="892080"/>
            <a:ext cx="5638680" cy="4594320"/>
          </a:xfrm>
          <a:prstGeom prst="rect">
            <a:avLst/>
          </a:prstGeom>
          <a:ln w="0">
            <a:noFill/>
          </a:ln>
        </p:spPr>
      </p:pic>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1224-941E-416A-AC5B-F6825CFA01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3" name="TextBox 8"/>
          <p:cNvSpPr/>
          <p:nvPr/>
        </p:nvSpPr>
        <p:spPr>
          <a:xfrm>
            <a:off x="304920" y="6396120"/>
            <a:ext cx="7924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rPr>
              <a:t>Source: For a full discussion refer to  “</a:t>
            </a:r>
            <a:r>
              <a:rPr b="1" i="1" lang="en-US" sz="1200" spc="-1" strike="noStrike">
                <a:solidFill>
                  <a:srgbClr val="ffffff"/>
                </a:solidFill>
                <a:latin typeface="Calibri"/>
              </a:rPr>
              <a:t>Integrating research, development and learning to improve the livelihoods of the rural poor in LAC”</a:t>
            </a:r>
            <a:r>
              <a:rPr b="0" i="1" lang="en-US" sz="1200" spc="-1" strike="noStrike">
                <a:solidFill>
                  <a:srgbClr val="ffffff"/>
                </a:solidFill>
                <a:latin typeface="Calibri"/>
              </a:rPr>
              <a:t> by Mark Lundy</a:t>
            </a:r>
            <a:endParaRPr b="0" lang="en-US" sz="1200" spc="-1" strike="noStrike">
              <a:solidFill>
                <a:srgbClr val="000000"/>
              </a:solidFill>
              <a:latin typeface="Arial"/>
            </a:endParaRPr>
          </a:p>
        </p:txBody>
      </p:sp>
      <p:sp>
        <p:nvSpPr>
          <p:cNvPr id="294" name="PlaceHolder 1"/>
          <p:cNvSpPr>
            <a:spLocks noGrp="1"/>
          </p:cNvSpPr>
          <p:nvPr>
            <p:ph type="title"/>
          </p:nvPr>
        </p:nvSpPr>
        <p:spPr>
          <a:xfrm>
            <a:off x="304560" y="1828800"/>
            <a:ext cx="301284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95d"/>
                </a:solidFill>
                <a:latin typeface="Arial Black"/>
              </a:rPr>
              <a:t>Need for learning framework</a:t>
            </a:r>
            <a:endParaRPr b="0" lang="en-US" sz="3200" spc="-1" strike="noStrike">
              <a:solidFill>
                <a:srgbClr val="b24d1d"/>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09480" y="1600200"/>
            <a:ext cx="8229600" cy="44956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t the heart of it is the development of methods, tools and approaches that facilitate learning and skills development. Then comes knowledge management (“improvement of information backbone”) .</a:t>
            </a:r>
            <a:endParaRPr b="0" lang="en-US" sz="2600" spc="-1" strike="noStrike">
              <a:solidFill>
                <a:srgbClr val="b23b7e"/>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Elements of proces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egin at the beginning</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asure what matters consistently</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nvest in relationship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Cultivate an organisational-support network</a:t>
            </a:r>
            <a:endParaRPr b="0" lang="en-US" sz="2600" spc="-1" strike="noStrike">
              <a:solidFill>
                <a:srgbClr val="b23b7e"/>
              </a:solidFill>
              <a:latin typeface="Calibri"/>
            </a:endParaRPr>
          </a:p>
          <a:p>
            <a:pPr lvl="1" marL="715320" indent="-447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endParaRPr b="0" lang="en-US" sz="2600" spc="-1" strike="noStrike">
              <a:solidFill>
                <a:srgbClr val="b23b7e"/>
              </a:solidFill>
              <a:latin typeface="Calibri"/>
            </a:endParaRPr>
          </a:p>
          <a:p>
            <a:pPr lvl="1" marL="715320" indent="-447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D006-0AC9-4504-948C-CEA8407DAA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09480" y="1600200"/>
            <a:ext cx="7848720" cy="4038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nnovation development should include methodological developmen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gional innovation platforms should be promoted and eventually facilitated by CG center to play useful roles in fostering R&amp;D methods and strengthening national innovation capacities for promoting pro-poor innovation processes. (2.13)</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324E-B321-489B-B472-8961D9D47C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300" name=""/>
          <p:cNvSpPr txBox="1"/>
          <p:nvPr/>
        </p:nvSpPr>
        <p:spPr>
          <a:xfrm>
            <a:off x="969840" y="2057040"/>
            <a:ext cx="7204320" cy="1523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the stocktaking exercise came up with</a:t>
            </a:r>
            <a:endParaRPr b="0" lang="en-US" sz="3600" spc="-1" strike="noStrike">
              <a:solidFill>
                <a:srgbClr val="b23b7e"/>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6DA3-AC37-4538-BD34-E922D4B8D6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969840" y="1980720"/>
            <a:ext cx="7204320" cy="2590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heck out the cases recommended by respondents in this survey</a:t>
            </a:r>
            <a:endParaRPr b="0" lang="en-US" sz="3600" spc="-1" strike="noStrike">
              <a:solidFill>
                <a:srgbClr val="b23b7e"/>
              </a:solidFill>
              <a:latin typeface="Calibri"/>
            </a:endParaRPr>
          </a:p>
        </p:txBody>
      </p:sp>
      <p:sp>
        <p:nvSpPr>
          <p:cNvPr id="3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8500-7836-48DC-B0B4-A73706F93D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DD63-5DD7-4B12-966E-0152678E3A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06" name="Group 2"/>
          <p:cNvGrpSpPr/>
          <p:nvPr/>
        </p:nvGrpSpPr>
        <p:grpSpPr>
          <a:xfrm>
            <a:off x="747360" y="990720"/>
            <a:ext cx="7719840" cy="5498640"/>
            <a:chOff x="747360" y="990720"/>
            <a:chExt cx="7719840" cy="5498640"/>
          </a:xfrm>
        </p:grpSpPr>
        <p:sp>
          <p:nvSpPr>
            <p:cNvPr id="307"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308"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309"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310"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311"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312"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313"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14"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15"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16"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17"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18"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19"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20"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21"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22"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23"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24"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25"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26"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27"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28"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29"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30"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5A08-F17F-4BF0-9184-E04692D5F8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4F2A-5BA4-4708-801F-094FE3BDE6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64CC-271D-4363-9B67-2EA2388B8E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3278-0B10-447B-976E-BBE281ABFF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2666880"/>
            <a:ext cx="8001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Reform in CGIAR</a:t>
            </a:r>
            <a:endParaRPr b="0" lang="en-US" sz="5400" spc="-1" strike="noStrike">
              <a:solidFill>
                <a:srgbClr val="b24d1d"/>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7EEE-9C2E-4A07-8AF4-2EFC3E1A98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Title 1"/>
          <p:cNvSpPr/>
          <p:nvPr/>
        </p:nvSpPr>
        <p:spPr>
          <a:xfrm>
            <a:off x="2895480" y="1447920"/>
            <a:ext cx="327672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41"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7DD5-ABD7-4173-A8DB-D1C214D71A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FDE0-A70A-4ABC-AB35-BC3E86AE42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50F4-E718-4F3E-AAEE-D70DBC87A6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3ECB-D79E-4F95-B916-B074B88C21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51"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F0B0-8674-476E-93F6-6CA97B7093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54" name="Content Placeholder 4" descr="Untitled.png"/>
          <p:cNvPicPr/>
          <p:nvPr/>
        </p:nvPicPr>
        <p:blipFill>
          <a:blip r:embed="rId1"/>
          <a:stretch/>
        </p:blipFill>
        <p:spPr>
          <a:xfrm>
            <a:off x="0" y="1447920"/>
            <a:ext cx="9144000" cy="4800600"/>
          </a:xfrm>
          <a:prstGeom prst="rect">
            <a:avLst/>
          </a:prstGeom>
          <a:ln w="0">
            <a:noFill/>
          </a:ln>
        </p:spPr>
      </p:pic>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8B24-79DA-4C2D-B05C-749A4B157C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DF0E-EBA1-457C-B924-315E0B062B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60"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s is crucial</a:t>
            </a:r>
            <a:endParaRPr b="0" lang="en-US" sz="3200" spc="-1" strike="noStrike">
              <a:solidFill>
                <a:srgbClr val="b24d1d"/>
              </a:solidFill>
              <a:latin typeface="Calibri"/>
            </a:endParaRPr>
          </a:p>
        </p:txBody>
      </p:sp>
      <p:sp>
        <p:nvSpPr>
          <p:cNvPr id="362"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8FFA-B529-4328-BB80-3038652694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480" y="1676160"/>
            <a:ext cx="7488360" cy="3352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utcome based participatory approaches –theory of change for planning, evaluation and organisation building- can help teams within centers and CRPs stay on track in delivering on the consortium goals and agenda (knowing where we want to head, why and how).</a:t>
            </a:r>
            <a:endParaRPr b="0" lang="en-US" sz="30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4F7E-E3A6-4753-BEDE-BE2F8F196B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6" name="TextBox 4"/>
          <p:cNvSpPr/>
          <p:nvPr/>
        </p:nvSpPr>
        <p:spPr>
          <a:xfrm>
            <a:off x="3200400" y="52578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www.theoryofchange.org</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368"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3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BB56-FBA9-488D-B2EB-508F47EF59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2575-A0B4-49C7-AB6A-61554777C1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8"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E065-FD53-4A5D-B873-F874DB06BE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10A3-7711-44B2-A406-B7A3DDDE20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4"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76"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1C3A-7807-40C1-B130-8B79A72487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3DFF-C24F-45D6-8448-89697D4584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A7FC-88BF-4ACD-BAA9-C6F70BB8A5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969840" y="1752120"/>
            <a:ext cx="7204320" cy="297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much of the change is donor driven and how will a bigger buy-in take pla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nior management have a key role in fostering a new environment for change in emphasis, approaches and commitment to development outcomes</a:t>
            </a:r>
            <a:endParaRPr b="0" lang="en-US" sz="2800" spc="-1" strike="noStrike">
              <a:solidFill>
                <a:srgbClr val="b23b7e"/>
              </a:solidFill>
              <a:latin typeface="Calibri"/>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151B-6FA6-4FE8-9935-DCC20B87E5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69840" y="1676520"/>
            <a:ext cx="720432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The incentives structure must be in place. The requirement to deliver outcomes in term of development is a key step. Scientific publications must be considered as only one contribution to agricultural knowledge for development. Other knowledge products and its effects must be compensated. (2.5)</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3E20-B058-4365-9737-E59B4738A4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87"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7452-E52F-4F72-A842-EF9A771D7C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development outcomes,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C383-8789-45A3-9B46-2F84D80F1B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69840" y="1447920"/>
            <a:ext cx="72043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respondents were fairly upbeat about new prospects for social learning method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45EA-3DEC-494E-998C-FF3938A43E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BBF0-1ED5-46B6-88A6-44C0DDC946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2F2F-84CA-4DD0-9CC9-317FBDDFBF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5"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5BF9-9302-426A-B9B2-52F3A480CA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7:58:40Z</dcterms:modified>
  <cp:revision>174</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