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7.xml.rels" ContentType="application/vnd.openxmlformats-package.relationships+xml"/>
  <Override PartName="/ppt/notesSlides/notesSlide4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D00F-F1FC-4D18-B7E8-83343A703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B090-1A13-437D-AC75-A72DB44B7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9B97A-0AAF-42EF-AC43-F5A8B6138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9F394-5867-426F-8BC4-9872C5250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C02BB-7DCC-4E1E-B551-DA4A6EDBE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F68D4-220F-442E-BCE6-E38F4730E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B1BE45-C22D-453F-B229-006582F2E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B6BC3-B73C-4162-9BB0-4352077EE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615EA-3906-42E5-86B9-C9F53D42F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656AE-1A48-4389-BAEB-F268EF5E1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A726A-E53C-4279-98F7-6BF26F494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6A72C-0FD6-45F4-B562-075A843E0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D7989-CD6F-4A03-95D0-DCE7C7C21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76591-063D-4710-B7DC-BA962A5C5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F9797-A9C3-462C-A0FC-42BE34A2E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72078-7B2F-4887-B253-929DBA405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ABC73-EA6F-4CF9-9E85-4F1F58F14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CE903-DE8F-4571-AC3D-8A8610750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92BD4-C2E1-425A-90D3-8638C4BE7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D6CF3F-3BC5-4B8E-85E4-76021A85B2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41F2DD-E525-4C24-9884-485EEDC438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79B2D-8719-4CF5-9633-2088001571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1724C-8AA7-4E1F-A390-4BC6EEE79B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5DBAC6-9981-4ADA-AFFA-18AAEACF37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46974-5AA9-495D-9EBF-8F096DFF4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19CD34-A1C7-46AA-B898-D7435263D4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E5ED1D-42AA-4EAE-A1D9-55D86F36C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AE185-4099-4FB4-B843-8C87F4B4E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0B19A-8861-435C-8ACE-62052DE62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593806-2DC2-4630-B28B-CA3579CE0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E05466-C2FA-472E-A896-F33F2EB4CE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85586D-8324-4420-9099-A0049354C5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28A754-BD3B-47BC-A37C-498430E364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AC43FF-7812-4582-B1C2-9DD47522E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A3E82E-AE15-4613-817D-327169BB7D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F46CD-12F5-42D1-AD8C-DB0DAB44E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4F0506-49BB-4132-9AE7-EE1E60EF11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B50A1-CD47-47BF-984F-7602627CE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C9044B-804F-4642-8C79-E4E4A184B7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73CE3-88D9-483B-8A90-7C4589C48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E7EA8-1A11-459C-A9AA-55CA459F4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EB742-7959-4623-AD8F-DE402A3A9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231271-A226-4D87-A55C-BC1380BC4D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9964E3-4AF3-4560-94A6-547A98A3B6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49C564-64DD-4302-8226-D1315D0C8F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5522C-BE29-40FB-B28A-D3FF4A3E8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F0BEC-39F7-44D2-9EA5-3F1F14C57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49E51-39B7-452A-B0B0-374AE8C54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C7DD-DE15-4312-8987-1F34C8AA2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C21E4-0A1D-4B7B-AAAF-371ED5174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AC97-8087-4805-902A-ADD1DE513AA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D1B6-310F-4A11-B223-425CC1CABC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2CE3-C2F9-4BA5-8BFD-0855C6C464C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2410-FCF3-413F-8AB6-FCD285E2AF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7733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ef0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8C23-AD43-4F24-8F48-84A1F09092F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F868-C942-4B6F-8FE4-0B93862170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7733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0C84-A00E-4194-B1A9-5441BAC458E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C91F-E925-4513-AFDC-B53E62B87E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343400" y="4648320"/>
            <a:ext cx="4038480" cy="457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B005-4401-459E-AE21-B16F688AFB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1295280" y="1676520"/>
            <a:ext cx="693432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Social learning in the CGIAR: </a:t>
            </a:r>
            <a:endParaRPr b="0" lang="en-US" sz="4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a stocktaking exercise</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77560" y="1828440"/>
            <a:ext cx="7203960" cy="28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 we have a more conducive environment in the CGIAR for Social Learning Approaches? (What the survey respondents say)</a:t>
            </a:r>
            <a:endParaRPr b="0" lang="en-US" sz="3600" spc="-1" strike="noStrike">
              <a:solidFill>
                <a:srgbClr val="b24d1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6BC5-286E-4DE5-A66E-16E2163294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82480" y="1066680"/>
            <a:ext cx="72039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re conducive climate for SL</a:t>
            </a:r>
            <a:endParaRPr b="0" lang="en-US" sz="3200" spc="-1" strike="noStrike">
              <a:solidFill>
                <a:srgbClr val="b24d1d"/>
              </a:solidFill>
              <a:latin typeface="Calibri"/>
            </a:endParaRPr>
          </a:p>
        </p:txBody>
      </p:sp>
      <p:sp>
        <p:nvSpPr>
          <p:cNvPr id="213" name=""/>
          <p:cNvSpPr txBox="1"/>
          <p:nvPr/>
        </p:nvSpPr>
        <p:spPr>
          <a:xfrm>
            <a:off x="969840" y="190476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der recognition of the </a:t>
            </a:r>
            <a:r>
              <a:rPr b="1" lang="en-US" sz="3200" spc="-1" strike="noStrike" u="sng">
                <a:solidFill>
                  <a:srgbClr val="000000"/>
                </a:solidFill>
                <a:uFillTx/>
                <a:latin typeface="Calibri"/>
                <a:ea typeface="Calibri"/>
              </a:rPr>
              <a:t>relevance</a:t>
            </a:r>
            <a:r>
              <a:rPr b="0" lang="en-US" sz="3200" spc="-1" strike="noStrike">
                <a:solidFill>
                  <a:srgbClr val="000000"/>
                </a:solidFill>
                <a:latin typeface="Calibri"/>
                <a:ea typeface="Calibri"/>
              </a:rPr>
              <a:t> of social learning approach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knowledgement of the need for engaging a wider range of stakeholders</a:t>
            </a:r>
            <a:endParaRPr b="0" lang="en-US" sz="3200" spc="-1" strike="noStrike">
              <a:solidFill>
                <a:srgbClr val="b23b7e"/>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047B-CEF8-45B0-BFE2-D9403FC54D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0520" y="1905120"/>
            <a:ext cx="80010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of the diversity and complexities of the challenges. These complex problems need knowledge intensive approaches, does not allow for a “one size fits all” approach not embedded in easy to disseminate and adopt technologi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increasingly focus on more complex challenges characterized by multiple stakeholders with often divergent perspectives and competing goals (2.6)</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5CEB-17A2-4B7B-9FED-45ACD55BB0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4"/>
          <p:cNvSpPr/>
          <p:nvPr/>
        </p:nvSpPr>
        <p:spPr>
          <a:xfrm>
            <a:off x="457200" y="925560"/>
            <a:ext cx="822960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knowledging diversity, complexity and multiple-scales</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905120"/>
            <a:ext cx="8305920" cy="350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ill a prevailing concern about integrating R&amp;D: “Somewhere on the continuum between R and D lies the current reality” i.e. a Gap </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How can we build processes that integrate both research and development from the outset, around common issue rather than holing one on the other opportunistically (</a:t>
            </a:r>
            <a:r>
              <a:rPr b="0" i="1" lang="en-US" sz="3000" spc="-1" strike="noStrike">
                <a:solidFill>
                  <a:srgbClr val="000000"/>
                </a:solidFill>
                <a:latin typeface="Calibri"/>
                <a:ea typeface="Calibri"/>
              </a:rPr>
              <a:t>Mark Lundy</a:t>
            </a:r>
            <a:r>
              <a:rPr b="0" lang="en-US" sz="3000" spc="-1" strike="noStrike">
                <a:solidFill>
                  <a:srgbClr val="000000"/>
                </a:solidFill>
                <a:latin typeface="Calibri"/>
                <a:ea typeface="Calibri"/>
              </a:rPr>
              <a:t>)</a:t>
            </a:r>
            <a:endParaRPr b="0" lang="en-US" sz="3000" spc="-1" strike="noStrike">
              <a:solidFill>
                <a:srgbClr val="b23b7e"/>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ED05-937C-458B-BA89-F6503DE153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0" name="TextBox 4"/>
          <p:cNvSpPr/>
          <p:nvPr/>
        </p:nvSpPr>
        <p:spPr>
          <a:xfrm>
            <a:off x="2362320" y="990720"/>
            <a:ext cx="609588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evailing R &amp; D gaps</a:t>
            </a:r>
            <a:endParaRPr b="0" lang="en-US" sz="3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0880" y="1676160"/>
            <a:ext cx="838224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tter collaboration across centers (via CRPs than in the pas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re emphasis on a systems approach that includes interdisciplinary approache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move towards negotiating shared realities of problems and solution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search that ‘goes beyond’ biophysical and economic componen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2580-2186-47F6-B514-937520344D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3" name="TextBox 4"/>
          <p:cNvSpPr/>
          <p:nvPr/>
        </p:nvSpPr>
        <p:spPr>
          <a:xfrm>
            <a:off x="1295280" y="1009800"/>
            <a:ext cx="76201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roved work arrangements</a:t>
            </a:r>
            <a:endParaRPr b="0" lang="en-US" sz="3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33160" y="1600200"/>
            <a:ext cx="8001000" cy="36576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Improved collaboration, cooperation and communication</a:t>
            </a:r>
            <a:endParaRPr b="0" lang="en-US" sz="32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 </a:t>
            </a:r>
            <a:r>
              <a:rPr b="1" lang="en-PH" sz="28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28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 </a:t>
            </a:r>
            <a:endParaRPr b="0" lang="en-US" sz="2800" spc="-1" strike="noStrike">
              <a:solidFill>
                <a:srgbClr val="b23b7e"/>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8705-6021-475C-8445-B24123487F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6" name="TextBox 5"/>
          <p:cNvSpPr/>
          <p:nvPr/>
        </p:nvSpPr>
        <p:spPr>
          <a:xfrm>
            <a:off x="33526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r>
              <a:rPr b="0" i="1" lang="en-PH" sz="2800" spc="-1" strike="noStrike">
                <a:solidFill>
                  <a:srgbClr val="000000"/>
                </a:solidFill>
                <a:latin typeface="Calibri"/>
                <a:ea typeface="Calibri"/>
              </a:rPr>
              <a:t>(2.9)</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A greater emphasis on outcomes, theories of change and impact pathways</a:t>
            </a:r>
            <a:endParaRPr b="0" lang="en-US" sz="2800" spc="-1" strike="noStrike">
              <a:solidFill>
                <a:srgbClr val="b24d1d"/>
              </a:solidFill>
              <a:latin typeface="Calibri"/>
            </a:endParaRPr>
          </a:p>
        </p:txBody>
      </p:sp>
      <p:sp>
        <p:nvSpPr>
          <p:cNvPr id="228" name=""/>
          <p:cNvSpPr txBox="1"/>
          <p:nvPr/>
        </p:nvSpPr>
        <p:spPr>
          <a:xfrm>
            <a:off x="685800" y="2133360"/>
            <a:ext cx="739152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lear push for showing research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recently a call for intermediate development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focus on outcome makes participatory approaches more relevant</a:t>
            </a:r>
            <a:endParaRPr b="0" lang="en-US" sz="3200" spc="-1" strike="noStrike">
              <a:solidFill>
                <a:srgbClr val="b23b7e"/>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BDEB-6DFF-4348-B392-70CFA7D8E8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CRPs and donor emphasis on impact create “pressure” for partnerships</a:t>
            </a:r>
            <a:endParaRPr b="0" lang="en-US" sz="2900" spc="-1" strike="noStrike">
              <a:solidFill>
                <a:srgbClr val="b24d1d"/>
              </a:solidFill>
              <a:latin typeface="Calibri"/>
            </a:endParaRPr>
          </a:p>
        </p:txBody>
      </p:sp>
      <p:sp>
        <p:nvSpPr>
          <p:cNvPr id="231" name=""/>
          <p:cNvSpPr txBox="1"/>
          <p:nvPr/>
        </p:nvSpPr>
        <p:spPr>
          <a:xfrm>
            <a:off x="969840" y="251424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ope to reach the billion left behind by the green revolution through “new approach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ll the pressures to bridge the R&amp;D gaps remain?</a:t>
            </a:r>
            <a:endParaRPr b="0" lang="en-US" sz="3200" spc="-1" strike="noStrike">
              <a:solidFill>
                <a:srgbClr val="b23b7e"/>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A69D-98A3-4EF2-995F-D0F22C25C5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llenges remain</a:t>
            </a:r>
            <a:endParaRPr b="0" lang="en-US" sz="3200" spc="-1" strike="noStrike">
              <a:solidFill>
                <a:srgbClr val="b24d1d"/>
              </a:solidFill>
              <a:latin typeface="Calibri"/>
            </a:endParaRPr>
          </a:p>
        </p:txBody>
      </p:sp>
      <p:sp>
        <p:nvSpPr>
          <p:cNvPr id="234" name=""/>
          <p:cNvSpPr txBox="1"/>
          <p:nvPr/>
        </p:nvSpPr>
        <p:spPr>
          <a:xfrm>
            <a:off x="533160" y="1447920"/>
            <a:ext cx="8381880" cy="44956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Limited communication between scientist and partners on the </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olutions sought in a “linear” manner</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umbersome working modalities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Difficult coordination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ommunication limited mainly to institutional focal point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How serious is the commitment to  development outcomes (big change in mindset for some)</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Recognition of SL/PM is limited within scientific research community (struggle for SL proponents to be recognized)</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Mechanisms to link CRPs (focused on global public goods) to national partners are lacking</a:t>
            </a:r>
            <a:endParaRPr b="0" lang="en-US" sz="2300" spc="-1" strike="noStrike">
              <a:solidFill>
                <a:srgbClr val="b23b7e"/>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5119-4032-4A25-AA79-6595904837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85440" y="1447920"/>
            <a:ext cx="80010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Consortium is working on a new concept of management for results with concrete and measurable outcomes for the assessment of the CRP activities. Is there a  risk of result orientation leading back to old productivity and breeding orientation of CG?</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 we do when we know that social learning and institutional work does </a:t>
            </a:r>
            <a:r>
              <a:rPr b="0" i="1" lang="en-US" sz="3000" spc="-1" strike="noStrike">
                <a:solidFill>
                  <a:srgbClr val="000000"/>
                </a:solidFill>
                <a:latin typeface="Calibri"/>
                <a:ea typeface="Calibri"/>
              </a:rPr>
              <a:t>not </a:t>
            </a:r>
            <a:r>
              <a:rPr b="0" lang="en-US" sz="3000" spc="-1" strike="noStrike">
                <a:solidFill>
                  <a:srgbClr val="000000"/>
                </a:solidFill>
                <a:latin typeface="Calibri"/>
                <a:ea typeface="Calibri"/>
              </a:rPr>
              <a:t>show </a:t>
            </a:r>
            <a:r>
              <a:rPr b="1" lang="en-US" sz="3000" spc="-1" strike="noStrike">
                <a:solidFill>
                  <a:srgbClr val="000000"/>
                </a:solidFill>
                <a:latin typeface="Calibri"/>
                <a:ea typeface="Calibri"/>
              </a:rPr>
              <a:t>“</a:t>
            </a:r>
            <a:r>
              <a:rPr b="1" lang="en-US" sz="3000" spc="-1" strike="noStrike" u="sng">
                <a:solidFill>
                  <a:srgbClr val="000000"/>
                </a:solidFill>
                <a:uFillTx/>
                <a:latin typeface="Calibri"/>
                <a:ea typeface="Calibri"/>
              </a:rPr>
              <a:t>direct</a:t>
            </a:r>
            <a:r>
              <a:rPr b="1" lang="en-US" sz="3000" spc="-1" strike="noStrike">
                <a:solidFill>
                  <a:srgbClr val="000000"/>
                </a:solidFill>
                <a:latin typeface="Calibri"/>
                <a:ea typeface="Calibri"/>
              </a:rPr>
              <a:t>” </a:t>
            </a:r>
            <a:r>
              <a:rPr b="0" lang="en-US" sz="3000" spc="-1" strike="noStrike">
                <a:solidFill>
                  <a:srgbClr val="000000"/>
                </a:solidFill>
                <a:latin typeface="Calibri"/>
                <a:ea typeface="Calibri"/>
              </a:rPr>
              <a:t>impac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E095-679C-4095-8856-A2241066AE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ope</a:t>
            </a:r>
            <a:endParaRPr b="0" lang="en-US" sz="4000" spc="-1" strike="noStrike">
              <a:solidFill>
                <a:srgbClr val="b24d1d"/>
              </a:solidFill>
              <a:latin typeface="Calibri"/>
            </a:endParaRPr>
          </a:p>
        </p:txBody>
      </p:sp>
      <p:sp>
        <p:nvSpPr>
          <p:cNvPr id="185" name=""/>
          <p:cNvSpPr txBox="1"/>
          <p:nvPr/>
        </p:nvSpPr>
        <p:spPr>
          <a:xfrm>
            <a:off x="457200" y="17524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novative social learning related efforts in the CGIAR</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essons we have learned along the way (the past should inform the future)</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sure no duplication with other CCAFS studies on communications, social differentiation</a:t>
            </a:r>
            <a:endParaRPr b="0" lang="en-US" sz="3200" spc="-1" strike="noStrike">
              <a:solidFill>
                <a:srgbClr val="b23b7e"/>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6A41-1ECA-4DB9-A6B0-01829521E3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990360" y="1600200"/>
            <a:ext cx="720396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CGIAR scientists are now swamped with design and coordination of CRPs, and seem to be working pretty independently in this – making it, again, difficult "coordinating" among these differing, if all valuable, implementation methods (2.3)</a:t>
            </a:r>
            <a:endParaRPr b="0" lang="en-US" sz="3200" spc="-1" strike="noStrike">
              <a:solidFill>
                <a:srgbClr val="b23b7e"/>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E273-2B7C-47F8-AD35-14D69EC51E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69840" y="2057040"/>
            <a:ext cx="72043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The goal is to work for a CGIAR better able to reach the billion left behind by the Green Revolution through the broader use of such approaches. (2.14)</a:t>
            </a:r>
            <a:endParaRPr b="0" lang="en-US" sz="3200" spc="-1" strike="noStrike">
              <a:solidFill>
                <a:srgbClr val="b23b7e"/>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5FF7-B07B-4C9C-93E9-D0E5755F34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2" name="TextBox 4"/>
          <p:cNvSpPr/>
          <p:nvPr/>
        </p:nvSpPr>
        <p:spPr>
          <a:xfrm>
            <a:off x="2286000" y="995400"/>
            <a:ext cx="5867280" cy="642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Yet we are hopeful:</a:t>
            </a:r>
            <a:endParaRPr b="0" lang="en-US" sz="4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38080" y="1447920"/>
            <a:ext cx="784872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levance of research will improved greatly if CRP and CG scientists spend quality time with the target groups, talk less, listen more and create enabling environment so that farmers can make self directed decision making. Before that they need to question themselves “whose lives we would like to change?” and once they are crystal clear on that success is not far behind. (1.9)</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9C74-F109-46BD-ADCA-7C20E883F0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levance of Social Learning to Deliver on CCAF’s Theme 4 Objectives</a:t>
            </a:r>
            <a:endParaRPr b="0" lang="en-US" sz="4000" spc="-1" strike="noStrike">
              <a:solidFill>
                <a:srgbClr val="b24d1d"/>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D157-098F-4ECC-999F-0809039C9A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7" name="Title 1"/>
          <p:cNvSpPr/>
          <p:nvPr/>
        </p:nvSpPr>
        <p:spPr>
          <a:xfrm>
            <a:off x="2590920" y="1600200"/>
            <a:ext cx="3678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2</a:t>
            </a:r>
            <a:endParaRPr b="0" lang="en-US" sz="5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25280" y="2362320"/>
            <a:ext cx="758484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earning: </a:t>
            </a:r>
            <a:br>
              <a:rPr sz="4400"/>
            </a:br>
            <a:r>
              <a:rPr b="0" lang="en-US" sz="4400" spc="-1" strike="noStrike">
                <a:solidFill>
                  <a:srgbClr val="000000"/>
                </a:solidFill>
                <a:latin typeface="Calibri"/>
              </a:rPr>
              <a:t>What definitions work for us?</a:t>
            </a:r>
            <a:endParaRPr b="0" lang="en-US" sz="4400" spc="-1" strike="noStrike">
              <a:solidFill>
                <a:srgbClr val="b24d1d"/>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39E6-AEBD-4C5C-9A08-72E1B27C66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1066320"/>
            <a:ext cx="8153280" cy="838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Participatory forms of knowledge creation as social learning</a:t>
            </a:r>
            <a:endParaRPr b="0" lang="en-US" sz="2900" spc="-1" strike="noStrike">
              <a:solidFill>
                <a:srgbClr val="b24d1d"/>
              </a:solidFill>
              <a:latin typeface="Calibri"/>
            </a:endParaRPr>
          </a:p>
        </p:txBody>
      </p:sp>
      <p:sp>
        <p:nvSpPr>
          <p:cNvPr id="251" name=""/>
          <p:cNvSpPr txBox="1"/>
          <p:nvPr/>
        </p:nvSpPr>
        <p:spPr>
          <a:xfrm>
            <a:off x="609480" y="20570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ared or dialogical approaches to knowledge produc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ncouraging discussion amongst various voices within a community</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oops of action and reflec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and skills learned acted upon by multiple participants </a:t>
            </a:r>
            <a:endParaRPr b="0" lang="en-US" sz="2800" spc="-1" strike="noStrike">
              <a:solidFill>
                <a:srgbClr val="b23b7e"/>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917A-E894-4AA2-BE24-DCE0B89344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3" name="TextBox 4"/>
          <p:cNvSpPr/>
          <p:nvPr/>
        </p:nvSpPr>
        <p:spPr>
          <a:xfrm>
            <a:off x="3733920" y="5388120"/>
            <a:ext cx="38098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Times New Roman"/>
              </a:rPr>
              <a:t>(CCAF IDS/IIED Study)</a:t>
            </a:r>
            <a:endParaRPr b="0" lang="en-US" sz="2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969840" y="1676520"/>
            <a:ext cx="72043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IDS/IIED study states that “</a:t>
            </a:r>
            <a:r>
              <a:rPr b="1" lang="en-US" sz="3200" spc="-1" strike="noStrike">
                <a:solidFill>
                  <a:srgbClr val="000000"/>
                </a:solidFill>
                <a:latin typeface="Calibri"/>
                <a:ea typeface="Calibri"/>
              </a:rPr>
              <a:t>Social Learning approaches help facilitate knowledge sharing and joint learning experiences between stakeholders… through working together to better understand their situation, new shared ways of knowing are generated”.</a:t>
            </a:r>
            <a:endParaRPr b="0" lang="en-US" sz="3200" spc="-1" strike="noStrike">
              <a:solidFill>
                <a:srgbClr val="b23b7e"/>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FED9-B741-4033-BC65-CD56D5D870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69840" y="1676520"/>
            <a:ext cx="72043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Keen (2005) defines </a:t>
            </a:r>
            <a:r>
              <a:rPr b="1" lang="en-US" sz="3200" spc="-1" strike="noStrike">
                <a:solidFill>
                  <a:srgbClr val="000000"/>
                </a:solidFill>
                <a:latin typeface="Calibri"/>
                <a:ea typeface="Calibri"/>
              </a:rPr>
              <a:t>“Social Learning as the collective action and reflection that takes place amongst both individuals and groups when they work to improve the management of the inter relationships between social and ecological system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A59B-6ED2-4321-9C86-D070D26487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609120" y="1523880"/>
            <a:ext cx="8001000" cy="4648320"/>
          </a:xfrm>
          <a:prstGeom prst="rect">
            <a:avLst/>
          </a:prstGeom>
          <a:noFill/>
          <a:ln w="0">
            <a:noFill/>
          </a:ln>
        </p:spPr>
        <p:txBody>
          <a:bodyPr anchor="t">
            <a:normAutofit fontScale="47000"/>
          </a:bodyPr>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Kruijssen et al. (2009) discuss the importance of social learning for collective action in the context of smallholder market participation.</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Dialogue and social learning foster </a:t>
            </a:r>
            <a:r>
              <a:rPr b="1" i="1" lang="en-US" sz="3000" spc="-1" strike="noStrike">
                <a:solidFill>
                  <a:srgbClr val="000000"/>
                </a:solidFill>
                <a:latin typeface="Calibri"/>
                <a:ea typeface="Calibri"/>
              </a:rPr>
              <a:t>collective cognition</a:t>
            </a:r>
            <a:r>
              <a:rPr b="0" lang="en-US" sz="3000" spc="-1" strike="noStrike">
                <a:solidFill>
                  <a:srgbClr val="000000"/>
                </a:solidFill>
                <a:latin typeface="Calibri"/>
                <a:ea typeface="Calibri"/>
              </a:rPr>
              <a:t> and </a:t>
            </a:r>
            <a:r>
              <a:rPr b="1" i="1" lang="en-US" sz="3000" spc="-1" strike="noStrike">
                <a:solidFill>
                  <a:srgbClr val="000000"/>
                </a:solidFill>
                <a:latin typeface="Calibri"/>
                <a:ea typeface="Calibri"/>
              </a:rPr>
              <a:t>social capital </a:t>
            </a:r>
            <a:r>
              <a:rPr b="0" lang="en-US" sz="3000" spc="-1" strike="noStrike">
                <a:solidFill>
                  <a:srgbClr val="000000"/>
                </a:solidFill>
                <a:latin typeface="Calibri"/>
                <a:ea typeface="Calibri"/>
              </a:rPr>
              <a:t>formation, both of which are necessary for effective joint action.</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Social learning and social capital formation are also </a:t>
            </a:r>
            <a:r>
              <a:rPr b="1" i="1" lang="en-US" sz="3000" spc="-1" strike="noStrike">
                <a:solidFill>
                  <a:srgbClr val="000000"/>
                </a:solidFill>
                <a:latin typeface="Calibri"/>
                <a:ea typeface="Calibri"/>
              </a:rPr>
              <a:t>key features of innovation processes.</a:t>
            </a: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	</a:t>
            </a:r>
            <a:r>
              <a:rPr b="1" lang="en-US" sz="3000" spc="-1" strike="noStrike">
                <a:solidFill>
                  <a:srgbClr val="000000"/>
                </a:solidFill>
                <a:latin typeface="Calibri"/>
                <a:ea typeface="Calibri"/>
              </a:rPr>
              <a:t>	</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3C6F-A988-4E10-B18B-07F37BDB85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0" name="Text Placeholder 2"/>
          <p:cNvSpPr/>
          <p:nvPr/>
        </p:nvSpPr>
        <p:spPr>
          <a:xfrm>
            <a:off x="838080" y="1295280"/>
            <a:ext cx="6858000" cy="114300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43a3"/>
                </a:solidFill>
                <a:latin typeface="Calibri"/>
                <a:ea typeface="Calibri"/>
              </a:rPr>
              <a:t> </a:t>
            </a:r>
            <a:endParaRPr b="0" lang="en-US" sz="24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796680" y="1828800"/>
            <a:ext cx="758484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eve Waddel preferred not to use Social Learning when he described large-system change processes. </a:t>
            </a:r>
            <a:r>
              <a:rPr b="1" lang="en-US" sz="3000" spc="-1" strike="noStrike">
                <a:solidFill>
                  <a:srgbClr val="000000"/>
                </a:solidFill>
                <a:latin typeface="Calibri"/>
                <a:ea typeface="Calibri"/>
              </a:rPr>
              <a:t>“When formalised into new patterns of working together – often through the creation of new umbrella organisations with participants from diverse parts of society – these mutually beneficial </a:t>
            </a:r>
            <a:r>
              <a:rPr b="1" lang="en-US" sz="3000" spc="-1" strike="noStrike" u="sng">
                <a:solidFill>
                  <a:srgbClr val="000000"/>
                </a:solidFill>
                <a:uFillTx/>
                <a:latin typeface="Calibri"/>
                <a:ea typeface="Calibri"/>
              </a:rPr>
              <a:t>outcomes</a:t>
            </a:r>
            <a:r>
              <a:rPr b="1" lang="en-US" sz="3000" spc="-1" strike="noStrike">
                <a:solidFill>
                  <a:srgbClr val="000000"/>
                </a:solidFill>
                <a:latin typeface="Calibri"/>
                <a:ea typeface="Calibri"/>
              </a:rPr>
              <a:t> represent </a:t>
            </a:r>
            <a:r>
              <a:rPr b="1" lang="en-US" sz="3000" spc="-1" strike="noStrike" u="sng">
                <a:solidFill>
                  <a:srgbClr val="000000"/>
                </a:solidFill>
                <a:uFillTx/>
                <a:latin typeface="Calibri"/>
                <a:ea typeface="Calibri"/>
              </a:rPr>
              <a:t>societal</a:t>
            </a:r>
            <a:r>
              <a:rPr b="1" lang="en-US" sz="3000" spc="-1" strike="noStrike">
                <a:solidFill>
                  <a:srgbClr val="000000"/>
                </a:solidFill>
                <a:latin typeface="Calibri"/>
                <a:ea typeface="Calibri"/>
              </a:rPr>
              <a:t> learning”. </a:t>
            </a:r>
            <a:endParaRPr b="0" lang="en-US" sz="3000" spc="-1" strike="noStrike">
              <a:solidFill>
                <a:srgbClr val="b23b7e"/>
              </a:solidFill>
              <a:latin typeface="Calibri"/>
            </a:endParaRPr>
          </a:p>
        </p:txBody>
      </p:sp>
      <p:sp>
        <p:nvSpPr>
          <p:cNvPr id="2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9165-C760-4442-A4CE-7777522409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TextBox 4"/>
          <p:cNvSpPr/>
          <p:nvPr/>
        </p:nvSpPr>
        <p:spPr>
          <a:xfrm>
            <a:off x="2133720" y="900000"/>
            <a:ext cx="624816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 different terminology</a:t>
            </a:r>
            <a:endParaRPr b="0" lang="en-US" sz="3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y Duration</a:t>
            </a:r>
            <a:endParaRPr b="0" lang="en-US" sz="4000" spc="-1" strike="noStrike">
              <a:solidFill>
                <a:srgbClr val="b24d1d"/>
              </a:solidFill>
              <a:latin typeface="Calibri"/>
            </a:endParaRPr>
          </a:p>
        </p:txBody>
      </p:sp>
      <p:sp>
        <p:nvSpPr>
          <p:cNvPr id="188" name=""/>
          <p:cNvSpPr txBox="1"/>
          <p:nvPr/>
        </p:nvSpPr>
        <p:spPr>
          <a:xfrm>
            <a:off x="969840" y="2209320"/>
            <a:ext cx="720432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25-day assignment</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October/November 2012</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Commissioned by CCAF Theme 4</a:t>
            </a:r>
            <a:endParaRPr b="0" lang="en-US" sz="3200" spc="-1" strike="noStrike">
              <a:solidFill>
                <a:srgbClr val="b23b7e"/>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D548-0336-466C-8A4C-796297E2F7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8080" y="1371600"/>
            <a:ext cx="784872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Societal learning is a process of changing patterns of interactions within and between adverse organisations and social units to enhance society’s capacity to innovate. Large scale problems – such as poverty and environmental degradation – require substantial societal learning in order for lasting change to occur”. </a:t>
            </a:r>
            <a:endParaRPr b="0" lang="en-US" sz="3000" spc="-1" strike="noStrike">
              <a:solidFill>
                <a:srgbClr val="b23b7e"/>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DC95-CBFF-4150-81E7-8E45E044DD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TextBox 4"/>
          <p:cNvSpPr/>
          <p:nvPr/>
        </p:nvSpPr>
        <p:spPr>
          <a:xfrm>
            <a:off x="990720" y="518148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Steve Waddel (http://www.pegasuscom.com/bigsyschange.html)</a:t>
            </a:r>
            <a:endParaRPr b="0" lang="en-US" sz="20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2898-A343-4489-A163-FB60BF3848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8" name="Rectangle 4"/>
          <p:cNvSpPr/>
          <p:nvPr/>
        </p:nvSpPr>
        <p:spPr>
          <a:xfrm>
            <a:off x="380880" y="1981080"/>
            <a:ext cx="8229600" cy="3445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is defined as the process through which groups of people learn, by jointly defining problems, searching for and implementing solutions, and assessing the value of solutions for specific problems </a:t>
            </a:r>
            <a:r>
              <a:rPr b="0" lang="en-US" sz="2200" spc="-1" strike="noStrike">
                <a:solidFill>
                  <a:srgbClr val="000000"/>
                </a:solidFill>
                <a:latin typeface="Calibri"/>
                <a:ea typeface="Calibri"/>
              </a:rPr>
              <a:t>(Koelen and Das, 2002).</a:t>
            </a: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ocial learning brings about a shift from ‘‘multiple cognition” to ‘‘collective cognition”. Individuals involved in social learning processes begin with quite different perceptions of their current situation and the potential for change; as they interact, they develop common, shared perspectives, insights and values. </a:t>
            </a:r>
            <a:endParaRPr b="0" lang="en-US" sz="2200" spc="-1" strike="noStrike">
              <a:solidFill>
                <a:srgbClr val="000000"/>
              </a:solidFill>
              <a:latin typeface="Arial"/>
            </a:endParaRPr>
          </a:p>
        </p:txBody>
      </p:sp>
      <p:sp>
        <p:nvSpPr>
          <p:cNvPr id="269" name="Rectangle 5"/>
          <p:cNvSpPr/>
          <p:nvPr/>
        </p:nvSpPr>
        <p:spPr>
          <a:xfrm>
            <a:off x="2362320" y="54529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Calibri"/>
              </a:rPr>
              <a:t>Source: Personal exchanges ( Andre Devaux, Nov 9th 2012)</a:t>
            </a:r>
            <a:endParaRPr b="0" lang="en-US" sz="1600" spc="-1" strike="noStrike">
              <a:solidFill>
                <a:srgbClr val="000000"/>
              </a:solidFill>
              <a:latin typeface="Arial"/>
            </a:endParaRPr>
          </a:p>
        </p:txBody>
      </p:sp>
      <p:sp>
        <p:nvSpPr>
          <p:cNvPr id="270" name="Rectangle 6"/>
          <p:cNvSpPr/>
          <p:nvPr/>
        </p:nvSpPr>
        <p:spPr>
          <a:xfrm>
            <a:off x="685800" y="874800"/>
            <a:ext cx="75438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 social learning definition that relates to CGIAR work?</a:t>
            </a: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22480" y="914040"/>
            <a:ext cx="7640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do the survey respondents tell us about the relevance of Social Learning for work in CCAFS climate change adaptation research</a:t>
            </a:r>
            <a:endParaRPr b="0" lang="en-US" sz="2000" spc="-1" strike="noStrike">
              <a:solidFill>
                <a:srgbClr val="b24d1d"/>
              </a:solidFill>
              <a:latin typeface="Calibri"/>
            </a:endParaRPr>
          </a:p>
        </p:txBody>
      </p:sp>
      <p:sp>
        <p:nvSpPr>
          <p:cNvPr id="272" name=""/>
          <p:cNvSpPr txBox="1"/>
          <p:nvPr/>
        </p:nvSpPr>
        <p:spPr>
          <a:xfrm>
            <a:off x="304560" y="3885840"/>
            <a:ext cx="7924680" cy="2057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ea typeface="Calibri"/>
              </a:rPr>
              <a:t>Climate change is one among many problems faced by the poor smallholder farming communities. Participatory research involves analyzing existing problems and looking for solutions together with a range of stakeholders. (1.7)</a:t>
            </a:r>
            <a:endParaRPr b="0" lang="en-US" sz="2000" spc="-1" strike="noStrike">
              <a:solidFill>
                <a:srgbClr val="b23b7e"/>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1DD0-D313-4B48-9507-8640D2BD5B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6"/>
          <p:cNvSpPr/>
          <p:nvPr/>
        </p:nvSpPr>
        <p:spPr>
          <a:xfrm>
            <a:off x="609480" y="2057400"/>
            <a:ext cx="8001000" cy="205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Calibri"/>
                <a:ea typeface="Calibri"/>
              </a:rPr>
              <a:t>Addressing climate change, whether mitigation or adaptation, is going to require changes in people’s behaviour. Suggesting or mandating change from on high has long proven fraught with difficulties and fatal errors. The human variability (along with the environmental variability) globally means we simply cannot decide what the answer is and apply across the board. That doesn’t work. We really need to be tailoring both mitigation and adaptation efforts to </a:t>
            </a:r>
            <a:r>
              <a:rPr b="0" i="1" lang="en-PH" sz="1600" spc="-1" strike="noStrike">
                <a:solidFill>
                  <a:srgbClr val="000000"/>
                </a:solidFill>
                <a:latin typeface="Calibri"/>
                <a:ea typeface="Calibri"/>
              </a:rPr>
              <a:t>l</a:t>
            </a:r>
            <a:r>
              <a:rPr b="0" i="1" lang="en-PH" sz="1800" spc="-1" strike="noStrike">
                <a:solidFill>
                  <a:srgbClr val="000000"/>
                </a:solidFill>
                <a:latin typeface="Calibri"/>
                <a:ea typeface="Calibri"/>
              </a:rPr>
              <a:t>oca</a:t>
            </a:r>
            <a:r>
              <a:rPr b="0" i="1" lang="en-PH" sz="1600" spc="-1" strike="noStrike">
                <a:solidFill>
                  <a:srgbClr val="000000"/>
                </a:solidFill>
                <a:latin typeface="Calibri"/>
                <a:ea typeface="Calibri"/>
              </a:rPr>
              <a:t>l</a:t>
            </a:r>
            <a:r>
              <a:rPr b="0" lang="en-PH" sz="1600" spc="-1" strike="noStrike">
                <a:solidFill>
                  <a:srgbClr val="000000"/>
                </a:solidFill>
                <a:latin typeface="Calibri"/>
                <a:ea typeface="Calibri"/>
              </a:rPr>
              <a:t> contexts, and that will necessitate the help of local people – a shared learning approach that analyzes, plans, mitigates/adapts, monitors what happens, and improves on initial results, in an iterative manner.  - </a:t>
            </a:r>
            <a:r>
              <a:rPr b="0" i="1" lang="en-PH" sz="1600" spc="-1" strike="noStrike">
                <a:solidFill>
                  <a:srgbClr val="000000"/>
                </a:solidFill>
                <a:latin typeface="Calibri"/>
                <a:ea typeface="Calibri"/>
              </a:rPr>
              <a:t>Carol Colfer</a:t>
            </a:r>
            <a:endParaRPr b="0" lang="en-US" sz="16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863360" y="837720"/>
            <a:ext cx="72039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ts be reminded </a:t>
            </a:r>
            <a:endParaRPr b="0" lang="en-US" sz="4000" spc="-1" strike="noStrike">
              <a:solidFill>
                <a:srgbClr val="b24d1d"/>
              </a:solidFill>
              <a:latin typeface="Calibri"/>
            </a:endParaRPr>
          </a:p>
        </p:txBody>
      </p:sp>
      <p:sp>
        <p:nvSpPr>
          <p:cNvPr id="276" name=""/>
          <p:cNvSpPr txBox="1"/>
          <p:nvPr/>
        </p:nvSpPr>
        <p:spPr>
          <a:xfrm>
            <a:off x="609480" y="1980720"/>
            <a:ext cx="7772400" cy="4038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esearch community is recognizing the need to go beyond technological fixes...</a:t>
            </a:r>
            <a:br>
              <a:rPr sz="2800"/>
            </a:br>
            <a:br>
              <a:rPr sz="2800"/>
            </a:br>
            <a:r>
              <a:rPr b="0" lang="en-US" sz="2800" spc="-1" strike="noStrike">
                <a:solidFill>
                  <a:srgbClr val="000000"/>
                </a:solidFill>
                <a:latin typeface="Calibri"/>
                <a:ea typeface="Calibri"/>
              </a:rPr>
              <a:t>Governance is an overarching factor. Non-technological factors have remained "invisible for too long”. </a:t>
            </a:r>
            <a:br>
              <a:rPr sz="2800"/>
            </a:b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a:t>
            </a:r>
            <a:r>
              <a:rPr b="0" i="1" lang="en-US" sz="2000" spc="-1" strike="noStrike">
                <a:solidFill>
                  <a:srgbClr val="000000"/>
                </a:solidFill>
                <a:latin typeface="Calibri"/>
                <a:ea typeface="Calibri"/>
              </a:rPr>
              <a:t>Wale Adekunle</a:t>
            </a:r>
            <a:r>
              <a:rPr b="0" lang="en-US" sz="2000" spc="-1" strike="noStrike">
                <a:solidFill>
                  <a:srgbClr val="000000"/>
                </a:solidFill>
                <a:latin typeface="Calibri"/>
                <a:ea typeface="Calibri"/>
              </a:rPr>
              <a:t>)</a:t>
            </a:r>
            <a:endParaRPr b="0" lang="en-US" sz="2000" spc="-1" strike="noStrike">
              <a:solidFill>
                <a:srgbClr val="b23b7e"/>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ttp://www.slideshare.net/gcard/p31-adekunle-ssa-cp-pls-and-innovation-platforms</a:t>
            </a:r>
            <a:br>
              <a:rPr sz="2000"/>
            </a:br>
            <a:endParaRPr b="0" lang="en-US" sz="2000" spc="-1" strike="noStrike">
              <a:solidFill>
                <a:srgbClr val="b23b7e"/>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9D9B-E321-47E1-9E82-F7BBE7DAEF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8" name="Right Arrow 4"/>
          <p:cNvSpPr/>
          <p:nvPr/>
        </p:nvSpPr>
        <p:spPr>
          <a:xfrm rot="5400000">
            <a:off x="2361960" y="990360"/>
            <a:ext cx="609480" cy="457200"/>
          </a:xfrm>
          <a:prstGeom prst="rightArrow">
            <a:avLst>
              <a:gd name="adj1" fmla="val 50000"/>
              <a:gd name="adj2" fmla="val 4999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http://image.slidesharecdn.com/p3-1adekunlessacpplsandinnovationplatforms-121031224612-phpapp02/95/slide-4-638.jpg?1351741709"/>
          <p:cNvPicPr/>
          <p:nvPr/>
        </p:nvPicPr>
        <p:blipFill>
          <a:blip r:embed="rId1"/>
          <a:stretch/>
        </p:blipFill>
        <p:spPr>
          <a:xfrm>
            <a:off x="0" y="0"/>
            <a:ext cx="9144000" cy="6095880"/>
          </a:xfrm>
          <a:prstGeom prst="rect">
            <a:avLst/>
          </a:prstGeom>
          <a:ln w="0">
            <a:noFill/>
          </a:ln>
        </p:spPr>
      </p:pic>
      <p:sp>
        <p:nvSpPr>
          <p:cNvPr id="280" name="TextBox 4"/>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http://image.slidesharecdn.com/p3-1adekunlessacpplsandinnovationplatforms-121031224612-phpapp02/95/slide-5-638.jpg?1351741709"/>
          <p:cNvPicPr/>
          <p:nvPr/>
        </p:nvPicPr>
        <p:blipFill>
          <a:blip r:embed="rId1"/>
          <a:stretch/>
        </p:blipFill>
        <p:spPr>
          <a:xfrm>
            <a:off x="0" y="0"/>
            <a:ext cx="9144000" cy="6172200"/>
          </a:xfrm>
          <a:prstGeom prst="rect">
            <a:avLst/>
          </a:prstGeom>
          <a:ln w="0">
            <a:noFill/>
          </a:ln>
        </p:spPr>
      </p:pic>
      <p:sp>
        <p:nvSpPr>
          <p:cNvPr id="282" name="TextBox 3"/>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http://image.slidesharecdn.com/p3-1adekunlessacpplsandinnovationplatforms-121031224612-phpapp02/95/slide-7-638.jpg?1351741709"/>
          <p:cNvPicPr/>
          <p:nvPr/>
        </p:nvPicPr>
        <p:blipFill>
          <a:blip r:embed="rId1"/>
          <a:stretch/>
        </p:blipFill>
        <p:spPr>
          <a:xfrm>
            <a:off x="0" y="0"/>
            <a:ext cx="9144000" cy="6095880"/>
          </a:xfrm>
          <a:prstGeom prst="rect">
            <a:avLst/>
          </a:prstGeom>
          <a:ln w="0">
            <a:noFill/>
          </a:ln>
        </p:spPr>
      </p:pic>
      <p:sp>
        <p:nvSpPr>
          <p:cNvPr id="284" name="TextBox 3"/>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609120" y="1219320"/>
            <a:ext cx="8458200" cy="449568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re are many implementing groups, facilitators, and communities of practice experts as there are methods"</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Even if in isolated pockets - not coordinated or mainstreamed into programs – there is rich array of field tested social learning related approaches within the CG system</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We need to recognize that the diversity as it meets different needs of researchers. Researchers might become engaged in social learning for different reasons. We need to grant that this accounts for the range of approaches.</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CEEC-7D7C-4930-83FE-8652622B91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8080" y="1523520"/>
            <a:ext cx="7772400" cy="4496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DIVIDUAL FARMER LEVEL: Farmer engagement in diagnosis (PRA typed) or in evaluating technologies, to more complex participatory breeding programs   </a:t>
            </a:r>
            <a:endParaRPr b="0" lang="en-US" sz="2800" spc="-1" strike="noStrike">
              <a:solidFill>
                <a:srgbClr val="b23b7e"/>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Y LEVEL: Community-based biodiversity management, adaptive co -management, co-management, etc.</a:t>
            </a:r>
            <a:endParaRPr b="0" lang="en-US" sz="2800" spc="-1" strike="noStrike">
              <a:solidFill>
                <a:srgbClr val="b23b7e"/>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SCALE LEVEL: Innovation platforms, learning alliances, multistakeholder platforms, etc.</a:t>
            </a:r>
            <a:endParaRPr b="0" lang="en-US" sz="2800" spc="-1" strike="noStrike">
              <a:solidFill>
                <a:srgbClr val="b23b7e"/>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62C2-D6C5-4492-9CC6-CEE94583AB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1066680" y="2057400"/>
            <a:ext cx="68580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whatever scale we work a learning framework should apply... should be relevant...</a:t>
            </a:r>
            <a:endParaRPr b="0" lang="en-US" sz="3200" spc="-1" strike="noStrike">
              <a:solidFill>
                <a:srgbClr val="b23b7e"/>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906F-DD5A-4F9F-92A5-F774B9DE7C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in a Nutshell</a:t>
            </a:r>
            <a:endParaRPr b="0" lang="en-US" sz="4000" spc="-1" strike="noStrike">
              <a:solidFill>
                <a:srgbClr val="b24d1d"/>
              </a:solidFill>
              <a:latin typeface="Calibri"/>
            </a:endParaRPr>
          </a:p>
        </p:txBody>
      </p:sp>
      <p:sp>
        <p:nvSpPr>
          <p:cNvPr id="191" name=""/>
          <p:cNvSpPr txBox="1"/>
          <p:nvPr/>
        </p:nvSpPr>
        <p:spPr>
          <a:xfrm>
            <a:off x="380880" y="1752120"/>
            <a:ext cx="8382240" cy="43736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view of secondary literature, websites and extensive personal correspondence</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enter-specific review limited to website-research and survey respondent inpu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mpilation of Illustrative Cases (128)</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nduct of surveys ( one-to-one) and analysis - respondents (47) and personal correspondence (33) </a:t>
            </a:r>
            <a:endParaRPr b="0" lang="en-US" sz="3000" spc="-1" strike="noStrike">
              <a:solidFill>
                <a:srgbClr val="b23b7e"/>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09FB-F872-4244-9574-DB3135C2A7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Content Placeholder 6" descr="Untitled1.png"/>
          <p:cNvPicPr/>
          <p:nvPr/>
        </p:nvPicPr>
        <p:blipFill>
          <a:blip r:embed="rId1"/>
          <a:stretch/>
        </p:blipFill>
        <p:spPr>
          <a:xfrm>
            <a:off x="2362320" y="892080"/>
            <a:ext cx="5638680" cy="4594320"/>
          </a:xfrm>
          <a:prstGeom prst="rect">
            <a:avLst/>
          </a:prstGeom>
          <a:ln w="0">
            <a:noFill/>
          </a:ln>
        </p:spPr>
      </p:pic>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4CDD-D874-41F1-B604-3D24220FF6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3" name="TextBox 8"/>
          <p:cNvSpPr/>
          <p:nvPr/>
        </p:nvSpPr>
        <p:spPr>
          <a:xfrm>
            <a:off x="304920" y="6396120"/>
            <a:ext cx="7924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rPr>
              <a:t>Source: For a full discussion refer to  “</a:t>
            </a:r>
            <a:r>
              <a:rPr b="1" i="1" lang="en-US" sz="1200" spc="-1" strike="noStrike">
                <a:solidFill>
                  <a:srgbClr val="ffffff"/>
                </a:solidFill>
                <a:latin typeface="Calibri"/>
              </a:rPr>
              <a:t>Integrating research, development and learning to improve the livelihoods of the rural poor in LAC”</a:t>
            </a:r>
            <a:r>
              <a:rPr b="0" i="1" lang="en-US" sz="1200" spc="-1" strike="noStrike">
                <a:solidFill>
                  <a:srgbClr val="ffffff"/>
                </a:solidFill>
                <a:latin typeface="Calibri"/>
              </a:rPr>
              <a:t> by Mark Lundy</a:t>
            </a:r>
            <a:endParaRPr b="0" lang="en-US" sz="1200" spc="-1" strike="noStrike">
              <a:solidFill>
                <a:srgbClr val="000000"/>
              </a:solidFill>
              <a:latin typeface="Arial"/>
            </a:endParaRPr>
          </a:p>
        </p:txBody>
      </p:sp>
      <p:sp>
        <p:nvSpPr>
          <p:cNvPr id="294" name="PlaceHolder 1"/>
          <p:cNvSpPr>
            <a:spLocks noGrp="1"/>
          </p:cNvSpPr>
          <p:nvPr>
            <p:ph type="title"/>
          </p:nvPr>
        </p:nvSpPr>
        <p:spPr>
          <a:xfrm>
            <a:off x="304560" y="1828800"/>
            <a:ext cx="3012840" cy="144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95d"/>
                </a:solidFill>
                <a:latin typeface="Arial Black"/>
              </a:rPr>
              <a:t>Need for learning framework</a:t>
            </a:r>
            <a:endParaRPr b="0" lang="en-US" sz="3200" spc="-1" strike="noStrike">
              <a:solidFill>
                <a:srgbClr val="b24d1d"/>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609480" y="1600200"/>
            <a:ext cx="8229600" cy="449568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t the heart of it is the development of methods, tools and approaches that facilitate learning and skills development. Then comes knowledge management (“improvement of information backbone”) .</a:t>
            </a:r>
            <a:endParaRPr b="0" lang="en-US" sz="2600" spc="-1" strike="noStrike">
              <a:solidFill>
                <a:srgbClr val="b23b7e"/>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Elements of process:</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Begin at the beginning</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easure what matters consistently</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nvest in relationships</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Cultivate an organisational-support network</a:t>
            </a:r>
            <a:endParaRPr b="0" lang="en-US" sz="2600" spc="-1" strike="noStrike">
              <a:solidFill>
                <a:srgbClr val="b23b7e"/>
              </a:solidFill>
              <a:latin typeface="Calibri"/>
            </a:endParaRPr>
          </a:p>
          <a:p>
            <a:pPr lvl="1" marL="715320" indent="-447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endParaRPr b="0" lang="en-US" sz="2600" spc="-1" strike="noStrike">
              <a:solidFill>
                <a:srgbClr val="b23b7e"/>
              </a:solidFill>
              <a:latin typeface="Calibri"/>
            </a:endParaRPr>
          </a:p>
          <a:p>
            <a:pPr lvl="1" marL="715320" indent="-447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500B-B6C1-4910-B766-A0140A5726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09480" y="1600200"/>
            <a:ext cx="7848720" cy="4038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Innovation development should include methodological developmen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gional innovation platforms should be promoted and eventually facilitated by CG center to play useful roles in fostering R&amp;D methods and strengthening national innovation capacities for promoting pro-poor innovation processes. (2.13)</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0F8B-6517-4721-AAAD-C898C09605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20432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thodological diversity</a:t>
            </a:r>
            <a:endParaRPr b="0" lang="en-US" sz="3600" spc="-1" strike="noStrike">
              <a:solidFill>
                <a:srgbClr val="b24d1d"/>
              </a:solidFill>
              <a:latin typeface="Calibri"/>
            </a:endParaRPr>
          </a:p>
        </p:txBody>
      </p:sp>
      <p:sp>
        <p:nvSpPr>
          <p:cNvPr id="300" name=""/>
          <p:cNvSpPr txBox="1"/>
          <p:nvPr/>
        </p:nvSpPr>
        <p:spPr>
          <a:xfrm>
            <a:off x="969840" y="2057040"/>
            <a:ext cx="7204320" cy="1523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the stocktaking exercise came up with</a:t>
            </a:r>
            <a:endParaRPr b="0" lang="en-US" sz="3600" spc="-1" strike="noStrike">
              <a:solidFill>
                <a:srgbClr val="b23b7e"/>
              </a:solidFill>
              <a:latin typeface="Calibri"/>
            </a:endParaRPr>
          </a:p>
        </p:txBody>
      </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1B66-1A7B-4978-9B99-51145F251A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969840" y="1980720"/>
            <a:ext cx="7204320" cy="2590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heck out the cases recommended by respondents in this survey</a:t>
            </a:r>
            <a:endParaRPr b="0" lang="en-US" sz="3600" spc="-1" strike="noStrike">
              <a:solidFill>
                <a:srgbClr val="b23b7e"/>
              </a:solidFill>
              <a:latin typeface="Calibri"/>
            </a:endParaRPr>
          </a:p>
        </p:txBody>
      </p:sp>
      <p:sp>
        <p:nvSpPr>
          <p:cNvPr id="3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F35F-CB77-428E-9EE9-374AA0257D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74C6-F261-4BB0-BD38-8C66E813BA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306" name="Group 2"/>
          <p:cNvGrpSpPr/>
          <p:nvPr/>
        </p:nvGrpSpPr>
        <p:grpSpPr>
          <a:xfrm>
            <a:off x="747360" y="990720"/>
            <a:ext cx="7719840" cy="5498640"/>
            <a:chOff x="747360" y="990720"/>
            <a:chExt cx="7719840" cy="5498640"/>
          </a:xfrm>
        </p:grpSpPr>
        <p:sp>
          <p:nvSpPr>
            <p:cNvPr id="307"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308"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309"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310"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311"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312"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313"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314"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315"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316"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317"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318"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319"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320"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321"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322"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323"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324"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325"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326"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327"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328"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329"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330"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1676160"/>
            <a:ext cx="82296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communities and individuals are already adapting and coping with climate variability and associated chang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scientists will use different entry points for bringing in SL perspectiv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rticipatory assessments have to be deepened (e.g. superficial vulnerability assessments won’t help) to understand how communities cope with adversity</a:t>
            </a:r>
            <a:endParaRPr b="0" lang="en-US" sz="2800" spc="-1" strike="noStrike">
              <a:solidFill>
                <a:srgbClr val="b23b7e"/>
              </a:solidFill>
              <a:latin typeface="Calibri"/>
            </a:endParaRPr>
          </a:p>
        </p:txBody>
      </p:sp>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8E06-962D-4BA9-9551-65D9D12BFE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969480" y="1981080"/>
            <a:ext cx="7488360" cy="1828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e should celebrate this diversity in social learning related approaches in the CGIAR</a:t>
            </a:r>
            <a:endParaRPr b="0" lang="en-US" sz="3600" spc="-1" strike="noStrike">
              <a:solidFill>
                <a:srgbClr val="b23b7e"/>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3b7e"/>
              </a:solidFill>
              <a:latin typeface="Calibri"/>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1E44-5933-4A30-A092-3330ACD894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990720" y="2286000"/>
            <a:ext cx="7238880" cy="1447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about the question of different scales (local national?)</a:t>
            </a:r>
            <a:endParaRPr b="0" lang="en-US" sz="3600" spc="-1" strike="noStrike">
              <a:solidFill>
                <a:srgbClr val="b23b7e"/>
              </a:solidFill>
              <a:latin typeface="Calibri"/>
            </a:endParaRPr>
          </a:p>
        </p:txBody>
      </p:sp>
      <p:sp>
        <p:nvSpPr>
          <p:cNvPr id="3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9BA3-29D7-4E5D-9706-DC4C65CF78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969840" y="1371240"/>
            <a:ext cx="720432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a:t>
            </a:r>
            <a:r>
              <a:rPr b="1" lang="en-PH" sz="2800" spc="-1" strike="noStrike">
                <a:solidFill>
                  <a:srgbClr val="000000"/>
                </a:solidFill>
                <a:latin typeface="Calibri"/>
                <a:ea typeface="Calibri"/>
              </a:rPr>
              <a:t>Addressing climate change, whether mitigation or adaptation, is going to require changes in people’s behaviour. We really need to be tailoring both mitigation and adaptation efforts to local contexts, …with the help of local people – a shared learning approach that analyzes, plans, mitigates/ adapts, monitors what happens, and improves on initial resul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B544-09F2-4F5E-A651-8DA3AB68C6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4"/>
          <p:cNvSpPr/>
          <p:nvPr/>
        </p:nvSpPr>
        <p:spPr>
          <a:xfrm>
            <a:off x="4579560" y="5334120"/>
            <a:ext cx="24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Carol J. Pierce Colfer</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2666880"/>
            <a:ext cx="8001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Reform in CGIAR</a:t>
            </a:r>
            <a:endParaRPr b="0" lang="en-US" sz="5400" spc="-1" strike="noStrike">
              <a:solidFill>
                <a:srgbClr val="b24d1d"/>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17DF-C918-4EEC-900F-92D8171C00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5" name="Title 1"/>
          <p:cNvSpPr/>
          <p:nvPr/>
        </p:nvSpPr>
        <p:spPr>
          <a:xfrm>
            <a:off x="2895480" y="1447920"/>
            <a:ext cx="3276720" cy="1371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1</a:t>
            </a:r>
            <a:endParaRPr b="0" lang="en-US" sz="54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69840" y="914040"/>
            <a:ext cx="7793280" cy="1066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Relevance of local scale engagement in climate change work</a:t>
            </a:r>
            <a:endParaRPr b="0" lang="en-US" sz="3000" spc="-1" strike="noStrike">
              <a:solidFill>
                <a:srgbClr val="b24d1d"/>
              </a:solidFill>
              <a:latin typeface="Calibri"/>
            </a:endParaRPr>
          </a:p>
        </p:txBody>
      </p:sp>
      <p:sp>
        <p:nvSpPr>
          <p:cNvPr id="341" name=""/>
          <p:cNvSpPr txBox="1"/>
          <p:nvPr/>
        </p:nvSpPr>
        <p:spPr>
          <a:xfrm>
            <a:off x="664920" y="2437920"/>
            <a:ext cx="7716600" cy="31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have to deal with location specificities: </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gro-ecological, climatic, culture, etc.</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limate change scenarios must get close to reality and on the other challenge in bringing locally derived solutions to scale</a:t>
            </a:r>
            <a:endParaRPr b="0" lang="en-US" sz="3200" spc="-1" strike="noStrike">
              <a:solidFill>
                <a:srgbClr val="b23b7e"/>
              </a:solidFill>
              <a:latin typeface="Calibri"/>
            </a:endParaRPr>
          </a:p>
        </p:txBody>
      </p:sp>
      <p:sp>
        <p:nvSpPr>
          <p:cNvPr id="3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B545-6841-46BC-A55C-A6E47A0E3C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762120" y="2209320"/>
            <a:ext cx="7619760" cy="342900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apacities of local level institutions need to be built</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rengthening capacities to innovate is just as important as technological solutions</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Farmer-to-farmer linkages are a critical factor for horizontal communication ultimately influencing outscaling</a:t>
            </a:r>
            <a:endParaRPr b="0" lang="en-US" sz="3000" spc="-1" strike="noStrike">
              <a:solidFill>
                <a:srgbClr val="b23b7e"/>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C8FC-DA46-421B-AD90-3CF8EE6D0A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TextBox 6"/>
          <p:cNvSpPr/>
          <p:nvPr/>
        </p:nvSpPr>
        <p:spPr>
          <a:xfrm>
            <a:off x="1143000" y="1001880"/>
            <a:ext cx="746748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ant considerations in strengthening local-level action</a:t>
            </a:r>
            <a:endParaRPr b="0" lang="en-US" sz="32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969840" y="1828800"/>
            <a:ext cx="72043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has been extensive past work on community-level learning approaches: Farmer Field Schools, CIALS, Adaptive Co-Management remain relevant as  “tools” for enhancing learning, fostering cooperation and as mechanisms for lower-level outscaling</a:t>
            </a:r>
            <a:endParaRPr b="0" lang="en-US" sz="3200" spc="-1" strike="noStrike">
              <a:solidFill>
                <a:srgbClr val="b23b7e"/>
              </a:solidFill>
              <a:latin typeface="Calibri"/>
            </a:endParaRPr>
          </a:p>
        </p:txBody>
      </p:sp>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2D5B-E21B-4EC6-A025-51F7E892E9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969840" y="2133360"/>
            <a:ext cx="720432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working at the local level alone wont suffice: vertical upscaling approaches are needed</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is essential at these </a:t>
            </a:r>
            <a:r>
              <a:rPr b="0" lang="en-US" sz="3200" spc="-1" strike="noStrike" u="sng">
                <a:solidFill>
                  <a:srgbClr val="000000"/>
                </a:solidFill>
                <a:uFillTx/>
                <a:latin typeface="Calibri"/>
                <a:ea typeface="Calibri"/>
              </a:rPr>
              <a:t>different </a:t>
            </a:r>
            <a:r>
              <a:rPr b="0" lang="en-US" sz="3200" spc="-1" strike="noStrike">
                <a:solidFill>
                  <a:srgbClr val="000000"/>
                </a:solidFill>
                <a:latin typeface="Calibri"/>
                <a:ea typeface="Calibri"/>
              </a:rPr>
              <a:t>levels</a:t>
            </a:r>
            <a:endParaRPr b="0" lang="en-US" sz="3200" spc="-1" strike="noStrike">
              <a:solidFill>
                <a:srgbClr val="b23b7e"/>
              </a:solidFill>
              <a:latin typeface="Calibri"/>
            </a:endParaRPr>
          </a:p>
        </p:txBody>
      </p:sp>
      <p:sp>
        <p:nvSpPr>
          <p:cNvPr id="3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1564-2363-4B03-BD2F-2A328B0011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69840" y="990360"/>
            <a:ext cx="720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ing to scale is always the challenge (the need for research on partnership processes)</a:t>
            </a:r>
            <a:endParaRPr b="0" lang="en-US" sz="2800" spc="-1" strike="noStrike">
              <a:solidFill>
                <a:srgbClr val="b24d1d"/>
              </a:solidFill>
              <a:latin typeface="Calibri"/>
            </a:endParaRPr>
          </a:p>
        </p:txBody>
      </p:sp>
      <p:sp>
        <p:nvSpPr>
          <p:cNvPr id="351" name=""/>
          <p:cNvSpPr txBox="1"/>
          <p:nvPr/>
        </p:nvSpPr>
        <p:spPr>
          <a:xfrm>
            <a:off x="796680" y="2361960"/>
            <a:ext cx="7203960" cy="32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need platforms and networks which encourage learning about methods as well. We need to have more action research on partnerships and how methods actually play out with feedback loops to learning. Mechanistic blue prints won’t work… This is always the challenge as we go to scale. (2.10)</a:t>
            </a:r>
            <a:endParaRPr b="0" lang="en-US" sz="2800" spc="-1" strike="noStrike">
              <a:solidFill>
                <a:srgbClr val="b23b7e"/>
              </a:solidFill>
              <a:latin typeface="Calibri"/>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1242-579C-4A9F-91AF-B18AD82E1D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28240"/>
            <a:ext cx="8305920" cy="1066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nerships and associated platforms offer possible solution</a:t>
            </a:r>
            <a:endParaRPr b="0" lang="en-US" sz="3200" spc="-1" strike="noStrike">
              <a:solidFill>
                <a:srgbClr val="b24d1d"/>
              </a:solidFill>
              <a:latin typeface="Calibri"/>
            </a:endParaRPr>
          </a:p>
        </p:txBody>
      </p:sp>
      <p:pic>
        <p:nvPicPr>
          <p:cNvPr id="354" name="Content Placeholder 4" descr="Untitled.png"/>
          <p:cNvPicPr/>
          <p:nvPr/>
        </p:nvPicPr>
        <p:blipFill>
          <a:blip r:embed="rId1"/>
          <a:stretch/>
        </p:blipFill>
        <p:spPr>
          <a:xfrm>
            <a:off x="0" y="1447920"/>
            <a:ext cx="9144000" cy="4800600"/>
          </a:xfrm>
          <a:prstGeom prst="rect">
            <a:avLst/>
          </a:prstGeom>
          <a:ln w="0">
            <a:noFill/>
          </a:ln>
        </p:spPr>
      </p:pic>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ACC3-A7A6-431E-B225-B7C2A5AB75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Rectangle 5"/>
          <p:cNvSpPr/>
          <p:nvPr/>
        </p:nvSpPr>
        <p:spPr>
          <a:xfrm>
            <a:off x="152280" y="633420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Calibri"/>
              </a:rPr>
              <a:t>Source: Working with National Innovation Pilot Learning Sites and Inter-regional Innovation Platforms -Sub-Saharan Africa Challenge Program by Wale Adekunle</a:t>
            </a:r>
            <a:endParaRPr b="0" lang="en-US" sz="14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37720" y="2362320"/>
            <a:ext cx="7488360" cy="274320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Indeed, one of the challenges I see is how to integrate participatory communications into scaling up strategies that are both effective and sustainable. All of this is deeply embedded in social learning theory and practice.</a:t>
            </a:r>
            <a:endParaRPr b="0" lang="en-US" sz="3000" spc="-1" strike="noStrike">
              <a:solidFill>
                <a:srgbClr val="b23b7e"/>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45E6-7D26-45D4-9272-86CD6ECE72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9" name="TextBox 4"/>
          <p:cNvSpPr/>
          <p:nvPr/>
        </p:nvSpPr>
        <p:spPr>
          <a:xfrm>
            <a:off x="990720" y="1077840"/>
            <a:ext cx="761976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critical role for participatory communications</a:t>
            </a:r>
            <a:endParaRPr b="0" lang="en-US" sz="3200" spc="-1" strike="noStrike">
              <a:solidFill>
                <a:srgbClr val="000000"/>
              </a:solidFill>
              <a:latin typeface="Arial"/>
            </a:endParaRPr>
          </a:p>
        </p:txBody>
      </p:sp>
      <p:sp>
        <p:nvSpPr>
          <p:cNvPr id="360" name="Rectangle 6"/>
          <p:cNvSpPr/>
          <p:nvPr/>
        </p:nvSpPr>
        <p:spPr>
          <a:xfrm>
            <a:off x="4897440" y="50864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Kevin Kamp </a:t>
            </a:r>
            <a:endParaRPr b="0" lang="en-US" sz="20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ynthesis: Fostering cycles of learnings is crucial</a:t>
            </a:r>
            <a:endParaRPr b="0" lang="en-US" sz="3200" spc="-1" strike="noStrike">
              <a:solidFill>
                <a:srgbClr val="b24d1d"/>
              </a:solidFill>
              <a:latin typeface="Calibri"/>
            </a:endParaRPr>
          </a:p>
        </p:txBody>
      </p:sp>
      <p:sp>
        <p:nvSpPr>
          <p:cNvPr id="362" name=""/>
          <p:cNvSpPr txBox="1"/>
          <p:nvPr/>
        </p:nvSpPr>
        <p:spPr>
          <a:xfrm>
            <a:off x="838080" y="2285640"/>
            <a:ext cx="720432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Stakeholder participation processes will </a:t>
            </a:r>
            <a:r>
              <a:rPr b="1" i="1" lang="en-PH" sz="3000" spc="-1" strike="noStrike">
                <a:solidFill>
                  <a:srgbClr val="000000"/>
                </a:solidFill>
                <a:latin typeface="Calibri"/>
                <a:ea typeface="Calibri"/>
              </a:rPr>
              <a:t>(help) </a:t>
            </a:r>
            <a:r>
              <a:rPr b="0" lang="en-PH" sz="3000" spc="-1" strike="noStrike">
                <a:solidFill>
                  <a:srgbClr val="000000"/>
                </a:solidFill>
                <a:latin typeface="Calibri"/>
                <a:ea typeface="Calibri"/>
              </a:rPr>
              <a:t>introduce perspectives and insights that researchers would not otherwise. The challenge is how do we synthesise the knowledge that we acquire from stakeholder networks and feed this into the action process. (1.4)</a:t>
            </a:r>
            <a:endParaRPr b="0" lang="en-US" sz="3000" spc="-1" strike="noStrike">
              <a:solidFill>
                <a:srgbClr val="b23b7e"/>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21A1-DEE8-49CC-86BE-1987156F31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969480" y="1676160"/>
            <a:ext cx="7488360" cy="3352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Outcome based participatory approaches –theory of change for planning, evaluation and organisation building- can help teams within centers and CRPs stay on track in delivering on the consortium goals and agenda (knowing where we want to head, why and how).</a:t>
            </a:r>
            <a:endParaRPr b="0" lang="en-US" sz="3000" spc="-1" strike="noStrike">
              <a:solidFill>
                <a:srgbClr val="b23b7e"/>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E329-1069-4976-8C03-7FD9CCE9B5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6" name="TextBox 4"/>
          <p:cNvSpPr/>
          <p:nvPr/>
        </p:nvSpPr>
        <p:spPr>
          <a:xfrm>
            <a:off x="3200400" y="52578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www.theoryofchange.org</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8377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Arial Black"/>
              </a:rPr>
              <a:t>CGIAR consortium CEO on Partnerships</a:t>
            </a:r>
            <a:endParaRPr b="0" lang="en-US" sz="2800" spc="-1" strike="noStrike">
              <a:solidFill>
                <a:srgbClr val="b24d1d"/>
              </a:solidFill>
              <a:latin typeface="Calibri"/>
            </a:endParaRPr>
          </a:p>
        </p:txBody>
      </p:sp>
      <p:sp>
        <p:nvSpPr>
          <p:cNvPr id="368" name=""/>
          <p:cNvSpPr txBox="1"/>
          <p:nvPr/>
        </p:nvSpPr>
        <p:spPr>
          <a:xfrm>
            <a:off x="457200" y="1722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hile there are no doubt many excellent partnerships in the system, as a whole we need to improve massively on this front;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need to share both budgets and program responsibility more generously with our partners, both upstream and downstream.</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a:t>
            </a:r>
            <a:r>
              <a:rPr b="0" lang="en-PH" sz="2000" spc="-1" strike="noStrike">
                <a:solidFill>
                  <a:srgbClr val="000000"/>
                </a:solidFill>
                <a:latin typeface="Calibri"/>
              </a:rPr>
              <a:t>Aligning our internal research priorities with those of the countries and regions we serve is both a need and an opportunity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Now that our budgets are growing we need to become less defensive and more open as a system, learning from the good examples we do have.</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also need to become much more outward facing – now that we have made very good progress on working better among the Centers, we also need to work better with partners.</a:t>
            </a:r>
            <a:endParaRPr b="0" lang="en-US" sz="2000" spc="-1" strike="noStrike">
              <a:solidFill>
                <a:srgbClr val="b23b7e"/>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from Frank Rijsberman reflections on GCARD, Nov 5</a:t>
            </a:r>
            <a:r>
              <a:rPr b="0" i="1" lang="en-PH" sz="2000" spc="-1" strike="noStrike" baseline="30000">
                <a:solidFill>
                  <a:srgbClr val="000000"/>
                </a:solidFill>
                <a:latin typeface="Calibri"/>
              </a:rPr>
              <a:t>th</a:t>
            </a:r>
            <a:r>
              <a:rPr b="0" i="1" lang="en-PH" sz="2000" spc="-1" strike="noStrike">
                <a:solidFill>
                  <a:srgbClr val="000000"/>
                </a:solidFill>
                <a:latin typeface="Calibri"/>
              </a:rPr>
              <a:t>)</a:t>
            </a:r>
            <a:endParaRPr b="0" lang="en-US" sz="2000" spc="-1" strike="noStrike">
              <a:solidFill>
                <a:srgbClr val="b23b7e"/>
              </a:solidFill>
              <a:latin typeface="Calibri"/>
            </a:endParaRPr>
          </a:p>
        </p:txBody>
      </p:sp>
      <p:sp>
        <p:nvSpPr>
          <p:cNvPr id="3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B8D8-413F-439F-ADBB-688FA00BF0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1DFC-627D-40E2-A933-51AD8E8FB8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8" name="Picture 2" descr="http://image.slidesharecdn.com/carlosperezdelcastillo29octam-121030102821-phpapp02/95/slide-1-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1828440"/>
            <a:ext cx="72043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owards an Enabling Environment for Social Learning (Survey Results)</a:t>
            </a:r>
            <a:endParaRPr b="0" lang="en-US" sz="3600" spc="-1" strike="noStrike">
              <a:solidFill>
                <a:srgbClr val="b24d1d"/>
              </a:solidFill>
              <a:latin typeface="Calibri"/>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515F-A7B6-46E1-BF73-F7462B9C46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45800" y="1294920"/>
            <a:ext cx="748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What does the CGIAR have to do to support and help such approaches (Social Learning related approaches)</a:t>
            </a:r>
            <a:endParaRPr b="0" lang="en-US" sz="2800" spc="-1" strike="noStrike">
              <a:solidFill>
                <a:srgbClr val="b24d1d"/>
              </a:solidFill>
              <a:latin typeface="Calibri"/>
            </a:endParaRPr>
          </a:p>
        </p:txBody>
      </p:sp>
      <p:sp>
        <p:nvSpPr>
          <p:cNvPr id="3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75CA-43D5-4CEB-97D8-D692E5F06D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4" name="TextBox 4"/>
          <p:cNvSpPr/>
          <p:nvPr/>
        </p:nvSpPr>
        <p:spPr>
          <a:xfrm>
            <a:off x="914400" y="3048120"/>
            <a:ext cx="7391520" cy="214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Times New Roman"/>
              </a:rPr>
              <a:t>Social Learning process should allow for the incorporation of lessons from the past- the challenges to not re-invent the wheel and learn from past experiences – </a:t>
            </a:r>
            <a:r>
              <a:rPr b="0" lang="en-US" sz="3000" spc="-1" strike="noStrike">
                <a:solidFill>
                  <a:srgbClr val="000000"/>
                </a:solidFill>
                <a:latin typeface="Calibri"/>
                <a:ea typeface="Times New Roman"/>
              </a:rPr>
              <a:t>Personal correspondence: </a:t>
            </a:r>
            <a:r>
              <a:rPr b="0" i="1" lang="en-US" sz="3000" spc="-1" strike="noStrike">
                <a:solidFill>
                  <a:srgbClr val="000000"/>
                </a:solidFill>
                <a:latin typeface="Calibri"/>
                <a:ea typeface="Times New Roman"/>
              </a:rPr>
              <a:t>Simone Staiger, Nov. 2012 </a:t>
            </a:r>
            <a:endParaRPr b="0" lang="en-US" sz="3000" spc="-1" strike="noStrike">
              <a:solidFill>
                <a:srgbClr val="000000"/>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160" y="1066680"/>
            <a:ext cx="786924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the importance of institutional culture that:</a:t>
            </a:r>
            <a:endParaRPr b="0" lang="en-US" sz="2900" spc="-1" strike="noStrike">
              <a:solidFill>
                <a:srgbClr val="b24d1d"/>
              </a:solidFill>
              <a:latin typeface="Calibri"/>
            </a:endParaRPr>
          </a:p>
        </p:txBody>
      </p:sp>
      <p:sp>
        <p:nvSpPr>
          <p:cNvPr id="376" name=""/>
          <p:cNvSpPr txBox="1"/>
          <p:nvPr/>
        </p:nvSpPr>
        <p:spPr>
          <a:xfrm>
            <a:off x="609480" y="1828800"/>
            <a:ext cx="7925040" cy="4495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cognizes social science as having its own legitimacy (“not a hand maiden of biophysical sci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Values collaboration and understanding of philosophical differ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Has a commitment to learn from </a:t>
            </a:r>
            <a:r>
              <a:rPr b="1" lang="en-US" sz="2600" spc="-1" strike="noStrike" u="sng">
                <a:solidFill>
                  <a:srgbClr val="000000"/>
                </a:solidFill>
                <a:uFillTx/>
                <a:latin typeface="Calibri"/>
                <a:ea typeface="Calibri"/>
              </a:rPr>
              <a:t>previously</a:t>
            </a:r>
            <a:r>
              <a:rPr b="0" lang="en-US" sz="2600" spc="-1" strike="noStrike">
                <a:solidFill>
                  <a:srgbClr val="000000"/>
                </a:solidFill>
                <a:latin typeface="Calibri"/>
                <a:ea typeface="Calibri"/>
              </a:rPr>
              <a:t> demonstrated </a:t>
            </a:r>
            <a:r>
              <a:rPr b="1" lang="en-US" sz="2600" spc="-1" strike="noStrike" u="sng">
                <a:solidFill>
                  <a:srgbClr val="000000"/>
                </a:solidFill>
                <a:uFillTx/>
                <a:latin typeface="Calibri"/>
                <a:ea typeface="Calibri"/>
              </a:rPr>
              <a:t>work</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Understand the need for more experienced social scientist: “We are good at bringing in young researchers and students…”</a:t>
            </a:r>
            <a:endParaRPr b="0" lang="en-US" sz="2600" spc="-1" strike="noStrike">
              <a:solidFill>
                <a:srgbClr val="b23b7e"/>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798B-7229-4914-9635-FA8C7B792A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5235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hange will happen if there are a few “champion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ed for a critical mass of like minded professionals in every organisa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so need for a balanced composition of interdisciplinary research team members (return of former CG staff to the fol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Diversity implies more representation of southern researchers more especially so if social learning is our focus</a:t>
            </a:r>
            <a:endParaRPr b="0" lang="en-US" sz="2800" spc="-1" strike="noStrike">
              <a:solidFill>
                <a:srgbClr val="b23b7e"/>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9FE1-1112-4113-91EB-ADEF221442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a:r>
            <a:r>
              <a:rPr b="0" lang="en-PH" sz="3200" spc="-1" strike="noStrike">
                <a:solidFill>
                  <a:srgbClr val="000000"/>
                </a:solidFill>
                <a:latin typeface="Calibri"/>
              </a:rPr>
              <a:t>We need partners from the countries in the south who have a more detailed understanding on context. If capacity is a constraint we should build that... it strengthens our capacity to understand a place...“</a:t>
            </a:r>
            <a:endParaRPr b="0" lang="en-US" sz="32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Ruth Meinzen Dick</a:t>
            </a:r>
            <a:endParaRPr b="0" lang="en-US" sz="2800" spc="-1" strike="noStrike">
              <a:solidFill>
                <a:srgbClr val="b23b7e"/>
              </a:solidFill>
              <a:latin typeface="Calibri"/>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4285-5441-45BF-8AD0-20AC4F5694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969840" y="1752120"/>
            <a:ext cx="7204320" cy="2971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much of the change is donor driven and how will a bigger buy-in take plac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enior management have a key role in fostering a new environment for change in emphasis, approaches and commitment to development outcomes</a:t>
            </a:r>
            <a:endParaRPr b="0" lang="en-US" sz="2800" spc="-1" strike="noStrike">
              <a:solidFill>
                <a:srgbClr val="b23b7e"/>
              </a:solidFill>
              <a:latin typeface="Calibri"/>
            </a:endParaRPr>
          </a:p>
        </p:txBody>
      </p:sp>
      <p:sp>
        <p:nvSpPr>
          <p:cNvPr id="3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AF13-5684-4F06-9BB8-1C9831C5F2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969840" y="1676520"/>
            <a:ext cx="720432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The incentives structure must be in place. The requirement to deliver outcomes in term of development is a key step. Scientific publications must be considered as only one contribution to agricultural knowledge for development. Other knowledge products and its effects must be compensated. (2.5)</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61CC-4C80-40EB-AB44-4CE648EA25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10663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Black"/>
              </a:rPr>
              <a:t>Question</a:t>
            </a:r>
            <a:r>
              <a:rPr b="0" lang="en-US" sz="2600" spc="-1" strike="noStrike">
                <a:solidFill>
                  <a:srgbClr val="000000"/>
                </a:solidFill>
                <a:latin typeface="Arial Black"/>
              </a:rPr>
              <a:t>: </a:t>
            </a:r>
            <a:br>
              <a:rPr sz="2600"/>
            </a:br>
            <a:r>
              <a:rPr b="0" lang="en-US" sz="2600" spc="-1" strike="noStrike">
                <a:solidFill>
                  <a:srgbClr val="000000"/>
                </a:solidFill>
                <a:latin typeface="Arial Black"/>
              </a:rPr>
              <a:t>Will the way result management is implemented discourage participation?</a:t>
            </a:r>
            <a:endParaRPr b="0" lang="en-US" sz="2600" spc="-1" strike="noStrike">
              <a:solidFill>
                <a:srgbClr val="b24d1d"/>
              </a:solidFill>
              <a:latin typeface="Calibri"/>
            </a:endParaRPr>
          </a:p>
        </p:txBody>
      </p:sp>
      <p:sp>
        <p:nvSpPr>
          <p:cNvPr id="387" name=""/>
          <p:cNvSpPr txBox="1"/>
          <p:nvPr/>
        </p:nvSpPr>
        <p:spPr>
          <a:xfrm>
            <a:off x="990360" y="2590920"/>
            <a:ext cx="7203960" cy="358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results are valued? What about development outcom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learning is difficult to track after all</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ill the recent emphasis on </a:t>
            </a:r>
            <a:r>
              <a:rPr b="1" lang="en-US" sz="2800" spc="-1" strike="noStrike" u="sng">
                <a:solidFill>
                  <a:srgbClr val="000000"/>
                </a:solidFill>
                <a:uFillTx/>
                <a:latin typeface="Calibri"/>
                <a:ea typeface="Calibri"/>
              </a:rPr>
              <a:t>intermediate development outcomes</a:t>
            </a: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provide new windows of opportunity?</a:t>
            </a:r>
            <a:endParaRPr b="0" lang="en-US" sz="2800" spc="-1" strike="noStrike">
              <a:solidFill>
                <a:srgbClr val="b23b7e"/>
              </a:solidFill>
              <a:latin typeface="Calibri"/>
            </a:endParaRPr>
          </a:p>
        </p:txBody>
      </p:sp>
      <p:sp>
        <p:nvSpPr>
          <p:cNvPr id="3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DC19-1DB9-4D54-BB6D-A6F38450AC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Top priority that all of us can work on is to put in place a system of managing and monitoring CRP performance against agreed and prioritized development outcomes, reported in a timely and harmonized fashion. This is in essence what the SRF Action Plan lays out and this is now widely endorsed and the top priority for implementation in 2013. (</a:t>
            </a:r>
            <a:r>
              <a:rPr b="0" i="1" lang="en-PH" sz="2800" spc="-1" strike="noStrike">
                <a:solidFill>
                  <a:srgbClr val="000000"/>
                </a:solidFill>
                <a:latin typeface="Calibri"/>
              </a:rPr>
              <a:t>From Frank Rijsberman reflections on GCARD, Nov 5</a:t>
            </a:r>
            <a:r>
              <a:rPr b="0" i="1" lang="en-PH" sz="2800" spc="-1" strike="noStrike" baseline="30000">
                <a:solidFill>
                  <a:srgbClr val="000000"/>
                </a:solidFill>
                <a:latin typeface="Calibri"/>
              </a:rPr>
              <a:t>th</a:t>
            </a:r>
            <a:r>
              <a:rPr b="0" lang="en-PH" sz="2800" spc="-1" strike="noStrike">
                <a:solidFill>
                  <a:srgbClr val="000000"/>
                </a:solidFill>
                <a:latin typeface="Calibri"/>
              </a:rPr>
              <a:t>)</a:t>
            </a:r>
            <a:endParaRPr b="0" lang="en-US" sz="2800" spc="-1" strike="noStrike">
              <a:solidFill>
                <a:srgbClr val="b23b7e"/>
              </a:solidFill>
              <a:latin typeface="Calibri"/>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D2AA-0065-40FD-8250-EC9ABF3FD0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969840" y="1447920"/>
            <a:ext cx="72043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verall respondents were fairly upbeat about new prospects for social learning method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felt that Senior Management center support is </a:t>
            </a:r>
            <a:r>
              <a:rPr b="0" lang="en-US" sz="2800" spc="-1" strike="noStrike" u="sng">
                <a:solidFill>
                  <a:srgbClr val="000000"/>
                </a:solidFill>
                <a:uFillTx/>
                <a:latin typeface="Calibri"/>
                <a:ea typeface="Calibri"/>
              </a:rPr>
              <a:t>warranted </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entive, recognition and reward mechanisms need to be more explicitly assure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w work-modalities and focus on outcomes have made a difference</a:t>
            </a:r>
            <a:endParaRPr b="0" lang="en-US" sz="2800" spc="-1" strike="noStrike">
              <a:solidFill>
                <a:srgbClr val="b23b7e"/>
              </a:solidFill>
              <a:latin typeface="Calibri"/>
            </a:endParaRPr>
          </a:p>
        </p:txBody>
      </p:sp>
      <p:sp>
        <p:nvSpPr>
          <p:cNvPr id="3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7865-2864-43ED-B3EF-361353A425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323E-C658-4692-A116-3530734CF1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http://image.slidesharecdn.com/carlosperezdelcastillo29octam-121030102821-phpapp02/95/slide-7-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12E0-5BB7-456F-AB04-82CCFB2E3E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5" name="Picture 2" descr="http://image.slidesharecdn.com/carlosperezdelcastillo29octam-121030102821-phpapp02/95/slide-8-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DAA9-5834-43BB-8A7D-4EF88581D7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9" name="Picture 2" descr="http://image.slidesharecdn.com/carlosperezdelcastillo29octam-121030102821-phpapp02/95/slide-10-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7:58:40Z</dcterms:modified>
  <cp:revision>174</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