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1FC9-B34C-40BF-BCC1-0706D958C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C972-876E-4687-BC5D-FA6F42A7B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20906-9D3B-49A1-AD1C-84C8918C5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2C8C5-D0C3-4850-9EAB-41E2F8021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4F513-0813-4AA7-A940-6E504F130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62A22-985E-4693-803F-E1BCBBA94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AC80E-B454-4E13-9A51-ECF68618D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BF2AD-B53E-41CC-96AF-4CFFC5652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B6F0D-A77F-4EB7-AC08-FA300ABAC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9C9A6-C862-442A-9FCC-D325C74F4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0FB5E-01B3-4356-918D-352217B48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1EBFA-1CEE-4ECD-A189-B121FAADD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63F66-17C9-40BE-84D2-F708FBCF9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89BA9-EEAD-4B43-A1A5-6A47ADC98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3F62E-6F00-47B7-A3B0-E5726E7A0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63E29-EDB6-42CF-A797-6F60DE6B0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44545-82FC-42DC-8FE9-346B91333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AF8DB-23E3-44FF-B75D-EBF9A3327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D58DD-6236-43E7-BFC2-104DDB2D4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F460AA-CF42-4567-A337-111445CF42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351518-F45A-4B35-BDB4-591651F99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FF0FA-7BCF-43F1-A8ED-F1484FC3E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3881A-6132-4B26-9BE5-9E2323E43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4AA342-345B-48C2-920B-211034AAA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6ED30-014B-432D-8EFA-E0D99CC30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4DB2A-1269-431B-A79B-93B88F699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1702A-1ADD-4EEE-B108-64859D999A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BB276-FB3D-4387-AC32-1A8527D9D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85504-B71F-4067-BF0F-84F39AE47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DE14B-18D3-487C-B222-CF0F636D1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8BFC32-CA8C-4B91-9131-0731B8C73B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9F6B5C-6E47-4CE8-9588-23A7ADDC42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7FFFA0-4A92-4474-A63E-D0B6DD7B24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C0D33E-A11B-4FC9-BA1E-B5DD7D9D3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C760F7-A995-4B76-923F-4A817E65F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EC319-611E-4FD7-83F9-75426F5A1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0B78A-0895-46FD-8ED2-D0037EC17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7D4791-4220-4984-96C2-63BCA5A10D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AA7FD-247B-4BC2-A9FA-477735A4CD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94041-8D25-4599-AA24-18C4AEE95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D8A74-7EEE-44D3-9F71-26C08AE57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A7D265-EE0A-482E-AB8F-9EB8A78AE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29131-F2F0-4DC3-A6B1-050359BA3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E5FF39-E982-4E20-8CAD-9D36A8B41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2E65F-B2FE-46E8-AA01-A86A1FF932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6EC6C-5E79-4DA3-8294-1D3995404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8470B-EB39-437A-8022-F3F22E92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6219-19D8-4724-8986-97DE48BE4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3BA71-7CE0-4D03-8898-6B81AA154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8984-61CD-4062-9ADC-8E00E5B26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FA51-815D-4F2A-AD1C-342283AC524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1926-842E-44CF-A6F7-9CBA5B0CAB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E8A9-7ECF-4E01-9E9E-A1AA739D6BC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D884-563E-40E2-A53E-29192BF689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295f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e0e7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5E3A-01D8-425A-AA19-4143AC30FD2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A192-0AFB-43F4-B173-65CF80C06A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295f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3565-3E63-4979-B878-082936A0386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EFD4-CC6B-4E5E-A0C2-D236458933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733920" y="48006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CE1C-622E-48E2-9B37-8C12272FB2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838080" y="1879560"/>
            <a:ext cx="7315200" cy="19029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ocial learning in the CGIAR: Highlights of a stocktaking exercise</a:t>
            </a:r>
            <a:endParaRPr b="0" lang="en-US" sz="4400" spc="-1" strike="noStrike">
              <a:solidFill>
                <a:srgbClr val="000000"/>
              </a:solidFill>
              <a:latin typeface="Arial"/>
            </a:endParaRPr>
          </a:p>
        </p:txBody>
      </p:sp>
      <p:sp>
        <p:nvSpPr>
          <p:cNvPr id="184" name="TextBox 4"/>
          <p:cNvSpPr/>
          <p:nvPr/>
        </p:nvSpPr>
        <p:spPr>
          <a:xfrm>
            <a:off x="4495680" y="990720"/>
            <a:ext cx="358164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212"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49D5-BEEE-429E-AF8F-16581050D6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48960" y="1828440"/>
            <a:ext cx="720396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 new approach to transforming AR4D, do we also have a more conducive environment in the CGIAR for Social Learning Approaches?</a:t>
            </a:r>
            <a:endParaRPr b="0" lang="en-US" sz="3600" spc="-1" strike="noStrike">
              <a:solidFill>
                <a:srgbClr val="b24d1d"/>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8769-80C5-42CD-9BDF-79087593DB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6" name="TextBox 4"/>
          <p:cNvSpPr/>
          <p:nvPr/>
        </p:nvSpPr>
        <p:spPr>
          <a:xfrm>
            <a:off x="2362320" y="685800"/>
            <a:ext cx="5333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the survey respondents said?</a:t>
            </a:r>
            <a:endParaRPr b="0" lang="en-US" sz="3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1066320"/>
            <a:ext cx="746748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GIAR might now does have a more conducive climate for</a:t>
            </a:r>
            <a:br>
              <a:rPr sz="3600"/>
            </a:br>
            <a:r>
              <a:rPr b="0" lang="en-US" sz="3600" spc="-1" strike="noStrike">
                <a:solidFill>
                  <a:srgbClr val="000000"/>
                </a:solidFill>
                <a:latin typeface="Calibri"/>
              </a:rPr>
              <a:t>Social Learning (SL).</a:t>
            </a:r>
            <a:endParaRPr b="0" lang="en-US" sz="3600" spc="-1" strike="noStrike">
              <a:solidFill>
                <a:srgbClr val="b24d1d"/>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6F3E-D561-41DE-84C9-A5E8793803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0394-4CE8-4287-A6B9-84228AC9A8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1"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E46A-6B2B-41F6-ACE8-365F7C7474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4"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6"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587D-99B8-4085-A53E-569CBBB3FA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29"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hanges were often the result of donor pressur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donor pressures to bridge the R&amp;D gaps remain?</a:t>
            </a:r>
            <a:endParaRPr b="0" lang="en-US" sz="3200" spc="-1" strike="noStrike">
              <a:solidFill>
                <a:srgbClr val="b23b7e"/>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E1D9-EC52-4FA0-B702-9E03154EB0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F0FB-9F42-4AF3-9DFF-EBDDAC1B21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5B9B-A139-4173-8F4C-B7707711ED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Rectangle 4"/>
          <p:cNvSpPr/>
          <p:nvPr/>
        </p:nvSpPr>
        <p:spPr>
          <a:xfrm>
            <a:off x="380880" y="1973160"/>
            <a:ext cx="8229600" cy="350676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are many implementing groups, facilitators, and communities of practice experts as there are methods“</a:t>
            </a:r>
            <a:endParaRPr b="0" lang="en-US" sz="2800" spc="-1" strike="noStrike">
              <a:solidFill>
                <a:srgbClr val="000000"/>
              </a:solidFill>
              <a:latin typeface="Arial"/>
            </a:endParaRPr>
          </a:p>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0DE9-9E65-404A-9A56-BF8A64CA45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llenges remain:</a:t>
            </a:r>
            <a:endParaRPr b="0" lang="en-US" sz="3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6"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3276-2324-4BF1-98A3-60B3E99D1E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
        <p:nvSpPr>
          <p:cNvPr id="240"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9CB6-0921-453F-B51B-A0DB39D3C4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95D8-F9F3-4084-9916-5D92274C6D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5FD6-E161-482F-83AA-78C97B683E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4BF0-9B95-4FE4-B278-6BB35FA78E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D782-A380-45CD-9A14-C649531994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09480" y="1676520"/>
            <a:ext cx="8001000" cy="380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2200" spc="-1" strike="noStrike">
                <a:solidFill>
                  <a:srgbClr val="000000"/>
                </a:solidFill>
                <a:latin typeface="Calibri"/>
                <a:ea typeface="Calibri"/>
              </a:rPr>
              <a:t>local</a:t>
            </a:r>
            <a:r>
              <a:rPr b="0" lang="en-PH" sz="22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2200" spc="-1" strike="noStrike">
                <a:solidFill>
                  <a:srgbClr val="000000"/>
                </a:solidFill>
                <a:latin typeface="Calibri"/>
                <a:ea typeface="Calibri"/>
              </a:rPr>
              <a:t>Carol Colfer</a:t>
            </a:r>
            <a:endParaRPr b="0" lang="en-US" sz="2200" spc="-1" strike="noStrike">
              <a:solidFill>
                <a:srgbClr val="000000"/>
              </a:solidFill>
              <a:latin typeface="Arial"/>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FC2F-81AE-470C-AA77-47A88194C1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66652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Learning in</a:t>
            </a:r>
            <a:br>
              <a:rPr sz="4000"/>
            </a:br>
            <a:r>
              <a:rPr b="1" lang="en-US" sz="4000" spc="-1" strike="noStrike">
                <a:solidFill>
                  <a:srgbClr val="000000"/>
                </a:solidFill>
                <a:latin typeface="Calibri"/>
              </a:rPr>
              <a:t>Support of CCAF’s</a:t>
            </a:r>
            <a:br>
              <a:rPr sz="4000"/>
            </a:br>
            <a:r>
              <a:rPr b="1" lang="en-US" sz="4000" spc="-1" strike="noStrike">
                <a:solidFill>
                  <a:srgbClr val="000000"/>
                </a:solidFill>
                <a:latin typeface="Calibri"/>
              </a:rPr>
              <a:t>Theme 4 Objectives</a:t>
            </a:r>
            <a:endParaRPr b="0" lang="en-US" sz="4000" spc="-1" strike="noStrike">
              <a:solidFill>
                <a:srgbClr val="b24d1d"/>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2231-330E-497A-B750-9CAC1E4E5B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FDE4-371E-4AFD-9267-EC504DF173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BC79-FC86-4188-A902-580498C49D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DFA0-163D-4E26-BAE0-F641E8775A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685440"/>
            <a:ext cx="8001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9" name=""/>
          <p:cNvSpPr txBox="1"/>
          <p:nvPr/>
        </p:nvSpPr>
        <p:spPr>
          <a:xfrm>
            <a:off x="1025280" y="2285640"/>
            <a:ext cx="720396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5 days in November-December 2012 for stocktaking</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days in January-February 2013 for preparation of working paper and revised powerpoint presentation</a:t>
            </a:r>
            <a:endParaRPr b="0" lang="en-US" sz="3200" spc="-1" strike="noStrike">
              <a:solidFill>
                <a:srgbClr val="b23b7e"/>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52D9-F549-4A2D-898B-9162DC121B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BDEB-FC95-4F57-BC69-E036634F8B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911F-3D5E-4E37-93EE-942572564B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9D49E-DF47-4C55-A829-E72497EC69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72"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3"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8080" y="1523880"/>
            <a:ext cx="7772400" cy="41911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 a AR4D framework, a research related interventions are needed in at least three levels:</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COMMUNITY LEVEL: Community-based biodiversity management, adaptive co -management, co-management, etc.</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MULTISCALE LEVEL: Innovation platforms, learning alliances, multi-stakeholder platforms, etc.</a:t>
            </a:r>
            <a:endParaRPr b="0" lang="en-US" sz="2500" spc="-1" strike="noStrike">
              <a:solidFill>
                <a:srgbClr val="b23b7e"/>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23b7e"/>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8899-06CE-4FBB-9BD9-60101B0695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6" descr="Untitled1.png"/>
          <p:cNvPicPr/>
          <p:nvPr/>
        </p:nvPicPr>
        <p:blipFill>
          <a:blip r:embed="rId1"/>
          <a:stretch/>
        </p:blipFill>
        <p:spPr>
          <a:xfrm>
            <a:off x="2362320" y="1603440"/>
            <a:ext cx="4952880" cy="4035240"/>
          </a:xfrm>
          <a:prstGeom prst="rect">
            <a:avLst/>
          </a:prstGeom>
          <a:ln w="0">
            <a:noFill/>
          </a:ln>
        </p:spPr>
      </p:pic>
      <p:sp>
        <p:nvSpPr>
          <p:cNvPr id="277" name=""/>
          <p:cNvSpPr txBox="1"/>
          <p:nvPr/>
        </p:nvSpPr>
        <p:spPr>
          <a:xfrm>
            <a:off x="2285640" y="685800"/>
            <a:ext cx="563868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alibri"/>
              </a:rPr>
              <a:t>At whatever scale we work a learning framework should apply... </a:t>
            </a:r>
            <a:endParaRPr b="0" lang="en-US" sz="2400" spc="-1" strike="noStrike">
              <a:solidFill>
                <a:srgbClr val="b23b7e"/>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FAD1-174F-44F1-96C0-E78596AE81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837720" y="5562720"/>
            <a:ext cx="80773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Need for learning framework</a:t>
            </a:r>
            <a:endParaRPr b="0" lang="en-US" sz="2800" spc="-1" strike="noStrike">
              <a:solidFill>
                <a:srgbClr val="b24d1d"/>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 is crucial</a:t>
            </a:r>
            <a:endParaRPr b="0" lang="en-US" sz="3200" spc="-1" strike="noStrike">
              <a:solidFill>
                <a:srgbClr val="b24d1d"/>
              </a:solidFill>
              <a:latin typeface="Calibri"/>
            </a:endParaRPr>
          </a:p>
        </p:txBody>
      </p:sp>
      <p:sp>
        <p:nvSpPr>
          <p:cNvPr id="281"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AFE2-7D91-4716-BEE6-7A94B9057D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284" name=""/>
          <p:cNvSpPr txBox="1"/>
          <p:nvPr/>
        </p:nvSpPr>
        <p:spPr>
          <a:xfrm>
            <a:off x="969840" y="2209680"/>
            <a:ext cx="7204320" cy="1524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hat the stocktaking exercise came up with</a:t>
            </a:r>
            <a:endParaRPr b="0" lang="en-US" sz="4000" spc="-1" strike="noStrike">
              <a:solidFill>
                <a:srgbClr val="b23b7e"/>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9DC1-31DB-45BA-B443-3C9C839FFD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33160" y="2057400"/>
            <a:ext cx="830556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32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5F31-1F62-4413-9EB4-030BAC93A3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62120" y="2209320"/>
            <a:ext cx="7488000" cy="2590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Check out the cases recommended by respondents in this survey</a:t>
            </a:r>
            <a:endParaRPr b="0" lang="en-US" sz="3800" spc="-1" strike="noStrike">
              <a:solidFill>
                <a:srgbClr val="b23b7e"/>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C62D-9311-4B58-82C7-D615AD1E19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9BBA-832A-4736-AE47-7328C014FA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92" name="Group 2"/>
          <p:cNvGrpSpPr/>
          <p:nvPr/>
        </p:nvGrpSpPr>
        <p:grpSpPr>
          <a:xfrm>
            <a:off x="747360" y="990720"/>
            <a:ext cx="7719840" cy="5498640"/>
            <a:chOff x="747360" y="990720"/>
            <a:chExt cx="7719840" cy="5498640"/>
          </a:xfrm>
        </p:grpSpPr>
        <p:sp>
          <p:nvSpPr>
            <p:cNvPr id="29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9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9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9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9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9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9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0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0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0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0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0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0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0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0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0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0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1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1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1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1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1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1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1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2" name=""/>
          <p:cNvSpPr txBox="1"/>
          <p:nvPr/>
        </p:nvSpPr>
        <p:spPr>
          <a:xfrm>
            <a:off x="380880" y="1599840"/>
            <a:ext cx="838224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view of secondary literature, websites and extensive personal corresponden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specific review limited to website-research and survey respondent inpu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ilation of Illustrative Cases (128)</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duct of surveys ( one-to-one) and analysis - respondents (47) and personal correspondence (33)</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eparation of powerpoint presentation, promising cases collection and working paper</a:t>
            </a:r>
            <a:endParaRPr b="0" lang="en-US" sz="28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721A-CE47-4566-AD63-04F5CE47C2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4606-D982-4AA7-808A-75B1919A5B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FBD8-3222-4403-802A-110C21E646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444F-AFC6-42C4-84D1-F622660A43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0D0D-EDAB-44FD-A889-695AA894F4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5"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27"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345E-508E-47D0-9442-7DFE99BC50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213D-EEE9-4935-A2D4-0D409AB05C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1"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1F90-F6FB-49A9-BDE3-8E11BEE8E5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96D4-BC01-4A30-B3CA-74BD99109E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37"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B1FB-3FF4-497D-8B07-FC0FF4F1B8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40" name="Content Placeholder 4" descr="Untitled.png"/>
          <p:cNvPicPr/>
          <p:nvPr/>
        </p:nvPicPr>
        <p:blipFill>
          <a:blip r:embed="rId1"/>
          <a:stretch/>
        </p:blipFill>
        <p:spPr>
          <a:xfrm>
            <a:off x="0" y="1447920"/>
            <a:ext cx="9144000" cy="4800600"/>
          </a:xfrm>
          <a:prstGeom prst="rect">
            <a:avLst/>
          </a:prstGeom>
          <a:ln w="0">
            <a:noFill/>
          </a:ln>
        </p:spPr>
      </p:pic>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9CAC-5505-430C-9065-CF09A21AC1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2133360"/>
            <a:ext cx="800100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form in CGIAR:</a:t>
            </a:r>
            <a:br>
              <a:rPr sz="4800"/>
            </a:br>
            <a:r>
              <a:rPr b="1" lang="en-US" sz="4800" spc="-1" strike="noStrike">
                <a:solidFill>
                  <a:srgbClr val="000000"/>
                </a:solidFill>
                <a:latin typeface="Calibri"/>
              </a:rPr>
              <a:t>Addressing Development Challenges More Directly</a:t>
            </a:r>
            <a:endParaRPr b="0" lang="en-US" sz="4800" spc="-1" strike="noStrike">
              <a:solidFill>
                <a:srgbClr val="b24d1d"/>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2241-FB07-44BF-890B-4C3C3186A0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Title 1"/>
          <p:cNvSpPr/>
          <p:nvPr/>
        </p:nvSpPr>
        <p:spPr>
          <a:xfrm>
            <a:off x="3048120" y="1066680"/>
            <a:ext cx="327636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7E0F-87E0-4046-9155-9CFCDAE3B6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46"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0BCD-A922-469B-BD95-A69F077479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B932-748B-4AD3-AE16-75917874B9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53"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1844-3058-4BEF-85B2-0D937D4128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5CD2-33BC-4158-8801-201FB12793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D0EF-EEC4-46AA-862D-8CBBCAB8E9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60"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00B2-408A-4082-855D-FFF5A5002E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0360" y="1219320"/>
            <a:ext cx="7203960" cy="5486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The incentives structure must be in place. The requirement to deliver outcomes in term of development is a key step. </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a:t>
            </a:r>
            <a:r>
              <a:rPr b="0" lang="en-US" sz="2600" spc="-1" strike="noStrike">
                <a:solidFill>
                  <a:srgbClr val="000000"/>
                </a:solidFill>
                <a:latin typeface="Calibri"/>
                <a:ea typeface="Calibri"/>
              </a:rPr>
              <a:t>enior management have a key role in fostering a new environment for change in emphasis, approaches and commitment to development outcom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cientific publications must be considered as only one contribution to agricultural knowledge for development. Other knowledge products and its effects must be compensated. (2.5)</a:t>
            </a:r>
            <a:endParaRPr b="0" lang="en-US" sz="2600" spc="-1" strike="noStrike">
              <a:solidFill>
                <a:srgbClr val="b23b7e"/>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0D58-3460-48F1-AF59-995127C381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840" y="1143000"/>
            <a:ext cx="7204320" cy="449568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pondents were fairly upbeat about new prospects for social learning method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78B6-9D36-4B75-AB17-712A7274D2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a:t>
            </a:r>
            <a:r>
              <a:rPr b="1" lang="en-PH" sz="2800" spc="-1" strike="noStrike" u="sng">
                <a:solidFill>
                  <a:srgbClr val="ff0000"/>
                </a:solidFill>
                <a:uFillTx/>
                <a:latin typeface="Calibri"/>
              </a:rPr>
              <a:t>development outcomes</a:t>
            </a:r>
            <a:r>
              <a:rPr b="0" lang="en-PH" sz="2800" spc="-1" strike="noStrike">
                <a:solidFill>
                  <a:srgbClr val="000000"/>
                </a:solidFill>
                <a:latin typeface="Calibri"/>
              </a:rPr>
              <a:t>,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D266-5A77-453A-976D-038F6C3B67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14A5-16D9-4167-B4DD-66E4D9CB26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9"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4C99-4761-47CE-83F3-FA7606AD0F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TextBox 4"/>
          <p:cNvSpPr/>
          <p:nvPr/>
        </p:nvSpPr>
        <p:spPr>
          <a:xfrm>
            <a:off x="533520" y="1935000"/>
            <a:ext cx="82296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s the research community ready to respond to these challenges? In general, the 47 respondents and 33 correspondents were optimistic about the prospects for change.</a:t>
            </a:r>
            <a:endParaRPr b="0" lang="en-US" sz="4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5388-48F8-49F2-A099-D8FF08A27E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4FDA-88A0-406D-8325-70660BD296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E761-D062-4127-895C-3286531B74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0"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28T13:09:31Z</dcterms:modified>
  <cp:revision>208</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