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0.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move the slide</a:t>
            </a:r>
            <a:endParaRPr b="0" lang="en-US" sz="3600" spc="-1" strike="noStrike">
              <a:solidFill>
                <a:srgbClr val="b24d1d"/>
              </a:solidFill>
              <a:latin typeface="Calibri"/>
            </a:endParaRPr>
          </a:p>
        </p:txBody>
      </p:sp>
      <p:sp>
        <p:nvSpPr>
          <p:cNvPr id="1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C7B93-6355-4298-9E39-05E436490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Calibri"/>
              <a:ea typeface="Cordia New"/>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BD5A-0F4F-49D8-8322-1B4803D47C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02C9E-851A-40EC-9CF9-992141442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3BF25-88CB-4C0D-AE67-67A98FA6D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1FC23-86D8-461B-B30F-89A669136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AE62D-A7FC-471E-B65F-8225B46A3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BF6C46-EA5A-44D3-B407-31D7E14E44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D811C-E4AA-4E43-A06A-07F9D56D3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56E07-10CE-4185-AB2E-F2F0FF60BE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0958F-6F7F-4C26-8BB0-9397CB33A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3C46D-6204-4FC0-85B0-1B29E7FBA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26006-6E6C-4F06-9EE1-C13BD0A27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473B8-5970-43CF-A4CF-DC29E2CE2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6CB46-5A63-41E3-972A-AAD818C68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53556-46D9-4F24-9482-D1ED009C2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5887D-D76F-41C6-8D3C-0C1453AB2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54FAE-F809-417D-A7C0-632281B50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A399C8-F7F6-46DD-BCAA-1E41B55730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7F6D5A-0FEC-4915-8445-F17B548907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655225-E13D-4F89-8A34-E06F58E168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74B092-0B27-4E11-A140-71C835D420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438E77-9B88-46E8-9261-56D65BAF5E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E6BC15-AF5D-447A-B7C6-1A46028FD9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0C7501-1E71-4D26-A149-D9DF50DA05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9BF58-940C-4D95-850F-B0C02C605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133BC4-183D-42AB-B94B-DF1BFB1E27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C8C8C2-7FB4-44CE-A620-583334C7A3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5F780A-A12E-4A96-8142-3E664112D8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67B6C8-937B-4B08-9409-B205FB28F3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4CD9FE-E6C9-49E5-9A2E-EDA8DAAE8B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F88C16-7E00-4EB0-BADA-1DE12C4F6A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CE1E29-86E6-4132-BF85-0C2FEFDCD5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F1584B-CFE6-466E-8AC0-BB90DABEB3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C5B5EE-B7D2-4DCA-A8D1-863A916EBA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DAF670-DC6B-470D-88B2-9B40248635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1CE86-4C05-4CD6-8A06-40AE1C922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AFDB30-DE05-434B-836A-FBE470F88F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8B43AF-40F8-44F4-8C2B-BA206750E9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4BA79E-31AA-4F63-9312-47B6F4F922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C5FA47-933A-4389-9BEE-44925B332A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118904-2D18-4CD2-B309-BD5DF91113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7E30BC-E3E2-463D-A2B3-80080C16D3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2FCBB8-716D-4ABA-A56B-017A63D8C9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1F03AE-9BBD-4FAC-82CB-E6FF2B33A0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6119D4-FF4E-468B-BB86-376AF52D44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4A804-9599-49CB-A45E-5589B24D5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C48E7-82BF-4B1D-9182-7127594FA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CF51A-D80C-4A06-8AD2-5DDA476F1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F55C1-8945-4783-A00A-D2954D084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D8C24-3E63-4960-A5CD-DB08A08CA1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D73F5-185A-4635-BAEC-93AC6CDA227B}"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0D414-BD25-430C-B2D1-9BBA96EE624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46916-3138-44F2-946E-D6678D4BC778}"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05BF2-7BC2-42B7-9B45-0CA36F85283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custGeom>
            <a:avLst/>
            <a:gdLst/>
            <a:ahLst/>
            <a:rect l="l" t="t" r="r" b="b"/>
            <a:pathLst>
              <a:path w="17280" h="12132">
                <a:moveTo>
                  <a:pt x="17280" y="12123"/>
                </a:moveTo>
                <a:lnTo>
                  <a:pt x="0" y="12132"/>
                </a:lnTo>
                <a:lnTo>
                  <a:pt x="2" y="4163"/>
                </a:lnTo>
                <a:lnTo>
                  <a:pt x="262" y="3633"/>
                </a:lnTo>
                <a:lnTo>
                  <a:pt x="567" y="3147"/>
                </a:lnTo>
                <a:lnTo>
                  <a:pt x="912" y="2704"/>
                </a:lnTo>
                <a:lnTo>
                  <a:pt x="1295" y="2299"/>
                </a:lnTo>
                <a:lnTo>
                  <a:pt x="1714" y="1931"/>
                </a:lnTo>
                <a:lnTo>
                  <a:pt x="2166" y="1602"/>
                </a:lnTo>
                <a:lnTo>
                  <a:pt x="2649" y="1308"/>
                </a:lnTo>
                <a:lnTo>
                  <a:pt x="3160" y="1048"/>
                </a:lnTo>
                <a:lnTo>
                  <a:pt x="3696" y="820"/>
                </a:lnTo>
                <a:lnTo>
                  <a:pt x="4255" y="623"/>
                </a:lnTo>
                <a:lnTo>
                  <a:pt x="4835" y="457"/>
                </a:lnTo>
                <a:lnTo>
                  <a:pt x="5433" y="319"/>
                </a:lnTo>
                <a:lnTo>
                  <a:pt x="6047" y="207"/>
                </a:lnTo>
                <a:lnTo>
                  <a:pt x="6673" y="121"/>
                </a:lnTo>
                <a:lnTo>
                  <a:pt x="7311" y="59"/>
                </a:lnTo>
                <a:lnTo>
                  <a:pt x="7955" y="19"/>
                </a:lnTo>
                <a:lnTo>
                  <a:pt x="8605" y="0"/>
                </a:lnTo>
                <a:lnTo>
                  <a:pt x="9259" y="1"/>
                </a:lnTo>
                <a:lnTo>
                  <a:pt x="9911" y="20"/>
                </a:lnTo>
                <a:lnTo>
                  <a:pt x="10562" y="55"/>
                </a:lnTo>
                <a:lnTo>
                  <a:pt x="11209" y="107"/>
                </a:lnTo>
                <a:lnTo>
                  <a:pt x="11848" y="172"/>
                </a:lnTo>
                <a:lnTo>
                  <a:pt x="12477" y="250"/>
                </a:lnTo>
                <a:lnTo>
                  <a:pt x="13094" y="338"/>
                </a:lnTo>
                <a:lnTo>
                  <a:pt x="13695" y="435"/>
                </a:lnTo>
                <a:lnTo>
                  <a:pt x="14280" y="542"/>
                </a:lnTo>
                <a:lnTo>
                  <a:pt x="14845" y="655"/>
                </a:lnTo>
                <a:lnTo>
                  <a:pt x="15387" y="772"/>
                </a:lnTo>
                <a:lnTo>
                  <a:pt x="15904" y="894"/>
                </a:lnTo>
                <a:lnTo>
                  <a:pt x="16393" y="1019"/>
                </a:lnTo>
                <a:lnTo>
                  <a:pt x="16853" y="1144"/>
                </a:lnTo>
                <a:lnTo>
                  <a:pt x="17280" y="1268"/>
                </a:lnTo>
                <a:lnTo>
                  <a:pt x="17280" y="1980"/>
                </a:lnTo>
                <a:lnTo>
                  <a:pt x="17280" y="2678"/>
                </a:lnTo>
                <a:lnTo>
                  <a:pt x="17280" y="3364"/>
                </a:lnTo>
                <a:lnTo>
                  <a:pt x="17280" y="4043"/>
                </a:lnTo>
                <a:lnTo>
                  <a:pt x="17280" y="4712"/>
                </a:lnTo>
                <a:lnTo>
                  <a:pt x="17280" y="5377"/>
                </a:lnTo>
                <a:lnTo>
                  <a:pt x="17280" y="6038"/>
                </a:lnTo>
                <a:lnTo>
                  <a:pt x="17280" y="6696"/>
                </a:lnTo>
                <a:lnTo>
                  <a:pt x="17280" y="7355"/>
                </a:lnTo>
                <a:lnTo>
                  <a:pt x="17280" y="8015"/>
                </a:lnTo>
                <a:lnTo>
                  <a:pt x="17280" y="8680"/>
                </a:lnTo>
                <a:lnTo>
                  <a:pt x="17280" y="9350"/>
                </a:lnTo>
                <a:lnTo>
                  <a:pt x="17280" y="10027"/>
                </a:lnTo>
                <a:lnTo>
                  <a:pt x="17280" y="10714"/>
                </a:lnTo>
                <a:lnTo>
                  <a:pt x="17280" y="11413"/>
                </a:lnTo>
                <a:lnTo>
                  <a:pt x="17280" y="12123"/>
                </a:lnTo>
                <a:close/>
              </a:path>
            </a:pathLst>
          </a:custGeom>
          <a:solidFill>
            <a:srgbClr val="295f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9"/>
          <p:cNvSpPr/>
          <p:nvPr/>
        </p:nvSpPr>
        <p:spPr>
          <a:xfrm flipV="1">
            <a:off x="-25200" y="4889160"/>
            <a:ext cx="8839440" cy="327672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e0e7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8"/>
          <p:cNvSpPr/>
          <p:nvPr/>
        </p:nvSpPr>
        <p:spPr>
          <a:xfrm flipV="1">
            <a:off x="-25200" y="4785120"/>
            <a:ext cx="9144000" cy="322740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6585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5"/>
          <p:cNvSpPr/>
          <p:nvPr/>
        </p:nvSpPr>
        <p:spPr>
          <a:xfrm>
            <a:off x="1440" y="268200"/>
            <a:ext cx="9142560" cy="176076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c1ce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6"/>
          <p:cNvSpPr/>
          <p:nvPr/>
        </p:nvSpPr>
        <p:spPr>
          <a:xfrm>
            <a:off x="523800" y="190440"/>
            <a:ext cx="8620200" cy="165888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6585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83E60-D13B-4C32-99EC-928616937CA5}"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D58DC-A4D7-4C1F-829A-E97F125A3B6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c1ce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6"/>
          <p:cNvSpPr/>
          <p:nvPr/>
        </p:nvSpPr>
        <p:spPr>
          <a:xfrm>
            <a:off x="533520" y="322200"/>
            <a:ext cx="8610480" cy="158292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6585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8"/>
          <p:cNvSpPr/>
          <p:nvPr/>
        </p:nvSpPr>
        <p:spPr>
          <a:xfrm>
            <a:off x="-9360" y="4572000"/>
            <a:ext cx="9153360" cy="2309760"/>
          </a:xfrm>
          <a:custGeom>
            <a:avLst/>
            <a:gdLst/>
            <a:ahLst/>
            <a:rect l="l" t="t" r="r" b="b"/>
            <a:pathLst>
              <a:path w="9154274" h="2476072">
                <a:moveTo>
                  <a:pt x="0" y="1202077"/>
                </a:moveTo>
                <a:cubicBezTo>
                  <a:pt x="875016" y="1451225"/>
                  <a:pt x="2273156" y="1880171"/>
                  <a:pt x="3996647" y="1890445"/>
                </a:cubicBezTo>
                <a:cubicBezTo>
                  <a:pt x="7798941" y="1960652"/>
                  <a:pt x="8793822" y="505146"/>
                  <a:pt x="9154274" y="0"/>
                </a:cubicBezTo>
                <a:lnTo>
                  <a:pt x="9154274" y="2476072"/>
                </a:lnTo>
                <a:lnTo>
                  <a:pt x="0" y="2455524"/>
                </a:lnTo>
                <a:cubicBezTo>
                  <a:pt x="3425" y="2027434"/>
                  <a:pt x="6849" y="1599344"/>
                  <a:pt x="0" y="1202077"/>
                </a:cubicBezTo>
                <a:close/>
              </a:path>
            </a:pathLst>
          </a:custGeom>
          <a:solidFill>
            <a:srgbClr val="295f7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Freeform 9"/>
          <p:cNvSpPr/>
          <p:nvPr/>
        </p:nvSpPr>
        <p:spPr>
          <a:xfrm flipV="1">
            <a:off x="0" y="4113720"/>
            <a:ext cx="8991720" cy="380988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c1ce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9"/>
          <p:cNvSpPr/>
          <p:nvPr/>
        </p:nvSpPr>
        <p:spPr>
          <a:xfrm flipV="1">
            <a:off x="0" y="4570920"/>
            <a:ext cx="9144000" cy="325116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6585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023C8-F4E6-4ACD-ADE5-097212B2FDEA}"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4FDC2-E3C0-4674-8D13-220E5B0FAF1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733920" y="4800600"/>
            <a:ext cx="4038480" cy="457200"/>
          </a:xfrm>
          <a:prstGeom prst="rect">
            <a:avLst/>
          </a:prstGeom>
          <a:noFill/>
          <a:ln w="0">
            <a:noFill/>
          </a:ln>
        </p:spPr>
        <p:txBody>
          <a:bodyPr anchor="t">
            <a:normAutofit/>
          </a:bodyPr>
          <a:p>
            <a:pPr marL="343080" indent="-343080"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Julian F. Gonsalves PhD.</a:t>
            </a:r>
            <a:endParaRPr b="0" lang="en-US" sz="2200" spc="-1" strike="noStrike">
              <a:solidFill>
                <a:srgbClr val="b23b7e"/>
              </a:solidFill>
              <a:latin typeface="Calibri"/>
            </a:endParaRPr>
          </a:p>
        </p:txBody>
      </p:sp>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597F4-0047-4E24-9F34-FCF9CC460D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TextBox 4"/>
          <p:cNvSpPr/>
          <p:nvPr/>
        </p:nvSpPr>
        <p:spPr>
          <a:xfrm>
            <a:off x="838080" y="1879560"/>
            <a:ext cx="7315200" cy="19029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Social learning in the CGIAR: Highlights of a stocktaking exercise</a:t>
            </a:r>
            <a:endParaRPr b="0" lang="en-US" sz="4400" spc="-1" strike="noStrike">
              <a:solidFill>
                <a:srgbClr val="000000"/>
              </a:solidFill>
              <a:latin typeface="Arial"/>
            </a:endParaRPr>
          </a:p>
        </p:txBody>
      </p:sp>
      <p:sp>
        <p:nvSpPr>
          <p:cNvPr id="184" name="TextBox 4"/>
          <p:cNvSpPr/>
          <p:nvPr/>
        </p:nvSpPr>
        <p:spPr>
          <a:xfrm>
            <a:off x="4495680" y="990720"/>
            <a:ext cx="3581640" cy="596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Draft for Discussion</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cience Meeting</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March 2013</a:t>
            </a:r>
            <a:endParaRPr b="0" lang="en-US" sz="11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8377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Arial Black"/>
              </a:rPr>
              <a:t>CGIAR consortium CEO on Partnerships</a:t>
            </a:r>
            <a:endParaRPr b="0" lang="en-US" sz="2800" spc="-1" strike="noStrike">
              <a:solidFill>
                <a:srgbClr val="b24d1d"/>
              </a:solidFill>
              <a:latin typeface="Calibri"/>
            </a:endParaRPr>
          </a:p>
        </p:txBody>
      </p:sp>
      <p:sp>
        <p:nvSpPr>
          <p:cNvPr id="212" name=""/>
          <p:cNvSpPr txBox="1"/>
          <p:nvPr/>
        </p:nvSpPr>
        <p:spPr>
          <a:xfrm>
            <a:off x="457200" y="17226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hile there are no doubt many excellent partnerships in the system, as a whole we need to improve massively on this front; </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e need to share both budgets and program responsibility more generously with our partners, both upstream and downstream.</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a:t>
            </a:r>
            <a:r>
              <a:rPr b="0" lang="en-PH" sz="2000" spc="-1" strike="noStrike">
                <a:solidFill>
                  <a:srgbClr val="000000"/>
                </a:solidFill>
                <a:latin typeface="Calibri"/>
              </a:rPr>
              <a:t>Aligning our internal research priorities with those of the countries and regions we serve is both a need and an opportunity </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Now that our budgets are growing we need to become less defensive and more open as a system, learning from the good examples we do have.</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e also need to become much more outward facing – now that we have made very good progress on working better among the Centers, we also need to work better with partners.</a:t>
            </a:r>
            <a:endParaRPr b="0" lang="en-US" sz="2000" spc="-1" strike="noStrike">
              <a:solidFill>
                <a:srgbClr val="b23b7e"/>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rPr>
              <a:t>	</a:t>
            </a:r>
            <a:r>
              <a:rPr b="0" i="1" lang="en-PH" sz="2000" spc="-1" strike="noStrike">
                <a:solidFill>
                  <a:srgbClr val="000000"/>
                </a:solidFill>
                <a:latin typeface="Calibri"/>
              </a:rPr>
              <a:t>	</a:t>
            </a:r>
            <a:r>
              <a:rPr b="0" i="1" lang="en-PH" sz="2000" spc="-1" strike="noStrike">
                <a:solidFill>
                  <a:srgbClr val="000000"/>
                </a:solidFill>
                <a:latin typeface="Calibri"/>
              </a:rPr>
              <a:t>	</a:t>
            </a:r>
            <a:r>
              <a:rPr b="0" i="1" lang="en-PH" sz="2000" spc="-1" strike="noStrike">
                <a:solidFill>
                  <a:srgbClr val="000000"/>
                </a:solidFill>
                <a:latin typeface="Calibri"/>
              </a:rPr>
              <a:t>(from Frank Rijsberman reflections on GCARD, Nov 5</a:t>
            </a:r>
            <a:r>
              <a:rPr b="0" i="1" lang="en-PH" sz="2000" spc="-1" strike="noStrike" baseline="30000">
                <a:solidFill>
                  <a:srgbClr val="000000"/>
                </a:solidFill>
                <a:latin typeface="Calibri"/>
              </a:rPr>
              <a:t>th</a:t>
            </a:r>
            <a:r>
              <a:rPr b="0" i="1" lang="en-PH" sz="2000" spc="-1" strike="noStrike">
                <a:solidFill>
                  <a:srgbClr val="000000"/>
                </a:solidFill>
                <a:latin typeface="Calibri"/>
              </a:rPr>
              <a:t>)</a:t>
            </a:r>
            <a:endParaRPr b="0" lang="en-US" sz="2000" spc="-1" strike="noStrike">
              <a:solidFill>
                <a:srgbClr val="b23b7e"/>
              </a:solidFill>
              <a:latin typeface="Calibri"/>
            </a:endParaRPr>
          </a:p>
        </p:txBody>
      </p:sp>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0517E-3E55-4B93-89C0-32C254F433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48960" y="1828440"/>
            <a:ext cx="7203960" cy="3505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ith the new approach to transforming AR4D, do we also have a more conducive environment in the CGIAR for Social Learning Approaches?</a:t>
            </a:r>
            <a:endParaRPr b="0" lang="en-US" sz="3600" spc="-1" strike="noStrike">
              <a:solidFill>
                <a:srgbClr val="b24d1d"/>
              </a:solidFill>
              <a:latin typeface="Calibri"/>
            </a:endParaRPr>
          </a:p>
        </p:txBody>
      </p:sp>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8B51F-3D25-4596-8CCE-E11426352D3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6" name="TextBox 4"/>
          <p:cNvSpPr/>
          <p:nvPr/>
        </p:nvSpPr>
        <p:spPr>
          <a:xfrm>
            <a:off x="2362320" y="685800"/>
            <a:ext cx="53337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What the survey respondents said?</a:t>
            </a:r>
            <a:endParaRPr b="0" lang="en-US" sz="36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218960" y="1066320"/>
            <a:ext cx="7467480" cy="396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GIAR might now does have a more conducive climate for</a:t>
            </a:r>
            <a:br>
              <a:rPr sz="3600"/>
            </a:br>
            <a:r>
              <a:rPr b="0" lang="en-US" sz="3600" spc="-1" strike="noStrike">
                <a:solidFill>
                  <a:srgbClr val="000000"/>
                </a:solidFill>
                <a:latin typeface="Calibri"/>
              </a:rPr>
              <a:t>Social Learning (SL).</a:t>
            </a:r>
            <a:endParaRPr b="0" lang="en-US" sz="3600" spc="-1" strike="noStrike">
              <a:solidFill>
                <a:srgbClr val="b24d1d"/>
              </a:solidFill>
              <a:latin typeface="Calibri"/>
            </a:endParaRPr>
          </a:p>
        </p:txBody>
      </p:sp>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6957-780F-42FE-9EB1-BD33F9A788B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3160" y="1600200"/>
            <a:ext cx="8001000" cy="365760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Improved collaboration, cooperation and communication</a:t>
            </a:r>
            <a:endParaRPr b="0" lang="en-US" sz="3200" spc="-1" strike="noStrike">
              <a:solidFill>
                <a:srgbClr val="b23b7e"/>
              </a:solidFill>
              <a:latin typeface="Calibri"/>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Calibri"/>
                <a:ea typeface="Calibri"/>
              </a:rPr>
              <a:t>“ </a:t>
            </a:r>
            <a:r>
              <a:rPr b="1" lang="en-PH" sz="2800" spc="-1" strike="noStrike">
                <a:solidFill>
                  <a:srgbClr val="000000"/>
                </a:solidFill>
                <a:latin typeface="Calibri"/>
                <a:ea typeface="Calibri"/>
              </a:rPr>
              <a:t>We are seeing better collaboration and cooperation among centers than had been the norm over my long full time involvement with the CGIAR---so I’m cautiously optimistic about improved uptake of such approaches.  I think the relevance certainly remains as high as ever”.</a:t>
            </a:r>
            <a:endParaRPr b="0" lang="en-US" sz="2800" spc="-1" strike="noStrike">
              <a:solidFill>
                <a:srgbClr val="b23b7e"/>
              </a:solidFill>
              <a:latin typeface="Calibri"/>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 </a:t>
            </a:r>
            <a:endParaRPr b="0" lang="en-US" sz="2800" spc="-1" strike="noStrike">
              <a:solidFill>
                <a:srgbClr val="b23b7e"/>
              </a:solidFill>
              <a:latin typeface="Calibri"/>
            </a:endParaRPr>
          </a:p>
        </p:txBody>
      </p:sp>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38E0A-033F-41D9-9166-47CC0B2CFC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1" name="TextBox 5"/>
          <p:cNvSpPr/>
          <p:nvPr/>
        </p:nvSpPr>
        <p:spPr>
          <a:xfrm>
            <a:off x="3352680" y="526716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800" spc="-1" strike="noStrike">
                <a:solidFill>
                  <a:srgbClr val="000000"/>
                </a:solidFill>
                <a:latin typeface="Calibri"/>
              </a:rPr>
              <a:t>- Carol J. Pierce Colfer </a:t>
            </a:r>
            <a:r>
              <a:rPr b="0" i="1" lang="en-PH" sz="2800" spc="-1" strike="noStrike">
                <a:solidFill>
                  <a:srgbClr val="000000"/>
                </a:solidFill>
                <a:latin typeface="Calibri"/>
                <a:ea typeface="Calibri"/>
              </a:rPr>
              <a:t>(2.9)</a:t>
            </a: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0880" y="1676160"/>
            <a:ext cx="8382240" cy="4267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Better collaboration across centers (via CRPs than in the past</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More emphasis on a systems approach that includes interdisciplinary approache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 move towards negotiating shared realities of problems and solution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Research that ‘goes beyond’ biophysical and economic component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1DD50-2A7C-41B2-8A14-61E9EA554CD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4" name="TextBox 4"/>
          <p:cNvSpPr/>
          <p:nvPr/>
        </p:nvSpPr>
        <p:spPr>
          <a:xfrm>
            <a:off x="1295280" y="1009800"/>
            <a:ext cx="762012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mproved work arrangements</a:t>
            </a:r>
            <a:endParaRPr b="0" lang="en-US" sz="36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9903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Calibri"/>
              </a:rPr>
              <a:t>A greater emphasis on outcomes, theories of change and impact pathways</a:t>
            </a:r>
            <a:endParaRPr b="0" lang="en-US" sz="2800" spc="-1" strike="noStrike">
              <a:solidFill>
                <a:srgbClr val="b24d1d"/>
              </a:solidFill>
              <a:latin typeface="Calibri"/>
            </a:endParaRPr>
          </a:p>
        </p:txBody>
      </p:sp>
      <p:sp>
        <p:nvSpPr>
          <p:cNvPr id="226" name=""/>
          <p:cNvSpPr txBox="1"/>
          <p:nvPr/>
        </p:nvSpPr>
        <p:spPr>
          <a:xfrm>
            <a:off x="685800" y="2133360"/>
            <a:ext cx="7391520" cy="3429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clear push for showing research outcom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ore recently a call for intermediate development outcom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focus on outcome makes participatory approaches more relevant</a:t>
            </a:r>
            <a:endParaRPr b="0" lang="en-US" sz="3200" spc="-1" strike="noStrike">
              <a:solidFill>
                <a:srgbClr val="b23b7e"/>
              </a:solidFill>
              <a:latin typeface="Calibri"/>
            </a:endParaRPr>
          </a:p>
        </p:txBody>
      </p:sp>
      <p:sp>
        <p:nvSpPr>
          <p:cNvPr id="2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DE22E-80A1-42F8-B64E-9826885046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066320"/>
            <a:ext cx="81532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CRPs and donor emphasis on impact create “pressure” for partnerships</a:t>
            </a:r>
            <a:endParaRPr b="0" lang="en-US" sz="2900" spc="-1" strike="noStrike">
              <a:solidFill>
                <a:srgbClr val="b24d1d"/>
              </a:solidFill>
              <a:latin typeface="Calibri"/>
            </a:endParaRPr>
          </a:p>
        </p:txBody>
      </p:sp>
      <p:sp>
        <p:nvSpPr>
          <p:cNvPr id="229" name=""/>
          <p:cNvSpPr txBox="1"/>
          <p:nvPr/>
        </p:nvSpPr>
        <p:spPr>
          <a:xfrm>
            <a:off x="969840" y="2514240"/>
            <a:ext cx="720432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changes were often the result of donor pressur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ill the donor pressures to bridge the R&amp;D gaps remain?</a:t>
            </a:r>
            <a:endParaRPr b="0" lang="en-US" sz="3200" spc="-1" strike="noStrike">
              <a:solidFill>
                <a:srgbClr val="b23b7e"/>
              </a:solidFill>
              <a:latin typeface="Calibri"/>
            </a:endParaRPr>
          </a:p>
        </p:txBody>
      </p:sp>
      <p:sp>
        <p:nvSpPr>
          <p:cNvPr id="2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01728-8EEA-4D25-A810-9FEE86D1C5C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80520" y="1905120"/>
            <a:ext cx="800100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We increasingly focus on more complex challenges characterized by multiple stakeholders with often divergent perspectives and competing goals (2.6)</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wareness of the diversity and complexities of the challenges. These complex problems need knowledge intensive approaches, does not allow for a “one size fits all” approach not embedded in easy to disseminate and adopt technologie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BACDF-6D03-481D-9E71-64D81DF7D5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3" name="TextBox 4"/>
          <p:cNvSpPr/>
          <p:nvPr/>
        </p:nvSpPr>
        <p:spPr>
          <a:xfrm>
            <a:off x="457200" y="925560"/>
            <a:ext cx="822960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cknowledging diversity, complexity and multiple-scales</a:t>
            </a:r>
            <a:endParaRPr b="0" lang="en-US" sz="32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CF9AF-55E3-4F07-A5DB-9150F01397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5" name="Rectangle 4"/>
          <p:cNvSpPr/>
          <p:nvPr/>
        </p:nvSpPr>
        <p:spPr>
          <a:xfrm>
            <a:off x="380880" y="1973160"/>
            <a:ext cx="8229600" cy="350676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buClr>
                <a:srgbClr val="000000"/>
              </a:buClr>
              <a:buFont typeface="Arial"/>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re are many implementing groups, facilitators, and communities of practice experts as there are methods“</a:t>
            </a:r>
            <a:endParaRPr b="0" lang="en-US" sz="2800" spc="-1" strike="noStrike">
              <a:solidFill>
                <a:srgbClr val="000000"/>
              </a:solidFill>
              <a:latin typeface="Arial"/>
            </a:endParaRPr>
          </a:p>
          <a:p>
            <a:pPr marL="338040" indent="-338040">
              <a:lnSpc>
                <a:spcPct val="100000"/>
              </a:lnSpc>
              <a:buClr>
                <a:srgbClr val="000000"/>
              </a:buClr>
              <a:buFont typeface="Arial"/>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e need to recognize that the diversity as it meets different needs of researchers. Researchers might become engaged in social learning for different reasons. We need to grant that this accounts for the range of approaches.</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905120"/>
            <a:ext cx="8305920" cy="35049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ill a prevailing concern about integrating R&amp;D: “Somewhere on the continuum between R and D lies the current reality” i.e. a Gap </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How can we build processes that integrate both research and development from the outset, around common issue rather than holing one on the other opportunistically (</a:t>
            </a:r>
            <a:r>
              <a:rPr b="0" i="1" lang="en-US" sz="3000" spc="-1" strike="noStrike">
                <a:solidFill>
                  <a:srgbClr val="000000"/>
                </a:solidFill>
                <a:latin typeface="Calibri"/>
                <a:ea typeface="Calibri"/>
              </a:rPr>
              <a:t>Mark Lundy</a:t>
            </a:r>
            <a:r>
              <a:rPr b="0" lang="en-US" sz="3000" spc="-1" strike="noStrike">
                <a:solidFill>
                  <a:srgbClr val="000000"/>
                </a:solidFill>
                <a:latin typeface="Calibri"/>
                <a:ea typeface="Calibri"/>
              </a:rPr>
              <a:t>)</a:t>
            </a:r>
            <a:endParaRPr b="0" lang="en-US" sz="3000" spc="-1" strike="noStrike">
              <a:solidFill>
                <a:srgbClr val="b23b7e"/>
              </a:solidFill>
              <a:latin typeface="Calibri"/>
            </a:endParaRPr>
          </a:p>
        </p:txBody>
      </p:sp>
      <p:sp>
        <p:nvSpPr>
          <p:cNvPr id="2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97820-3CFA-416F-875D-46C0B7F880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8" name="TextBox 4"/>
          <p:cNvSpPr/>
          <p:nvPr/>
        </p:nvSpPr>
        <p:spPr>
          <a:xfrm>
            <a:off x="2362320" y="990720"/>
            <a:ext cx="609588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hallenges remain:</a:t>
            </a:r>
            <a:endParaRPr b="0" lang="en-US" sz="3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609120"/>
            <a:ext cx="7391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cope</a:t>
            </a:r>
            <a:endParaRPr b="0" lang="en-US" sz="4000" spc="-1" strike="noStrike">
              <a:solidFill>
                <a:srgbClr val="b24d1d"/>
              </a:solidFill>
              <a:latin typeface="Calibri"/>
            </a:endParaRPr>
          </a:p>
        </p:txBody>
      </p:sp>
      <p:sp>
        <p:nvSpPr>
          <p:cNvPr id="186" name=""/>
          <p:cNvSpPr txBox="1"/>
          <p:nvPr/>
        </p:nvSpPr>
        <p:spPr>
          <a:xfrm>
            <a:off x="457200" y="175248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novative social learning related efforts in the CGIAR</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Lessons we have learned along the way (the past should inform the future)</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nsure no duplication with other CCAFS studies on communications, social differentiation</a:t>
            </a:r>
            <a:endParaRPr b="0" lang="en-US" sz="3200" spc="-1" strike="noStrike">
              <a:solidFill>
                <a:srgbClr val="b23b7e"/>
              </a:solidFill>
              <a:latin typeface="Calibri"/>
            </a:endParaRPr>
          </a:p>
        </p:txBody>
      </p:sp>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9725D-3ED6-4184-A028-AD85E483F0E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44400" y="838080"/>
            <a:ext cx="72043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hallenges remain (contd.):</a:t>
            </a:r>
            <a:endParaRPr b="0" lang="en-US" sz="2800" spc="-1" strike="noStrike">
              <a:solidFill>
                <a:srgbClr val="b24d1d"/>
              </a:solidFill>
              <a:latin typeface="Calibri"/>
            </a:endParaRPr>
          </a:p>
        </p:txBody>
      </p:sp>
      <p:sp>
        <p:nvSpPr>
          <p:cNvPr id="240" name=""/>
          <p:cNvSpPr txBox="1"/>
          <p:nvPr/>
        </p:nvSpPr>
        <p:spPr>
          <a:xfrm>
            <a:off x="533160" y="1447920"/>
            <a:ext cx="8381880" cy="449568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Limited communication between scientist and partners on the </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Solutions sought in a “linear” manner</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Cumbersome working modalities of CRP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Difficult coordination of CRP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Communication limited mainly to institutional focal point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How serious is the commitment to  development outcomes (big change in mindset for some)</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Recognition of SL/PM is limited within scientific research community (struggle for SL proponents to be recognized)</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Mechanisms to link CRPs (focused on global public goods) to national partners are lacking</a:t>
            </a:r>
            <a:endParaRPr b="0" lang="en-US" sz="2300" spc="-1" strike="noStrike">
              <a:solidFill>
                <a:srgbClr val="b23b7e"/>
              </a:solidFill>
              <a:latin typeface="Calibri"/>
            </a:endParaRPr>
          </a:p>
        </p:txBody>
      </p:sp>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D15BA-D6A2-4456-81E4-CB6B0BA124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685440" y="1447920"/>
            <a:ext cx="800100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 Consortium is working on a new concept of management for results with concrete and measurable outcomes for the assessment of the CRP activities. Is there a  risk of result orientation leading back to old productivity and breeding orientation of CG?</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hat do we do when we know that social learning and institutional work does show </a:t>
            </a:r>
            <a:r>
              <a:rPr b="1" lang="en-US" sz="3000" spc="-1" strike="noStrike">
                <a:solidFill>
                  <a:srgbClr val="000000"/>
                </a:solidFill>
                <a:latin typeface="Calibri"/>
                <a:ea typeface="Calibri"/>
              </a:rPr>
              <a:t>“</a:t>
            </a:r>
            <a:r>
              <a:rPr b="1" lang="en-US" sz="3000" spc="-1" strike="noStrike" u="sng">
                <a:solidFill>
                  <a:srgbClr val="000000"/>
                </a:solidFill>
                <a:uFillTx/>
                <a:latin typeface="Calibri"/>
                <a:ea typeface="Calibri"/>
              </a:rPr>
              <a:t>direct</a:t>
            </a:r>
            <a:r>
              <a:rPr b="1" lang="en-US" sz="3000" spc="-1" strike="noStrike">
                <a:solidFill>
                  <a:srgbClr val="000000"/>
                </a:solidFill>
                <a:latin typeface="Calibri"/>
                <a:ea typeface="Calibri"/>
              </a:rPr>
              <a:t>” </a:t>
            </a:r>
            <a:r>
              <a:rPr b="0" lang="en-US" sz="3000" spc="-1" strike="noStrike">
                <a:solidFill>
                  <a:srgbClr val="000000"/>
                </a:solidFill>
                <a:latin typeface="Calibri"/>
                <a:ea typeface="Calibri"/>
              </a:rPr>
              <a:t>impact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98809-93F2-4D0B-A240-E9DF2C475F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title"/>
          </p:nvPr>
        </p:nvSpPr>
        <p:spPr>
          <a:xfrm>
            <a:off x="644400" y="838080"/>
            <a:ext cx="72043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hallenges remain (contd.):</a:t>
            </a:r>
            <a:endParaRPr b="0" lang="en-US" sz="2800" spc="-1" strike="noStrike">
              <a:solidFill>
                <a:srgbClr val="b24d1d"/>
              </a:solidFill>
              <a:latin typeface="Calibri"/>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990360" y="1600200"/>
            <a:ext cx="720396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CGIAR scientists are now swamped with design and coordination of CRPs, and seem to be working pretty independently in this – making it, again, difficult "coordinating" among these differing, if all valuable, implementation methods (2.3)</a:t>
            </a:r>
            <a:endParaRPr b="0" lang="en-US" sz="3200" spc="-1" strike="noStrike">
              <a:solidFill>
                <a:srgbClr val="b23b7e"/>
              </a:solidFill>
              <a:latin typeface="Calibri"/>
            </a:endParaRPr>
          </a:p>
        </p:txBody>
      </p:sp>
      <p:sp>
        <p:nvSpPr>
          <p:cNvPr id="2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571F3-1E7D-44CE-9D18-E0FD679E5B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title"/>
          </p:nvPr>
        </p:nvSpPr>
        <p:spPr>
          <a:xfrm>
            <a:off x="644400" y="838080"/>
            <a:ext cx="72043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hallenges remain (contd.):</a:t>
            </a:r>
            <a:endParaRPr b="0" lang="en-US" sz="2800" spc="-1" strike="noStrike">
              <a:solidFill>
                <a:srgbClr val="b24d1d"/>
              </a:solidFill>
              <a:latin typeface="Calibri"/>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969840" y="2057040"/>
            <a:ext cx="7204320" cy="2438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The goal is to work for a CGIAR better able to reach the billion left behind by the Green Revolution through the broader use of such approaches. (2.14)</a:t>
            </a:r>
            <a:endParaRPr b="0" lang="en-US" sz="3200" spc="-1" strike="noStrike">
              <a:solidFill>
                <a:srgbClr val="b23b7e"/>
              </a:solidFill>
              <a:latin typeface="Calibri"/>
            </a:endParaRPr>
          </a:p>
        </p:txBody>
      </p:sp>
      <p:sp>
        <p:nvSpPr>
          <p:cNvPr id="2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CAE4-65ED-455B-9D8D-DF886DA163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0" name="TextBox 4"/>
          <p:cNvSpPr/>
          <p:nvPr/>
        </p:nvSpPr>
        <p:spPr>
          <a:xfrm>
            <a:off x="2286000" y="995400"/>
            <a:ext cx="5867280" cy="6422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Yet we are hopeful:</a:t>
            </a:r>
            <a:endParaRPr b="0" lang="en-US" sz="40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838080" y="1447920"/>
            <a:ext cx="784872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Relevance of research will improved greatly if CRP and CG scientists spend quality time with the target groups, talk less, listen more and create enabling environment so that farmers can make self directed decision making. Before that they need to question themselves “whose lives we would like to change?” and once they are crystal clear on that success is not far behind. (1.9)</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2251B-94AB-486A-A14A-D2F8B51E5C4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609480" y="1676520"/>
            <a:ext cx="8001000" cy="380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Calibri"/>
                <a:ea typeface="Calibri"/>
              </a:rPr>
              <a:t>Addressing climate change, whether mitigation or adaptation, is going to require changes in people’s behaviour. Suggesting or mandating change from on high has long proven fraught with difficulties and fatal errors. The human variability (along with the environmental variability) globally means we simply cannot decide what the answer is and apply across the board. That doesn’t work. We really need to be tailoring both mitigation and adaptation efforts to </a:t>
            </a:r>
            <a:r>
              <a:rPr b="0" i="1" lang="en-PH" sz="2200" spc="-1" strike="noStrike">
                <a:solidFill>
                  <a:srgbClr val="000000"/>
                </a:solidFill>
                <a:latin typeface="Calibri"/>
                <a:ea typeface="Calibri"/>
              </a:rPr>
              <a:t>local</a:t>
            </a:r>
            <a:r>
              <a:rPr b="0" lang="en-PH" sz="2200" spc="-1" strike="noStrike">
                <a:solidFill>
                  <a:srgbClr val="000000"/>
                </a:solidFill>
                <a:latin typeface="Calibri"/>
                <a:ea typeface="Calibri"/>
              </a:rPr>
              <a:t> contexts, and that will necessitate the help of local people – a shared learning approach that analyzes, plans, mitigates/adapts, monitors what happens, and improves on initial results, in an iterative manner.  - </a:t>
            </a:r>
            <a:r>
              <a:rPr b="0" i="1" lang="en-PH" sz="2200" spc="-1" strike="noStrike">
                <a:solidFill>
                  <a:srgbClr val="000000"/>
                </a:solidFill>
                <a:latin typeface="Calibri"/>
                <a:ea typeface="Calibri"/>
              </a:rPr>
              <a:t>Carol Colfer</a:t>
            </a:r>
            <a:endParaRPr b="0" lang="en-US" sz="2200" spc="-1" strike="noStrike">
              <a:solidFill>
                <a:srgbClr val="000000"/>
              </a:solidFill>
              <a:latin typeface="Arial"/>
            </a:endParaRPr>
          </a:p>
        </p:txBody>
      </p:sp>
      <p:sp>
        <p:nvSpPr>
          <p:cNvPr id="2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1775-4EC6-4729-AA09-A30A8B6A4B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2666520"/>
            <a:ext cx="82296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cial Learning in</a:t>
            </a:r>
            <a:br>
              <a:rPr sz="4000"/>
            </a:br>
            <a:r>
              <a:rPr b="1" lang="en-US" sz="4000" spc="-1" strike="noStrike">
                <a:solidFill>
                  <a:srgbClr val="000000"/>
                </a:solidFill>
                <a:latin typeface="Calibri"/>
              </a:rPr>
              <a:t>Support of CCAF’s</a:t>
            </a:r>
            <a:br>
              <a:rPr sz="4000"/>
            </a:br>
            <a:r>
              <a:rPr b="1" lang="en-US" sz="4000" spc="-1" strike="noStrike">
                <a:solidFill>
                  <a:srgbClr val="000000"/>
                </a:solidFill>
                <a:latin typeface="Calibri"/>
              </a:rPr>
              <a:t>Theme 4 Objectives</a:t>
            </a:r>
            <a:endParaRPr b="0" lang="en-US" sz="4000" spc="-1" strike="noStrike">
              <a:solidFill>
                <a:srgbClr val="b24d1d"/>
              </a:solidFill>
              <a:latin typeface="Calibri"/>
            </a:endParaRPr>
          </a:p>
        </p:txBody>
      </p:sp>
      <p:sp>
        <p:nvSpPr>
          <p:cNvPr id="2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35F16-8338-4038-A2BC-410252FC739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7" name="Title 1"/>
          <p:cNvSpPr/>
          <p:nvPr/>
        </p:nvSpPr>
        <p:spPr>
          <a:xfrm>
            <a:off x="2590920" y="1600200"/>
            <a:ext cx="367812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PART 2</a:t>
            </a:r>
            <a:endParaRPr b="0" lang="en-US" sz="54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025280" y="2362320"/>
            <a:ext cx="758484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Learning: </a:t>
            </a:r>
            <a:br>
              <a:rPr sz="4400"/>
            </a:br>
            <a:r>
              <a:rPr b="0" lang="en-US" sz="4400" spc="-1" strike="noStrike">
                <a:solidFill>
                  <a:srgbClr val="000000"/>
                </a:solidFill>
                <a:latin typeface="Calibri"/>
              </a:rPr>
              <a:t>What definitions work for us?</a:t>
            </a:r>
            <a:endParaRPr b="0" lang="en-US" sz="4400" spc="-1" strike="noStrike">
              <a:solidFill>
                <a:srgbClr val="b24d1d"/>
              </a:solidFill>
              <a:latin typeface="Calibri"/>
            </a:endParaRPr>
          </a:p>
        </p:txBody>
      </p:sp>
      <p:sp>
        <p:nvSpPr>
          <p:cNvPr id="2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D9AC8-C09E-45C5-8145-39F300AC7A8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969840" y="1676520"/>
            <a:ext cx="720432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IDS/IIED study states that “</a:t>
            </a:r>
            <a:r>
              <a:rPr b="1" lang="en-US" sz="3200" spc="-1" strike="noStrike">
                <a:solidFill>
                  <a:srgbClr val="000000"/>
                </a:solidFill>
                <a:latin typeface="Calibri"/>
                <a:ea typeface="Calibri"/>
              </a:rPr>
              <a:t>Social Learning approaches help facilitate knowledge sharing and joint learning experiences between stakeholders… through working together to better understand their situation, new shared ways of knowing are generated”.</a:t>
            </a:r>
            <a:endParaRPr b="0" lang="en-US" sz="3200" spc="-1" strike="noStrike">
              <a:solidFill>
                <a:srgbClr val="b23b7e"/>
              </a:solidFill>
              <a:latin typeface="Calibri"/>
            </a:endParaRPr>
          </a:p>
        </p:txBody>
      </p:sp>
      <p:sp>
        <p:nvSpPr>
          <p:cNvPr id="2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A9E5B-395F-4374-A588-27AF696F2E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969840" y="1676520"/>
            <a:ext cx="720432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Keen (2005) defines </a:t>
            </a:r>
            <a:r>
              <a:rPr b="1" lang="en-US" sz="3200" spc="-1" strike="noStrike">
                <a:solidFill>
                  <a:srgbClr val="000000"/>
                </a:solidFill>
                <a:latin typeface="Calibri"/>
                <a:ea typeface="Calibri"/>
              </a:rPr>
              <a:t>“Social Learning as the collective action and reflection that takes place amongst both individuals and groups when they work to improve the management of the inter relationships between social and ecological system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3b7e"/>
              </a:solidFill>
              <a:latin typeface="Calibri"/>
            </a:endParaRPr>
          </a:p>
        </p:txBody>
      </p:sp>
      <p:sp>
        <p:nvSpPr>
          <p:cNvPr id="2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6D19-2255-4FA4-9F24-9DDC6486D3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685440"/>
            <a:ext cx="8001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ctivity Duration</a:t>
            </a:r>
            <a:endParaRPr b="0" lang="en-US" sz="4000" spc="-1" strike="noStrike">
              <a:solidFill>
                <a:srgbClr val="b24d1d"/>
              </a:solidFill>
              <a:latin typeface="Calibri"/>
            </a:endParaRPr>
          </a:p>
        </p:txBody>
      </p:sp>
      <p:sp>
        <p:nvSpPr>
          <p:cNvPr id="189" name=""/>
          <p:cNvSpPr txBox="1"/>
          <p:nvPr/>
        </p:nvSpPr>
        <p:spPr>
          <a:xfrm>
            <a:off x="1025280" y="2285640"/>
            <a:ext cx="7203960" cy="3048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25 days in November-December 2012 for stocktaking</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0 days in January-February 2013 for preparation of working paper and revised powerpoint presentation</a:t>
            </a:r>
            <a:endParaRPr b="0" lang="en-US" sz="3200" spc="-1" strike="noStrike">
              <a:solidFill>
                <a:srgbClr val="b23b7e"/>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D9D73-7133-48E0-AAE4-093178408E5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796680" y="1828800"/>
            <a:ext cx="758484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eve Waddel preferred not to use Social Learning when he described large-system change processes. </a:t>
            </a:r>
            <a:r>
              <a:rPr b="1" lang="en-US" sz="3000" spc="-1" strike="noStrike">
                <a:solidFill>
                  <a:srgbClr val="000000"/>
                </a:solidFill>
                <a:latin typeface="Calibri"/>
                <a:ea typeface="Calibri"/>
              </a:rPr>
              <a:t>“When formalised into new patterns of working together – often through the creation of new umbrella organisations with participants from diverse parts of society – these mutually beneficial </a:t>
            </a:r>
            <a:r>
              <a:rPr b="1" lang="en-US" sz="3000" spc="-1" strike="noStrike" u="sng">
                <a:solidFill>
                  <a:srgbClr val="000000"/>
                </a:solidFill>
                <a:uFillTx/>
                <a:latin typeface="Calibri"/>
                <a:ea typeface="Calibri"/>
              </a:rPr>
              <a:t>outcomes</a:t>
            </a:r>
            <a:r>
              <a:rPr b="1" lang="en-US" sz="3000" spc="-1" strike="noStrike">
                <a:solidFill>
                  <a:srgbClr val="000000"/>
                </a:solidFill>
                <a:latin typeface="Calibri"/>
                <a:ea typeface="Calibri"/>
              </a:rPr>
              <a:t> represent </a:t>
            </a:r>
            <a:r>
              <a:rPr b="1" lang="en-US" sz="3000" spc="-1" strike="noStrike" u="sng">
                <a:solidFill>
                  <a:srgbClr val="000000"/>
                </a:solidFill>
                <a:uFillTx/>
                <a:latin typeface="Calibri"/>
                <a:ea typeface="Calibri"/>
              </a:rPr>
              <a:t>societal</a:t>
            </a:r>
            <a:r>
              <a:rPr b="1" lang="en-US" sz="3000" spc="-1" strike="noStrike">
                <a:solidFill>
                  <a:srgbClr val="000000"/>
                </a:solidFill>
                <a:latin typeface="Calibri"/>
                <a:ea typeface="Calibri"/>
              </a:rPr>
              <a:t> learning”. </a:t>
            </a:r>
            <a:endParaRPr b="0" lang="en-US" sz="3000" spc="-1" strike="noStrike">
              <a:solidFill>
                <a:srgbClr val="b23b7e"/>
              </a:solidFill>
              <a:latin typeface="Calibri"/>
            </a:endParaRPr>
          </a:p>
        </p:txBody>
      </p:sp>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CC77C-5EB8-40E2-8A35-BE105781BD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6" name="TextBox 4"/>
          <p:cNvSpPr/>
          <p:nvPr/>
        </p:nvSpPr>
        <p:spPr>
          <a:xfrm>
            <a:off x="2133720" y="900000"/>
            <a:ext cx="624816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 different terminology</a:t>
            </a:r>
            <a:endParaRPr b="0" lang="en-US" sz="3600" spc="-1" strike="noStrike">
              <a:solidFill>
                <a:srgbClr val="000000"/>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838080" y="1371600"/>
            <a:ext cx="7848720" cy="4191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a:t>
            </a:r>
            <a:r>
              <a:rPr b="1" lang="en-US" sz="3000" spc="-1" strike="noStrike">
                <a:solidFill>
                  <a:srgbClr val="000000"/>
                </a:solidFill>
                <a:latin typeface="Calibri"/>
                <a:ea typeface="Calibri"/>
              </a:rPr>
              <a:t>Societal learning is a process of changing patterns of interactions within and between adverse organisations and social units to enhance society’s capacity to innovate. Large scale problems – such as poverty and environmental degradation – require substantial societal learning in order for lasting change to occur”. </a:t>
            </a:r>
            <a:endParaRPr b="0" lang="en-US" sz="3000" spc="-1" strike="noStrike">
              <a:solidFill>
                <a:srgbClr val="b23b7e"/>
              </a:solidFill>
              <a:latin typeface="Calibri"/>
            </a:endParaRPr>
          </a:p>
        </p:txBody>
      </p:sp>
      <p:sp>
        <p:nvSpPr>
          <p:cNvPr id="2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7D6CC-7B82-49F1-89B8-83BAE4351B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9" name="TextBox 4"/>
          <p:cNvSpPr/>
          <p:nvPr/>
        </p:nvSpPr>
        <p:spPr>
          <a:xfrm>
            <a:off x="990720" y="5181480"/>
            <a:ext cx="71625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Times New Roman"/>
              </a:rPr>
              <a:t>Steve Waddel (http://www.pegasuscom.com/bigsyschange.html)</a:t>
            </a:r>
            <a:endParaRPr b="0" lang="en-US" sz="2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A5997-EB1B-4DC0-AAA9-863B9199F1D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1" name="Rectangle 4"/>
          <p:cNvSpPr/>
          <p:nvPr/>
        </p:nvSpPr>
        <p:spPr>
          <a:xfrm>
            <a:off x="380880" y="1981080"/>
            <a:ext cx="8229600" cy="34455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Social learning is defined as the process through which groups of people learn, by jointly defining problems, searching for and implementing solutions, and assessing the value of solutions for specific problems </a:t>
            </a:r>
            <a:r>
              <a:rPr b="0" lang="en-US" sz="2200" spc="-1" strike="noStrike">
                <a:solidFill>
                  <a:srgbClr val="000000"/>
                </a:solidFill>
                <a:latin typeface="Calibri"/>
                <a:ea typeface="Calibri"/>
              </a:rPr>
              <a:t>(Koelen and Das, 2002).</a:t>
            </a:r>
            <a:endParaRPr b="0" lang="en-US" sz="2200" spc="-1" strike="noStrike">
              <a:solidFill>
                <a:srgbClr val="000000"/>
              </a:solidFill>
              <a:latin typeface="Arial"/>
            </a:endParaRPr>
          </a:p>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Social learning brings about a shift from ‘‘multiple cognition” to ‘‘collective cognition”. Individuals involved in social learning processes begin with quite different perceptions of their current situation and the potential for change; as they interact, they develop common, shared perspectives, insights and values. </a:t>
            </a:r>
            <a:endParaRPr b="0" lang="en-US" sz="2200" spc="-1" strike="noStrike">
              <a:solidFill>
                <a:srgbClr val="000000"/>
              </a:solidFill>
              <a:latin typeface="Arial"/>
            </a:endParaRPr>
          </a:p>
        </p:txBody>
      </p:sp>
      <p:sp>
        <p:nvSpPr>
          <p:cNvPr id="272" name="Rectangle 5"/>
          <p:cNvSpPr/>
          <p:nvPr/>
        </p:nvSpPr>
        <p:spPr>
          <a:xfrm>
            <a:off x="2362320" y="5452920"/>
            <a:ext cx="525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ea typeface="Calibri"/>
              </a:rPr>
              <a:t>Source: Personal exchanges ( Andre Devaux, Nov 9th 2012)</a:t>
            </a:r>
            <a:endParaRPr b="0" lang="en-US" sz="1600" spc="-1" strike="noStrike">
              <a:solidFill>
                <a:srgbClr val="000000"/>
              </a:solidFill>
              <a:latin typeface="Arial"/>
            </a:endParaRPr>
          </a:p>
        </p:txBody>
      </p:sp>
      <p:sp>
        <p:nvSpPr>
          <p:cNvPr id="273" name="Rectangle 6"/>
          <p:cNvSpPr/>
          <p:nvPr/>
        </p:nvSpPr>
        <p:spPr>
          <a:xfrm>
            <a:off x="685800" y="874800"/>
            <a:ext cx="754380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 social learning definition that relates to CGIAR work?</a:t>
            </a:r>
            <a:endParaRPr b="0" lang="en-US" sz="28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838080" y="1523880"/>
            <a:ext cx="7772400" cy="41911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In a AR4D framework, a research related interventions are needed in at least three levels:</a:t>
            </a:r>
            <a:endParaRPr b="0" lang="en-US" sz="2500" spc="-1" strike="noStrike">
              <a:solidFill>
                <a:srgbClr val="b23b7e"/>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INDIVIDUAL FARMER LEVEL: Farmer engagement in diagnosis (PRA typed) or in evaluating technologies, to more complex participatory breeding programs   </a:t>
            </a:r>
            <a:endParaRPr b="0" lang="en-US" sz="2500" spc="-1" strike="noStrike">
              <a:solidFill>
                <a:srgbClr val="b23b7e"/>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COMMUNITY LEVEL: Community-based biodiversity management, adaptive co -management, co-management, etc.</a:t>
            </a:r>
            <a:endParaRPr b="0" lang="en-US" sz="2500" spc="-1" strike="noStrike">
              <a:solidFill>
                <a:srgbClr val="b23b7e"/>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MULTISCALE LEVEL: Innovation platforms, learning alliances, multi-stakeholder platforms, etc.</a:t>
            </a:r>
            <a:endParaRPr b="0" lang="en-US" sz="2500" spc="-1" strike="noStrike">
              <a:solidFill>
                <a:srgbClr val="b23b7e"/>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23b7e"/>
              </a:solidFill>
              <a:latin typeface="Calibri"/>
            </a:endParaRPr>
          </a:p>
        </p:txBody>
      </p:sp>
      <p:sp>
        <p:nvSpPr>
          <p:cNvPr id="2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EEA78-98EF-49FC-B5D0-967F5307E94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Content Placeholder 6" descr="Untitled1.png"/>
          <p:cNvPicPr/>
          <p:nvPr/>
        </p:nvPicPr>
        <p:blipFill>
          <a:blip r:embed="rId1"/>
          <a:stretch/>
        </p:blipFill>
        <p:spPr>
          <a:xfrm>
            <a:off x="2362320" y="1603440"/>
            <a:ext cx="4952880" cy="4035240"/>
          </a:xfrm>
          <a:prstGeom prst="rect">
            <a:avLst/>
          </a:prstGeom>
          <a:ln w="0">
            <a:noFill/>
          </a:ln>
        </p:spPr>
      </p:pic>
      <p:sp>
        <p:nvSpPr>
          <p:cNvPr id="277" name=""/>
          <p:cNvSpPr txBox="1"/>
          <p:nvPr/>
        </p:nvSpPr>
        <p:spPr>
          <a:xfrm>
            <a:off x="2285640" y="685800"/>
            <a:ext cx="5638680" cy="838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Calibri"/>
              </a:rPr>
              <a:t>At whatever scale we work a learning framework should apply... </a:t>
            </a:r>
            <a:endParaRPr b="0" lang="en-US" sz="2400" spc="-1" strike="noStrike">
              <a:solidFill>
                <a:srgbClr val="b23b7e"/>
              </a:solidFill>
              <a:latin typeface="Calibri"/>
            </a:endParaRPr>
          </a:p>
        </p:txBody>
      </p:sp>
      <p:sp>
        <p:nvSpPr>
          <p:cNvPr id="2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F1D06-F445-4606-BDAB-E96783B62DF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title"/>
          </p:nvPr>
        </p:nvSpPr>
        <p:spPr>
          <a:xfrm>
            <a:off x="837720" y="5562720"/>
            <a:ext cx="80773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Black"/>
              </a:rPr>
              <a:t>Need for learning framework</a:t>
            </a:r>
            <a:endParaRPr b="0" lang="en-US" sz="2800" spc="-1" strike="noStrike">
              <a:solidFill>
                <a:srgbClr val="b24d1d"/>
              </a:solidFill>
              <a:latin typeface="Calibri"/>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80880" y="9903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ynthesis: Fostering cycles of learning is crucial</a:t>
            </a:r>
            <a:endParaRPr b="0" lang="en-US" sz="3200" spc="-1" strike="noStrike">
              <a:solidFill>
                <a:srgbClr val="b24d1d"/>
              </a:solidFill>
              <a:latin typeface="Calibri"/>
            </a:endParaRPr>
          </a:p>
        </p:txBody>
      </p:sp>
      <p:sp>
        <p:nvSpPr>
          <p:cNvPr id="281" name=""/>
          <p:cNvSpPr txBox="1"/>
          <p:nvPr/>
        </p:nvSpPr>
        <p:spPr>
          <a:xfrm>
            <a:off x="838080" y="2285640"/>
            <a:ext cx="7204320" cy="3429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Stakeholder participation processes will </a:t>
            </a:r>
            <a:r>
              <a:rPr b="1" i="1" lang="en-PH" sz="3000" spc="-1" strike="noStrike">
                <a:solidFill>
                  <a:srgbClr val="000000"/>
                </a:solidFill>
                <a:latin typeface="Calibri"/>
                <a:ea typeface="Calibri"/>
              </a:rPr>
              <a:t>(help) </a:t>
            </a:r>
            <a:r>
              <a:rPr b="0" lang="en-PH" sz="3000" spc="-1" strike="noStrike">
                <a:solidFill>
                  <a:srgbClr val="000000"/>
                </a:solidFill>
                <a:latin typeface="Calibri"/>
                <a:ea typeface="Calibri"/>
              </a:rPr>
              <a:t>introduce perspectives and insights that researchers would not otherwise. The challenge is how do we synthesise the knowledge that we acquire from stakeholder networks and feed this into the action process. (1.4)</a:t>
            </a:r>
            <a:endParaRPr b="0" lang="en-US" sz="3000" spc="-1" strike="noStrike">
              <a:solidFill>
                <a:srgbClr val="b23b7e"/>
              </a:solidFill>
              <a:latin typeface="Calibri"/>
            </a:endParaRPr>
          </a:p>
        </p:txBody>
      </p:sp>
      <p:sp>
        <p:nvSpPr>
          <p:cNvPr id="2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92017-E607-4846-9E26-C3D747E86A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680" y="837720"/>
            <a:ext cx="7204320" cy="76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ethodological diversity</a:t>
            </a:r>
            <a:endParaRPr b="0" lang="en-US" sz="3600" spc="-1" strike="noStrike">
              <a:solidFill>
                <a:srgbClr val="b24d1d"/>
              </a:solidFill>
              <a:latin typeface="Calibri"/>
            </a:endParaRPr>
          </a:p>
        </p:txBody>
      </p:sp>
      <p:sp>
        <p:nvSpPr>
          <p:cNvPr id="284" name=""/>
          <p:cNvSpPr txBox="1"/>
          <p:nvPr/>
        </p:nvSpPr>
        <p:spPr>
          <a:xfrm>
            <a:off x="969840" y="2209680"/>
            <a:ext cx="7204320" cy="152424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What the stocktaking exercise came up with</a:t>
            </a:r>
            <a:endParaRPr b="0" lang="en-US" sz="4000" spc="-1" strike="noStrike">
              <a:solidFill>
                <a:srgbClr val="b23b7e"/>
              </a:solidFill>
              <a:latin typeface="Calibri"/>
            </a:endParaRPr>
          </a:p>
        </p:txBody>
      </p:sp>
      <p:sp>
        <p:nvSpPr>
          <p:cNvPr id="2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B0AF5-7FF0-4788-B9AC-EB6DBD532D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533160" y="2057400"/>
            <a:ext cx="8305560" cy="3200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ven if in isolated pockets - not coordinated or mainstreamed into programs – there is rich array of field tested social learning related approaches within the CG system</a:t>
            </a:r>
            <a:endParaRPr b="0" lang="en-US" sz="32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p:txBody>
      </p:sp>
      <p:sp>
        <p:nvSpPr>
          <p:cNvPr id="2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337CF-ECD8-44B8-BC76-0041AACE479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762120" y="2209320"/>
            <a:ext cx="7488000" cy="2590920"/>
          </a:xfrm>
          <a:prstGeom prst="rect">
            <a:avLst/>
          </a:prstGeom>
          <a:noFill/>
          <a:ln w="0">
            <a:noFill/>
          </a:ln>
        </p:spPr>
        <p:txBody>
          <a:bodyPr anchor="t">
            <a:normAutofit/>
          </a:bodyPr>
          <a:p>
            <a:pPr marL="343080" indent="-34308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Calibri"/>
              </a:rPr>
              <a:t>Check out the cases recommended by respondents in this survey</a:t>
            </a:r>
            <a:endParaRPr b="0" lang="en-US" sz="3800" spc="-1" strike="noStrike">
              <a:solidFill>
                <a:srgbClr val="b23b7e"/>
              </a:solidFill>
              <a:latin typeface="Calibri"/>
            </a:endParaRPr>
          </a:p>
        </p:txBody>
      </p:sp>
      <p:sp>
        <p:nvSpPr>
          <p:cNvPr id="2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CCF5D-DE72-4DDC-B637-15E958576F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33520" y="152280"/>
            <a:ext cx="8153280" cy="106704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Black"/>
              </a:rPr>
              <a:t>BUILDING ON CG EXPERIENCES TO SHAPE SL APPROACHES FOR CCAFS CLIMATE CHANGE RESEARCH</a:t>
            </a:r>
            <a:br>
              <a:rPr sz="2000"/>
            </a:br>
            <a:endParaRPr b="0" lang="en-US" sz="2000" spc="-1" strike="noStrike">
              <a:solidFill>
                <a:srgbClr val="b24d1d"/>
              </a:solidFill>
              <a:latin typeface="Calibri"/>
            </a:endParaRPr>
          </a:p>
        </p:txBody>
      </p:sp>
      <p:sp>
        <p:nvSpPr>
          <p:cNvPr id="2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31A39-6C2F-4E3F-8952-DF8389E3E8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292" name="Group 2"/>
          <p:cNvGrpSpPr/>
          <p:nvPr/>
        </p:nvGrpSpPr>
        <p:grpSpPr>
          <a:xfrm>
            <a:off x="747360" y="990720"/>
            <a:ext cx="7719840" cy="5498640"/>
            <a:chOff x="747360" y="990720"/>
            <a:chExt cx="7719840" cy="5498640"/>
          </a:xfrm>
        </p:grpSpPr>
        <p:sp>
          <p:nvSpPr>
            <p:cNvPr id="293" name="Oval 3"/>
            <p:cNvSpPr/>
            <p:nvPr/>
          </p:nvSpPr>
          <p:spPr>
            <a:xfrm>
              <a:off x="6363360" y="2797200"/>
              <a:ext cx="2103840" cy="1110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ocial Learning for Climate Change Research</a:t>
              </a:r>
              <a:endParaRPr b="0" lang="en-US" sz="1400" spc="-1" strike="noStrike">
                <a:solidFill>
                  <a:srgbClr val="000000"/>
                </a:solidFill>
                <a:latin typeface="Arial"/>
              </a:endParaRPr>
            </a:p>
          </p:txBody>
        </p:sp>
        <p:cxnSp>
          <p:nvCxnSpPr>
            <p:cNvPr id="294" name="AutoShape 4"/>
            <p:cNvCxnSpPr/>
            <p:nvPr/>
          </p:nvCxnSpPr>
          <p:spPr>
            <a:xfrm flipV="1">
              <a:off x="2620080" y="3345480"/>
              <a:ext cx="3744000" cy="1499760"/>
            </a:xfrm>
            <a:prstGeom prst="straightConnector1">
              <a:avLst/>
            </a:prstGeom>
            <a:ln w="9360">
              <a:solidFill>
                <a:srgbClr val="000000"/>
              </a:solidFill>
              <a:miter/>
              <a:tailEnd len="med" type="triangle" w="med"/>
            </a:ln>
          </p:spPr>
        </p:cxnSp>
        <p:cxnSp>
          <p:nvCxnSpPr>
            <p:cNvPr id="295" name="AutoShape 5"/>
            <p:cNvCxnSpPr/>
            <p:nvPr/>
          </p:nvCxnSpPr>
          <p:spPr>
            <a:xfrm flipV="1">
              <a:off x="2445120" y="3196800"/>
              <a:ext cx="3918600" cy="949320"/>
            </a:xfrm>
            <a:prstGeom prst="straightConnector1">
              <a:avLst/>
            </a:prstGeom>
            <a:ln w="9360">
              <a:solidFill>
                <a:srgbClr val="000000"/>
              </a:solidFill>
              <a:miter/>
              <a:tailEnd len="med" type="triangle" w="med"/>
            </a:ln>
          </p:spPr>
        </p:cxnSp>
        <p:cxnSp>
          <p:nvCxnSpPr>
            <p:cNvPr id="296" name="AutoShape 6"/>
            <p:cNvCxnSpPr/>
            <p:nvPr/>
          </p:nvCxnSpPr>
          <p:spPr>
            <a:xfrm flipV="1">
              <a:off x="2936520" y="3520800"/>
              <a:ext cx="3426840" cy="2022840"/>
            </a:xfrm>
            <a:prstGeom prst="straightConnector1">
              <a:avLst/>
            </a:prstGeom>
            <a:ln w="9360">
              <a:solidFill>
                <a:srgbClr val="000000"/>
              </a:solidFill>
              <a:miter/>
              <a:tailEnd len="med" type="triangle" w="med"/>
            </a:ln>
          </p:spPr>
        </p:cxnSp>
        <p:cxnSp>
          <p:nvCxnSpPr>
            <p:cNvPr id="297" name="AutoShape 7"/>
            <p:cNvCxnSpPr/>
            <p:nvPr/>
          </p:nvCxnSpPr>
          <p:spPr>
            <a:xfrm flipV="1">
              <a:off x="3903840" y="3667320"/>
              <a:ext cx="2657880" cy="1876320"/>
            </a:xfrm>
            <a:prstGeom prst="straightConnector1">
              <a:avLst/>
            </a:prstGeom>
            <a:ln w="9360">
              <a:solidFill>
                <a:srgbClr val="000000"/>
              </a:solidFill>
              <a:miter/>
              <a:tailEnd len="med" type="triangle" w="med"/>
            </a:ln>
          </p:spPr>
        </p:cxnSp>
        <p:cxnSp>
          <p:nvCxnSpPr>
            <p:cNvPr id="298" name="AutoShape 8"/>
            <p:cNvCxnSpPr/>
            <p:nvPr/>
          </p:nvCxnSpPr>
          <p:spPr>
            <a:xfrm flipV="1">
              <a:off x="2623680" y="3083400"/>
              <a:ext cx="3938040" cy="114480"/>
            </a:xfrm>
            <a:prstGeom prst="straightConnector1">
              <a:avLst/>
            </a:prstGeom>
            <a:ln w="9360">
              <a:solidFill>
                <a:srgbClr val="000000"/>
              </a:solidFill>
              <a:miter/>
              <a:tailEnd len="med" type="triangle" w="med"/>
            </a:ln>
          </p:spPr>
        </p:cxnSp>
        <p:cxnSp>
          <p:nvCxnSpPr>
            <p:cNvPr id="299" name="AutoShape 9"/>
            <p:cNvCxnSpPr/>
            <p:nvPr/>
          </p:nvCxnSpPr>
          <p:spPr>
            <a:xfrm>
              <a:off x="3397320" y="2459160"/>
              <a:ext cx="3364200" cy="464400"/>
            </a:xfrm>
            <a:prstGeom prst="straightConnector1">
              <a:avLst/>
            </a:prstGeom>
            <a:ln w="9360">
              <a:solidFill>
                <a:srgbClr val="000000"/>
              </a:solidFill>
              <a:miter/>
              <a:tailEnd len="med" type="triangle" w="med"/>
            </a:ln>
          </p:spPr>
        </p:cxnSp>
        <p:cxnSp>
          <p:nvCxnSpPr>
            <p:cNvPr id="300" name="AutoShape 10"/>
            <p:cNvCxnSpPr/>
            <p:nvPr/>
          </p:nvCxnSpPr>
          <p:spPr>
            <a:xfrm flipV="1">
              <a:off x="6858000" y="3886200"/>
              <a:ext cx="446400" cy="865440"/>
            </a:xfrm>
            <a:prstGeom prst="straightConnector1">
              <a:avLst/>
            </a:prstGeom>
            <a:ln w="9360">
              <a:solidFill>
                <a:srgbClr val="000000"/>
              </a:solidFill>
              <a:miter/>
              <a:tailEnd len="med" type="triangle" w="med"/>
            </a:ln>
          </p:spPr>
        </p:cxnSp>
        <p:cxnSp>
          <p:nvCxnSpPr>
            <p:cNvPr id="301" name="AutoShape 11"/>
            <p:cNvCxnSpPr/>
            <p:nvPr/>
          </p:nvCxnSpPr>
          <p:spPr>
            <a:xfrm flipV="1">
              <a:off x="5561640" y="3810960"/>
              <a:ext cx="1199880" cy="1456560"/>
            </a:xfrm>
            <a:prstGeom prst="straightConnector1">
              <a:avLst/>
            </a:prstGeom>
            <a:ln w="9360">
              <a:solidFill>
                <a:srgbClr val="000000"/>
              </a:solidFill>
              <a:miter/>
              <a:tailEnd len="med" type="triangle" w="med"/>
            </a:ln>
          </p:spPr>
        </p:cxnSp>
        <p:sp>
          <p:nvSpPr>
            <p:cNvPr id="302" name="Oval 12"/>
            <p:cNvSpPr/>
            <p:nvPr/>
          </p:nvSpPr>
          <p:spPr>
            <a:xfrm>
              <a:off x="5140080" y="1086840"/>
              <a:ext cx="1711800" cy="1063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Communications (ICT, participatory video, etc.)</a:t>
              </a:r>
              <a:endParaRPr b="0" lang="en-US" sz="1100" spc="-1" strike="noStrike">
                <a:solidFill>
                  <a:srgbClr val="000000"/>
                </a:solidFill>
                <a:latin typeface="Arial"/>
              </a:endParaRPr>
            </a:p>
          </p:txBody>
        </p:sp>
        <p:sp>
          <p:nvSpPr>
            <p:cNvPr id="303" name="Oval 13"/>
            <p:cNvSpPr/>
            <p:nvPr/>
          </p:nvSpPr>
          <p:spPr>
            <a:xfrm>
              <a:off x="1611360" y="1218960"/>
              <a:ext cx="2020680" cy="1503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Plant Breeding, and Participatory Varietal Selection, Community Biodiversity Management</a:t>
              </a:r>
              <a:endParaRPr b="0" lang="en-US" sz="1100" spc="-1" strike="noStrike">
                <a:solidFill>
                  <a:srgbClr val="000000"/>
                </a:solidFill>
                <a:latin typeface="Arial"/>
              </a:endParaRPr>
            </a:p>
          </p:txBody>
        </p:sp>
        <p:sp>
          <p:nvSpPr>
            <p:cNvPr id="304" name="Oval 14"/>
            <p:cNvSpPr/>
            <p:nvPr/>
          </p:nvSpPr>
          <p:spPr>
            <a:xfrm rot="21468000">
              <a:off x="761760" y="4597560"/>
              <a:ext cx="1857960" cy="800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pact Pathway Approaches, Horizontal Evaluation</a:t>
              </a:r>
              <a:endParaRPr b="0" lang="en-US" sz="1000" spc="-1" strike="noStrike">
                <a:solidFill>
                  <a:srgbClr val="000000"/>
                </a:solidFill>
                <a:latin typeface="Arial"/>
              </a:endParaRPr>
            </a:p>
          </p:txBody>
        </p:sp>
        <p:sp>
          <p:nvSpPr>
            <p:cNvPr id="305" name="Oval 15"/>
            <p:cNvSpPr/>
            <p:nvPr/>
          </p:nvSpPr>
          <p:spPr>
            <a:xfrm>
              <a:off x="1091520" y="2645280"/>
              <a:ext cx="1532160" cy="961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ulti     stakeholder dialogue       platforms</a:t>
              </a:r>
              <a:endParaRPr b="0" lang="en-US" sz="1100" spc="-1" strike="noStrike">
                <a:solidFill>
                  <a:srgbClr val="000000"/>
                </a:solidFill>
                <a:latin typeface="Arial"/>
              </a:endParaRPr>
            </a:p>
          </p:txBody>
        </p:sp>
        <p:sp>
          <p:nvSpPr>
            <p:cNvPr id="306" name="Oval 16"/>
            <p:cNvSpPr/>
            <p:nvPr/>
          </p:nvSpPr>
          <p:spPr>
            <a:xfrm>
              <a:off x="6324480" y="4572000"/>
              <a:ext cx="1696680" cy="984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 Field Schools/ CIALS</a:t>
              </a:r>
              <a:endParaRPr b="0" lang="en-US" sz="1200" spc="-1" strike="noStrike">
                <a:solidFill>
                  <a:srgbClr val="000000"/>
                </a:solidFill>
                <a:latin typeface="Arial"/>
              </a:endParaRPr>
            </a:p>
          </p:txBody>
        </p:sp>
        <p:sp>
          <p:nvSpPr>
            <p:cNvPr id="307" name="Oval 17"/>
            <p:cNvSpPr/>
            <p:nvPr/>
          </p:nvSpPr>
          <p:spPr>
            <a:xfrm>
              <a:off x="976680" y="3667680"/>
              <a:ext cx="1468800" cy="864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novation</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latforms</a:t>
              </a:r>
              <a:endParaRPr b="0" lang="en-US" sz="1100" spc="-1" strike="noStrike">
                <a:solidFill>
                  <a:srgbClr val="000000"/>
                </a:solidFill>
                <a:latin typeface="Arial"/>
              </a:endParaRPr>
            </a:p>
          </p:txBody>
        </p:sp>
        <p:sp>
          <p:nvSpPr>
            <p:cNvPr id="308" name="Oval 18"/>
            <p:cNvSpPr/>
            <p:nvPr/>
          </p:nvSpPr>
          <p:spPr>
            <a:xfrm>
              <a:off x="3527280" y="990720"/>
              <a:ext cx="1552680" cy="966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Market Chain Analysis/Value</a:t>
              </a:r>
              <a:endParaRPr b="0" lang="en-US" sz="1100" spc="-1" strike="noStrike">
                <a:solidFill>
                  <a:srgbClr val="000000"/>
                </a:solidFill>
                <a:latin typeface="Arial"/>
              </a:endParaRPr>
            </a:p>
          </p:txBody>
        </p:sp>
        <p:sp>
          <p:nvSpPr>
            <p:cNvPr id="309" name="Oval 19"/>
            <p:cNvSpPr/>
            <p:nvPr/>
          </p:nvSpPr>
          <p:spPr>
            <a:xfrm>
              <a:off x="3140280" y="5543280"/>
              <a:ext cx="1496880" cy="94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arning</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liances</a:t>
              </a:r>
              <a:endParaRPr b="0" lang="en-US" sz="1100" spc="-1" strike="noStrike">
                <a:solidFill>
                  <a:srgbClr val="000000"/>
                </a:solidFill>
                <a:latin typeface="Arial"/>
              </a:endParaRPr>
            </a:p>
          </p:txBody>
        </p:sp>
        <p:sp>
          <p:nvSpPr>
            <p:cNvPr id="310" name="Oval 20"/>
            <p:cNvSpPr/>
            <p:nvPr/>
          </p:nvSpPr>
          <p:spPr>
            <a:xfrm>
              <a:off x="4647960" y="5029200"/>
              <a:ext cx="1913400" cy="1336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aptive Collaborative Management, CBM, and Co-Management and Conflict Resolution Mechanisms</a:t>
              </a:r>
              <a:endParaRPr b="0" lang="en-US" sz="1000" spc="-1" strike="noStrike">
                <a:solidFill>
                  <a:srgbClr val="000000"/>
                </a:solidFill>
                <a:latin typeface="Arial"/>
              </a:endParaRPr>
            </a:p>
          </p:txBody>
        </p:sp>
        <p:sp>
          <p:nvSpPr>
            <p:cNvPr id="311" name="Oval 21"/>
            <p:cNvSpPr/>
            <p:nvPr/>
          </p:nvSpPr>
          <p:spPr>
            <a:xfrm>
              <a:off x="1523880" y="5398200"/>
              <a:ext cx="1556280" cy="873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Gender analysis/ Gender differentiation</a:t>
              </a:r>
              <a:endParaRPr b="0" lang="en-US" sz="1000" spc="-1" strike="noStrike">
                <a:solidFill>
                  <a:srgbClr val="000000"/>
                </a:solidFill>
                <a:latin typeface="Arial"/>
              </a:endParaRPr>
            </a:p>
          </p:txBody>
        </p:sp>
        <p:cxnSp>
          <p:nvCxnSpPr>
            <p:cNvPr id="312" name="AutoShape 22"/>
            <p:cNvCxnSpPr/>
            <p:nvPr/>
          </p:nvCxnSpPr>
          <p:spPr>
            <a:xfrm>
              <a:off x="4454280" y="1957680"/>
              <a:ext cx="2397960" cy="854280"/>
            </a:xfrm>
            <a:prstGeom prst="straightConnector1">
              <a:avLst/>
            </a:prstGeom>
            <a:ln w="9360">
              <a:solidFill>
                <a:srgbClr val="000000"/>
              </a:solidFill>
              <a:miter/>
              <a:tailEnd len="med" type="triangle" w="med"/>
            </a:ln>
          </p:spPr>
        </p:cxnSp>
        <p:cxnSp>
          <p:nvCxnSpPr>
            <p:cNvPr id="313" name="AutoShape 23"/>
            <p:cNvCxnSpPr/>
            <p:nvPr/>
          </p:nvCxnSpPr>
          <p:spPr>
            <a:xfrm>
              <a:off x="5942160" y="2150640"/>
              <a:ext cx="1161000" cy="660600"/>
            </a:xfrm>
            <a:prstGeom prst="straightConnector1">
              <a:avLst/>
            </a:prstGeom>
            <a:ln w="9360">
              <a:solidFill>
                <a:srgbClr val="000000"/>
              </a:solidFill>
              <a:miter/>
              <a:tailEnd len="med" type="triangle" w="med"/>
            </a:ln>
          </p:spPr>
        </p:cxnSp>
        <p:cxnSp>
          <p:nvCxnSpPr>
            <p:cNvPr id="314" name="AutoShape 24"/>
            <p:cNvCxnSpPr/>
            <p:nvPr/>
          </p:nvCxnSpPr>
          <p:spPr>
            <a:xfrm>
              <a:off x="7466040" y="2438640"/>
              <a:ext cx="76680" cy="381600"/>
            </a:xfrm>
            <a:prstGeom prst="straightConnector1">
              <a:avLst/>
            </a:prstGeom>
            <a:ln w="9360">
              <a:solidFill>
                <a:srgbClr val="000000"/>
              </a:solidFill>
              <a:miter/>
              <a:tailEnd len="med" type="triangle" w="med"/>
            </a:ln>
          </p:spPr>
        </p:cxnSp>
        <p:sp>
          <p:nvSpPr>
            <p:cNvPr id="315" name="Oval 25"/>
            <p:cNvSpPr/>
            <p:nvPr/>
          </p:nvSpPr>
          <p:spPr>
            <a:xfrm>
              <a:off x="6868440" y="1360080"/>
              <a:ext cx="1496880" cy="1179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cision-based approaches eg. Adaptation Pathways-WorldFish</a:t>
              </a:r>
              <a:endParaRPr b="0" lang="en-US" sz="1100" spc="-1" strike="noStrike">
                <a:solidFill>
                  <a:srgbClr val="000000"/>
                </a:solidFill>
                <a:latin typeface="Arial"/>
              </a:endParaRPr>
            </a:p>
          </p:txBody>
        </p:sp>
      </p:grpSp>
      <p:sp>
        <p:nvSpPr>
          <p:cNvPr id="316" name="Text Box 26"/>
          <p:cNvSpPr/>
          <p:nvPr/>
        </p:nvSpPr>
        <p:spPr>
          <a:xfrm>
            <a:off x="152280" y="6248520"/>
            <a:ext cx="1752840" cy="33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J.F. Gonsalves 2012</a:t>
            </a:r>
            <a:endParaRPr b="0" lang="en-US" sz="1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 in a Nutshell</a:t>
            </a:r>
            <a:endParaRPr b="0" lang="en-US" sz="4000" spc="-1" strike="noStrike">
              <a:solidFill>
                <a:srgbClr val="b24d1d"/>
              </a:solidFill>
              <a:latin typeface="Calibri"/>
            </a:endParaRPr>
          </a:p>
        </p:txBody>
      </p:sp>
      <p:sp>
        <p:nvSpPr>
          <p:cNvPr id="192" name=""/>
          <p:cNvSpPr txBox="1"/>
          <p:nvPr/>
        </p:nvSpPr>
        <p:spPr>
          <a:xfrm>
            <a:off x="380880" y="1599840"/>
            <a:ext cx="8382240" cy="4373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view of secondary literature, websites and extensive personal correspondenc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enter-specific review limited to website-research and survey respondent input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pilation of Illustrative Cases (128)</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nduct of surveys ( one-to-one) and analysis - respondents (47) and personal correspondence (33)</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reparation of powerpoint presentation, promising cases collection and working paper</a:t>
            </a:r>
            <a:endParaRPr b="0" lang="en-US" sz="2800" spc="-1" strike="noStrike">
              <a:solidFill>
                <a:srgbClr val="b23b7e"/>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8C2E6-4EE2-43A3-8C84-4EA9E801972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969480" y="1981080"/>
            <a:ext cx="7488360" cy="18288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e should celebrate this diversity in social learning related approaches in the CGIAR</a:t>
            </a:r>
            <a:endParaRPr b="0" lang="en-US" sz="3600" spc="-1" strike="noStrike">
              <a:solidFill>
                <a:srgbClr val="b23b7e"/>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3b7e"/>
              </a:solidFill>
              <a:latin typeface="Calibri"/>
            </a:endParaRPr>
          </a:p>
        </p:txBody>
      </p:sp>
      <p:sp>
        <p:nvSpPr>
          <p:cNvPr id="3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98017-D5BA-4431-965F-3FA5F4F160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1676160"/>
            <a:ext cx="822960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cognize that communities and individuals are already adapting and coping with climate variability and associated chang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cognize that scientists will use different entry points for bringing in SL perspectiv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articipatory assessments have to be deepened (e.g. superficial vulnerability assessments won’t help) to understand how communities cope with adversity</a:t>
            </a:r>
            <a:endParaRPr b="0" lang="en-US" sz="2800" spc="-1" strike="noStrike">
              <a:solidFill>
                <a:srgbClr val="b23b7e"/>
              </a:solidFill>
              <a:latin typeface="Calibri"/>
            </a:endParaRPr>
          </a:p>
        </p:txBody>
      </p:sp>
      <p:sp>
        <p:nvSpPr>
          <p:cNvPr id="3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09499-1140-4AA6-9466-FDA219EE173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990720" y="2286000"/>
            <a:ext cx="7238880" cy="1447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about the question of different scales (local national?)</a:t>
            </a:r>
            <a:endParaRPr b="0" lang="en-US" sz="3600" spc="-1" strike="noStrike">
              <a:solidFill>
                <a:srgbClr val="b23b7e"/>
              </a:solidFill>
              <a:latin typeface="Calibri"/>
            </a:endParaRPr>
          </a:p>
        </p:txBody>
      </p:sp>
      <p:sp>
        <p:nvSpPr>
          <p:cNvPr id="3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3BE94-E869-4BEE-B7CB-95169585528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969840" y="1371240"/>
            <a:ext cx="720432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Calibri"/>
                <a:ea typeface="Calibri"/>
              </a:rPr>
              <a:t>“</a:t>
            </a:r>
            <a:r>
              <a:rPr b="1" lang="en-PH" sz="2800" spc="-1" strike="noStrike">
                <a:solidFill>
                  <a:srgbClr val="000000"/>
                </a:solidFill>
                <a:latin typeface="Calibri"/>
                <a:ea typeface="Calibri"/>
              </a:rPr>
              <a:t>Addressing climate change, whether mitigation or adaptation, is going to require changes in people’s behaviour. We really need to be tailoring both mitigation and adaptation efforts to local contexts, …with the help of local people – a shared learning approach that analyzes, plans, mitigates/ adapts, monitors what happens, and improves on initial result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3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6AC14-60EB-42D1-91F6-18A229D84B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25" name="Rectangle 4"/>
          <p:cNvSpPr/>
          <p:nvPr/>
        </p:nvSpPr>
        <p:spPr>
          <a:xfrm>
            <a:off x="4579560" y="5334120"/>
            <a:ext cx="240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ea typeface="Calibri"/>
              </a:rPr>
              <a:t>- Carol J. Pierce Colfer</a:t>
            </a:r>
            <a:endParaRPr b="0" lang="en-US" sz="20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69840" y="914040"/>
            <a:ext cx="7793280" cy="1066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Relevance of local scale engagement in climate change work</a:t>
            </a:r>
            <a:endParaRPr b="0" lang="en-US" sz="3000" spc="-1" strike="noStrike">
              <a:solidFill>
                <a:srgbClr val="b24d1d"/>
              </a:solidFill>
              <a:latin typeface="Calibri"/>
            </a:endParaRPr>
          </a:p>
        </p:txBody>
      </p:sp>
      <p:sp>
        <p:nvSpPr>
          <p:cNvPr id="327" name=""/>
          <p:cNvSpPr txBox="1"/>
          <p:nvPr/>
        </p:nvSpPr>
        <p:spPr>
          <a:xfrm>
            <a:off x="664920" y="2437920"/>
            <a:ext cx="7716600" cy="3124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e have to deal with location specificities: </a:t>
            </a:r>
            <a:endParaRPr b="0" lang="en-US" sz="3200" spc="-1" strike="noStrike">
              <a:solidFill>
                <a:srgbClr val="b23b7e"/>
              </a:solidFill>
              <a:latin typeface="Calibri"/>
            </a:endParaRPr>
          </a:p>
          <a:p>
            <a:pPr lvl="2" marL="34452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gro-ecological, climatic, culture, etc.</a:t>
            </a:r>
            <a:endParaRPr b="0" lang="en-US" sz="3200" spc="-1" strike="noStrike">
              <a:solidFill>
                <a:srgbClr val="b23b7e"/>
              </a:solidFill>
              <a:latin typeface="Calibri"/>
            </a:endParaRPr>
          </a:p>
          <a:p>
            <a:pPr lvl="2" marL="34452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limate change scenarios must get close to reality and on the other challenge in bringing locally derived solutions to scale</a:t>
            </a:r>
            <a:endParaRPr b="0" lang="en-US" sz="3200" spc="-1" strike="noStrike">
              <a:solidFill>
                <a:srgbClr val="b23b7e"/>
              </a:solidFill>
              <a:latin typeface="Calibri"/>
            </a:endParaRPr>
          </a:p>
        </p:txBody>
      </p:sp>
      <p:sp>
        <p:nvSpPr>
          <p:cNvPr id="3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86DE3-068B-4BBE-A745-EA516D72028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762120" y="2209320"/>
            <a:ext cx="7619760" cy="3429000"/>
          </a:xfrm>
          <a:prstGeom prst="rect">
            <a:avLst/>
          </a:prstGeom>
          <a:noFill/>
          <a:ln w="0">
            <a:noFill/>
          </a:ln>
        </p:spPr>
        <p:txBody>
          <a:bodyPr anchor="t">
            <a:normAutofit fontScale="98000"/>
          </a:bodyPr>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apacities of local level institutions need to be built</a:t>
            </a:r>
            <a:endParaRPr b="0" lang="en-US" sz="3000" spc="-1" strike="noStrike">
              <a:solidFill>
                <a:srgbClr val="b23b7e"/>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rengthening capacities to innovate is just as important as technological solutions</a:t>
            </a:r>
            <a:endParaRPr b="0" lang="en-US" sz="3000" spc="-1" strike="noStrike">
              <a:solidFill>
                <a:srgbClr val="b23b7e"/>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Farmer-to-farmer linkages are a critical factor for horizontal communication ultimately influencing outscaling</a:t>
            </a:r>
            <a:endParaRPr b="0" lang="en-US" sz="3000" spc="-1" strike="noStrike">
              <a:solidFill>
                <a:srgbClr val="b23b7e"/>
              </a:solidFill>
              <a:latin typeface="Calibri"/>
            </a:endParaRPr>
          </a:p>
        </p:txBody>
      </p:sp>
      <p:sp>
        <p:nvSpPr>
          <p:cNvPr id="3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9CF9D-D773-46A8-AE42-37D1575DB40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1" name="TextBox 6"/>
          <p:cNvSpPr/>
          <p:nvPr/>
        </p:nvSpPr>
        <p:spPr>
          <a:xfrm>
            <a:off x="1143000" y="1001880"/>
            <a:ext cx="746748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mportant considerations in strengthening local-level action</a:t>
            </a:r>
            <a:endParaRPr b="0" lang="en-US" sz="32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969840" y="1828800"/>
            <a:ext cx="720432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re has been extensive past work on community-level learning approaches: Farmer Field Schools, CIALS, Adaptive Co-Management remain relevant as  “tools” for enhancing learning, fostering cooperation and as mechanisms for lower-level outscaling</a:t>
            </a:r>
            <a:endParaRPr b="0" lang="en-US" sz="3200" spc="-1" strike="noStrike">
              <a:solidFill>
                <a:srgbClr val="b23b7e"/>
              </a:solidFill>
              <a:latin typeface="Calibri"/>
            </a:endParaRPr>
          </a:p>
        </p:txBody>
      </p:sp>
      <p:sp>
        <p:nvSpPr>
          <p:cNvPr id="3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6C2EF-23A8-4A72-8650-28C89C4A29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969840" y="2133360"/>
            <a:ext cx="7204320" cy="289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But working at the local level alone wont suffice: vertical upscaling approaches are needed</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cial learning is essential at these </a:t>
            </a:r>
            <a:r>
              <a:rPr b="0" lang="en-US" sz="3200" spc="-1" strike="noStrike" u="sng">
                <a:solidFill>
                  <a:srgbClr val="000000"/>
                </a:solidFill>
                <a:uFillTx/>
                <a:latin typeface="Calibri"/>
                <a:ea typeface="Calibri"/>
              </a:rPr>
              <a:t>different </a:t>
            </a:r>
            <a:r>
              <a:rPr b="0" lang="en-US" sz="3200" spc="-1" strike="noStrike">
                <a:solidFill>
                  <a:srgbClr val="000000"/>
                </a:solidFill>
                <a:latin typeface="Calibri"/>
                <a:ea typeface="Calibri"/>
              </a:rPr>
              <a:t>levels</a:t>
            </a:r>
            <a:endParaRPr b="0" lang="en-US" sz="3200" spc="-1" strike="noStrike">
              <a:solidFill>
                <a:srgbClr val="b23b7e"/>
              </a:solidFill>
              <a:latin typeface="Calibri"/>
            </a:endParaRPr>
          </a:p>
        </p:txBody>
      </p:sp>
      <p:sp>
        <p:nvSpPr>
          <p:cNvPr id="3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2E7EB-4F58-4880-B61D-6BE474043C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69840" y="990360"/>
            <a:ext cx="720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Going to scale is always the challenge (the need for research on partnership processes)</a:t>
            </a:r>
            <a:endParaRPr b="0" lang="en-US" sz="2800" spc="-1" strike="noStrike">
              <a:solidFill>
                <a:srgbClr val="b24d1d"/>
              </a:solidFill>
              <a:latin typeface="Calibri"/>
            </a:endParaRPr>
          </a:p>
        </p:txBody>
      </p:sp>
      <p:sp>
        <p:nvSpPr>
          <p:cNvPr id="337" name=""/>
          <p:cNvSpPr txBox="1"/>
          <p:nvPr/>
        </p:nvSpPr>
        <p:spPr>
          <a:xfrm>
            <a:off x="796680" y="2361960"/>
            <a:ext cx="7203960" cy="32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We need platforms and networks which encourage learning about methods as well. We need to have more action research on partnerships and how methods actually play out with feedback loops to learning. Mechanistic blue prints won’t work… This is always the challenge as we go to scale. (2.10)</a:t>
            </a:r>
            <a:endParaRPr b="0" lang="en-US" sz="2800" spc="-1" strike="noStrike">
              <a:solidFill>
                <a:srgbClr val="b23b7e"/>
              </a:solidFill>
              <a:latin typeface="Calibri"/>
            </a:endParaRPr>
          </a:p>
        </p:txBody>
      </p:sp>
      <p:sp>
        <p:nvSpPr>
          <p:cNvPr id="3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A133D-AC4E-4635-B7A2-4E39D683CDD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880" y="228240"/>
            <a:ext cx="8305920" cy="1066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rtnerships and associated platforms offer possible solution</a:t>
            </a:r>
            <a:endParaRPr b="0" lang="en-US" sz="3200" spc="-1" strike="noStrike">
              <a:solidFill>
                <a:srgbClr val="b24d1d"/>
              </a:solidFill>
              <a:latin typeface="Calibri"/>
            </a:endParaRPr>
          </a:p>
        </p:txBody>
      </p:sp>
      <p:pic>
        <p:nvPicPr>
          <p:cNvPr id="340" name="Content Placeholder 4" descr="Untitled.png"/>
          <p:cNvPicPr/>
          <p:nvPr/>
        </p:nvPicPr>
        <p:blipFill>
          <a:blip r:embed="rId1"/>
          <a:stretch/>
        </p:blipFill>
        <p:spPr>
          <a:xfrm>
            <a:off x="0" y="1447920"/>
            <a:ext cx="9144000" cy="4800600"/>
          </a:xfrm>
          <a:prstGeom prst="rect">
            <a:avLst/>
          </a:prstGeom>
          <a:ln w="0">
            <a:noFill/>
          </a:ln>
        </p:spPr>
      </p:pic>
      <p:sp>
        <p:nvSpPr>
          <p:cNvPr id="3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52D74-E86D-4853-929F-7C975410C8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2" name="Rectangle 5"/>
          <p:cNvSpPr/>
          <p:nvPr/>
        </p:nvSpPr>
        <p:spPr>
          <a:xfrm>
            <a:off x="152280" y="6334200"/>
            <a:ext cx="899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Calibri"/>
              </a:rPr>
              <a:t>Source: Working with National Innovation Pilot Learning Sites and Inter-regional Innovation Platforms -Sub-Saharan Africa Challenge Program by Wale Adekunle</a:t>
            </a:r>
            <a:endParaRPr b="0" lang="en-US" sz="1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2133360"/>
            <a:ext cx="8001000" cy="32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eform in CGIAR:</a:t>
            </a:r>
            <a:br>
              <a:rPr sz="4800"/>
            </a:br>
            <a:r>
              <a:rPr b="1" lang="en-US" sz="4800" spc="-1" strike="noStrike">
                <a:solidFill>
                  <a:srgbClr val="000000"/>
                </a:solidFill>
                <a:latin typeface="Calibri"/>
              </a:rPr>
              <a:t>Addressing Development Challenges More Directly</a:t>
            </a:r>
            <a:endParaRPr b="0" lang="en-US" sz="4800" spc="-1" strike="noStrike">
              <a:solidFill>
                <a:srgbClr val="b24d1d"/>
              </a:solidFill>
              <a:latin typeface="Calibri"/>
            </a:endParaRPr>
          </a:p>
        </p:txBody>
      </p:sp>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E0D86-DBF4-442C-9083-E06399EA72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6" name="Title 1"/>
          <p:cNvSpPr/>
          <p:nvPr/>
        </p:nvSpPr>
        <p:spPr>
          <a:xfrm>
            <a:off x="3048120" y="1066680"/>
            <a:ext cx="3276360" cy="13716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PART 1</a:t>
            </a:r>
            <a:endParaRPr b="0" lang="en-US" sz="5400" spc="-1" strike="noStrike">
              <a:solidFill>
                <a:srgbClr val="000000"/>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837720" y="2362320"/>
            <a:ext cx="7488360" cy="2743200"/>
          </a:xfrm>
          <a:prstGeom prst="rect">
            <a:avLst/>
          </a:prstGeom>
          <a:noFill/>
          <a:ln w="0">
            <a:noFill/>
          </a:ln>
        </p:spPr>
        <p:txBody>
          <a:bodyPr anchor="t">
            <a:normAutofit fontScale="96000"/>
          </a:bodyPr>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Indeed, one of the challenges I see is how to integrate participatory communications into scaling up strategies that are both effective and sustainable. All of this is deeply embedded in social learning theory and practice.</a:t>
            </a:r>
            <a:endParaRPr b="0" lang="en-US" sz="3000" spc="-1" strike="noStrike">
              <a:solidFill>
                <a:srgbClr val="b23b7e"/>
              </a:solidFill>
              <a:latin typeface="Calibri"/>
            </a:endParaRPr>
          </a:p>
        </p:txBody>
      </p:sp>
      <p:sp>
        <p:nvSpPr>
          <p:cNvPr id="3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1381C-8261-4565-A98F-56FAEDD054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5" name="TextBox 4"/>
          <p:cNvSpPr/>
          <p:nvPr/>
        </p:nvSpPr>
        <p:spPr>
          <a:xfrm>
            <a:off x="990720" y="1077840"/>
            <a:ext cx="761976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 critical role for participatory communications</a:t>
            </a:r>
            <a:endParaRPr b="0" lang="en-US" sz="3200" spc="-1" strike="noStrike">
              <a:solidFill>
                <a:srgbClr val="000000"/>
              </a:solidFill>
              <a:latin typeface="Arial"/>
            </a:endParaRPr>
          </a:p>
        </p:txBody>
      </p:sp>
      <p:sp>
        <p:nvSpPr>
          <p:cNvPr id="346" name="Rectangle 6"/>
          <p:cNvSpPr/>
          <p:nvPr/>
        </p:nvSpPr>
        <p:spPr>
          <a:xfrm>
            <a:off x="4897440" y="5086440"/>
            <a:ext cx="1584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ea typeface="Calibri"/>
              </a:rPr>
              <a:t>- Kevin Kamp </a:t>
            </a:r>
            <a:endParaRPr b="0" lang="en-US" sz="2000" spc="-1" strike="noStrike">
              <a:solidFill>
                <a:srgbClr val="000000"/>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1828440"/>
            <a:ext cx="7204320" cy="28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Towards an Enabling Environment for Social Learning (Survey Results)</a:t>
            </a:r>
            <a:endParaRPr b="0" lang="en-US" sz="3600" spc="-1" strike="noStrike">
              <a:solidFill>
                <a:srgbClr val="b24d1d"/>
              </a:solidFill>
              <a:latin typeface="Calibri"/>
            </a:endParaRPr>
          </a:p>
        </p:txBody>
      </p:sp>
      <p:sp>
        <p:nvSpPr>
          <p:cNvPr id="3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8E5BA-A41E-4154-BEE5-05873EF8801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45800" y="1294920"/>
            <a:ext cx="7488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Calibri"/>
              </a:rPr>
              <a:t>What does the CGIAR have to do to support and help such approaches (Social Learning related approaches)</a:t>
            </a:r>
            <a:endParaRPr b="0" lang="en-US" sz="2800" spc="-1" strike="noStrike">
              <a:solidFill>
                <a:srgbClr val="b24d1d"/>
              </a:solidFill>
              <a:latin typeface="Calibri"/>
            </a:endParaRPr>
          </a:p>
        </p:txBody>
      </p:sp>
      <p:sp>
        <p:nvSpPr>
          <p:cNvPr id="3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933F1-7BDC-410F-B93F-886E7A395F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1" name="TextBox 4"/>
          <p:cNvSpPr/>
          <p:nvPr/>
        </p:nvSpPr>
        <p:spPr>
          <a:xfrm>
            <a:off x="914400" y="3048120"/>
            <a:ext cx="7391520" cy="214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Times New Roman"/>
              </a:rPr>
              <a:t>Social Learning process should allow for the incorporation of lessons from the past- the challenges to not re-invent the wheel and learn from past experiences – </a:t>
            </a:r>
            <a:r>
              <a:rPr b="0" lang="en-US" sz="3000" spc="-1" strike="noStrike">
                <a:solidFill>
                  <a:srgbClr val="000000"/>
                </a:solidFill>
                <a:latin typeface="Calibri"/>
                <a:ea typeface="Times New Roman"/>
              </a:rPr>
              <a:t>Personal correspondence: </a:t>
            </a:r>
            <a:r>
              <a:rPr b="0" i="1" lang="en-US" sz="3000" spc="-1" strike="noStrike">
                <a:solidFill>
                  <a:srgbClr val="000000"/>
                </a:solidFill>
                <a:latin typeface="Calibri"/>
                <a:ea typeface="Times New Roman"/>
              </a:rPr>
              <a:t>Simone Staiger, Nov. 2012 </a:t>
            </a:r>
            <a:endParaRPr b="0" lang="en-US" sz="3000" spc="-1" strike="noStrike">
              <a:solidFill>
                <a:srgbClr val="000000"/>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533160" y="1066680"/>
            <a:ext cx="786924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Emphasis on the importance of institutional culture that:</a:t>
            </a:r>
            <a:endParaRPr b="0" lang="en-US" sz="2900" spc="-1" strike="noStrike">
              <a:solidFill>
                <a:srgbClr val="b24d1d"/>
              </a:solidFill>
              <a:latin typeface="Calibri"/>
            </a:endParaRPr>
          </a:p>
        </p:txBody>
      </p:sp>
      <p:sp>
        <p:nvSpPr>
          <p:cNvPr id="353" name=""/>
          <p:cNvSpPr txBox="1"/>
          <p:nvPr/>
        </p:nvSpPr>
        <p:spPr>
          <a:xfrm>
            <a:off x="609480" y="1828800"/>
            <a:ext cx="7925040" cy="44956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Recognizes social science as having its own legitimacy (“not a hand maiden of biophysical sciences)</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Values collaboration and understanding of philosophical differences</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Has a commitment to learn from </a:t>
            </a:r>
            <a:r>
              <a:rPr b="1" lang="en-US" sz="2600" spc="-1" strike="noStrike" u="sng">
                <a:solidFill>
                  <a:srgbClr val="000000"/>
                </a:solidFill>
                <a:uFillTx/>
                <a:latin typeface="Calibri"/>
                <a:ea typeface="Calibri"/>
              </a:rPr>
              <a:t>previously</a:t>
            </a:r>
            <a:r>
              <a:rPr b="0" lang="en-US" sz="2600" spc="-1" strike="noStrike">
                <a:solidFill>
                  <a:srgbClr val="000000"/>
                </a:solidFill>
                <a:latin typeface="Calibri"/>
                <a:ea typeface="Calibri"/>
              </a:rPr>
              <a:t> demonstrated </a:t>
            </a:r>
            <a:r>
              <a:rPr b="1" lang="en-US" sz="2600" spc="-1" strike="noStrike" u="sng">
                <a:solidFill>
                  <a:srgbClr val="000000"/>
                </a:solidFill>
                <a:uFillTx/>
                <a:latin typeface="Calibri"/>
                <a:ea typeface="Calibri"/>
              </a:rPr>
              <a:t>work</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Understand the need for more experienced social scientist: “We are good at bringing in young researchers and students…”</a:t>
            </a:r>
            <a:endParaRPr b="0" lang="en-US" sz="2600" spc="-1" strike="noStrike">
              <a:solidFill>
                <a:srgbClr val="b23b7e"/>
              </a:solidFill>
              <a:latin typeface="Calibri"/>
            </a:endParaRPr>
          </a:p>
        </p:txBody>
      </p:sp>
      <p:sp>
        <p:nvSpPr>
          <p:cNvPr id="3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46ECA-DD5F-40EC-9C5E-F9C49A91D2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7200" y="152352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hange will happen if there are a few “champion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eed for a critical mass of like minded professionals in every organisation</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lso need for a balanced composition of interdisciplinary research team members (return of former CG staff to the fold)</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Diversity implies more representation of southern researchers more especially so if social learning is our focus</a:t>
            </a:r>
            <a:endParaRPr b="0" lang="en-US" sz="2800" spc="-1" strike="noStrike">
              <a:solidFill>
                <a:srgbClr val="b23b7e"/>
              </a:solidFill>
              <a:latin typeface="Calibri"/>
            </a:endParaRPr>
          </a:p>
        </p:txBody>
      </p:sp>
      <p:sp>
        <p:nvSpPr>
          <p:cNvPr id="3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1DECD-AC2C-4A55-91CF-4A27A7218DB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a:t>
            </a:r>
            <a:r>
              <a:rPr b="0" lang="en-PH" sz="3200" spc="-1" strike="noStrike">
                <a:solidFill>
                  <a:srgbClr val="000000"/>
                </a:solidFill>
                <a:latin typeface="Calibri"/>
              </a:rPr>
              <a:t>We need partners from the countries in the south who have a more detailed understanding on context. If capacity is a constraint we should build that... it strengthens our capacity to understand a place...“</a:t>
            </a:r>
            <a:endParaRPr b="0" lang="en-US" sz="3200" spc="-1" strike="noStrike">
              <a:solidFill>
                <a:srgbClr val="b23b7e"/>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Ruth Meinzen Dick</a:t>
            </a:r>
            <a:endParaRPr b="0" lang="en-US" sz="2800" spc="-1" strike="noStrike">
              <a:solidFill>
                <a:srgbClr val="b23b7e"/>
              </a:solidFill>
              <a:latin typeface="Calibri"/>
            </a:endParaRPr>
          </a:p>
        </p:txBody>
      </p:sp>
      <p:sp>
        <p:nvSpPr>
          <p:cNvPr id="3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7041B-A6D4-4915-B496-D2CFBFC0F0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66680" y="1066320"/>
            <a:ext cx="7391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Black"/>
              </a:rPr>
              <a:t>Question</a:t>
            </a:r>
            <a:r>
              <a:rPr b="0" lang="en-US" sz="2600" spc="-1" strike="noStrike">
                <a:solidFill>
                  <a:srgbClr val="000000"/>
                </a:solidFill>
                <a:latin typeface="Arial Black"/>
              </a:rPr>
              <a:t>: </a:t>
            </a:r>
            <a:br>
              <a:rPr sz="2600"/>
            </a:br>
            <a:r>
              <a:rPr b="0" lang="en-US" sz="2600" spc="-1" strike="noStrike">
                <a:solidFill>
                  <a:srgbClr val="000000"/>
                </a:solidFill>
                <a:latin typeface="Arial Black"/>
              </a:rPr>
              <a:t>Will the way result management is implemented discourage participation?</a:t>
            </a:r>
            <a:endParaRPr b="0" lang="en-US" sz="2600" spc="-1" strike="noStrike">
              <a:solidFill>
                <a:srgbClr val="b24d1d"/>
              </a:solidFill>
              <a:latin typeface="Calibri"/>
            </a:endParaRPr>
          </a:p>
        </p:txBody>
      </p:sp>
      <p:sp>
        <p:nvSpPr>
          <p:cNvPr id="360" name=""/>
          <p:cNvSpPr txBox="1"/>
          <p:nvPr/>
        </p:nvSpPr>
        <p:spPr>
          <a:xfrm>
            <a:off x="990360" y="2590920"/>
            <a:ext cx="7203960" cy="3581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at results are valued? What about development outcome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cial learning is difficult to track after all</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ill the recent emphasis on </a:t>
            </a:r>
            <a:r>
              <a:rPr b="1" lang="en-US" sz="2800" spc="-1" strike="noStrike" u="sng">
                <a:solidFill>
                  <a:srgbClr val="000000"/>
                </a:solidFill>
                <a:uFillTx/>
                <a:latin typeface="Calibri"/>
                <a:ea typeface="Calibri"/>
              </a:rPr>
              <a:t>intermediate development outcomes</a:t>
            </a:r>
            <a:r>
              <a:rPr b="1" lang="en-US" sz="2800" spc="-1" strike="noStrike">
                <a:solidFill>
                  <a:srgbClr val="000000"/>
                </a:solidFill>
                <a:latin typeface="Calibri"/>
                <a:ea typeface="Calibri"/>
              </a:rPr>
              <a:t> </a:t>
            </a:r>
            <a:r>
              <a:rPr b="0" lang="en-US" sz="2800" spc="-1" strike="noStrike">
                <a:solidFill>
                  <a:srgbClr val="000000"/>
                </a:solidFill>
                <a:latin typeface="Calibri"/>
                <a:ea typeface="Calibri"/>
              </a:rPr>
              <a:t>provide new windows of opportunity?</a:t>
            </a:r>
            <a:endParaRPr b="0" lang="en-US" sz="2800" spc="-1" strike="noStrike">
              <a:solidFill>
                <a:srgbClr val="b23b7e"/>
              </a:solidFill>
              <a:latin typeface="Calibri"/>
            </a:endParaRPr>
          </a:p>
        </p:txBody>
      </p:sp>
      <p:sp>
        <p:nvSpPr>
          <p:cNvPr id="3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33306-7CCA-4EC9-A2D5-F00CE7D202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90360" y="1219320"/>
            <a:ext cx="7203960" cy="54864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Calibri"/>
                <a:ea typeface="Calibri"/>
              </a:rPr>
              <a:t>The incentives structure must be in place. The requirement to deliver outcomes in term of development is a key step. </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Calibri"/>
                <a:ea typeface="Calibri"/>
              </a:rPr>
              <a:t>S</a:t>
            </a:r>
            <a:r>
              <a:rPr b="0" lang="en-US" sz="2600" spc="-1" strike="noStrike">
                <a:solidFill>
                  <a:srgbClr val="000000"/>
                </a:solidFill>
                <a:latin typeface="Calibri"/>
                <a:ea typeface="Calibri"/>
              </a:rPr>
              <a:t>enior management have a key role in fostering a new environment for change in emphasis, approaches and commitment to development outcomes.</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Calibri"/>
                <a:ea typeface="Calibri"/>
              </a:rPr>
              <a:t>Scientific publications must be considered as only one contribution to agricultural knowledge for development. Other knowledge products and its effects must be compensated. (2.5)</a:t>
            </a:r>
            <a:endParaRPr b="0" lang="en-US" sz="2600" spc="-1" strike="noStrike">
              <a:solidFill>
                <a:srgbClr val="b23b7e"/>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p:txBody>
      </p:sp>
      <p:sp>
        <p:nvSpPr>
          <p:cNvPr id="3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6A322-068E-4771-BFCC-7735C2AC3F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969840" y="1143000"/>
            <a:ext cx="7204320" cy="4495680"/>
          </a:xfrm>
          <a:prstGeom prst="rect">
            <a:avLst/>
          </a:prstGeom>
          <a:noFill/>
          <a:ln w="0">
            <a:noFill/>
          </a:ln>
        </p:spPr>
        <p:txBody>
          <a:bodyPr anchor="t">
            <a:norm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spondents were fairly upbeat about new prospects for social learning methods</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y felt that Senior Management center support is </a:t>
            </a:r>
            <a:r>
              <a:rPr b="0" lang="en-US" sz="2800" spc="-1" strike="noStrike" u="sng">
                <a:solidFill>
                  <a:srgbClr val="000000"/>
                </a:solidFill>
                <a:uFillTx/>
                <a:latin typeface="Calibri"/>
                <a:ea typeface="Calibri"/>
              </a:rPr>
              <a:t>warranted </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centive, recognition and reward mechanisms need to be more explicitly assured</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ew work-modalities and focus on outcomes have made a difference</a:t>
            </a:r>
            <a:endParaRPr b="0" lang="en-US" sz="2800" spc="-1" strike="noStrike">
              <a:solidFill>
                <a:srgbClr val="b23b7e"/>
              </a:solidFill>
              <a:latin typeface="Calibri"/>
            </a:endParaRPr>
          </a:p>
        </p:txBody>
      </p:sp>
      <p:sp>
        <p:nvSpPr>
          <p:cNvPr id="3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4B766-BD04-41A1-B357-6F6DE54A68B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Top priority that all of us can work on is to put in place a system of managing and monitoring CRP performance against agreed and prioritized </a:t>
            </a:r>
            <a:r>
              <a:rPr b="1" lang="en-PH" sz="2800" spc="-1" strike="noStrike" u="sng">
                <a:solidFill>
                  <a:srgbClr val="ff0000"/>
                </a:solidFill>
                <a:uFillTx/>
                <a:latin typeface="Calibri"/>
              </a:rPr>
              <a:t>development outcomes</a:t>
            </a:r>
            <a:r>
              <a:rPr b="0" lang="en-PH" sz="2800" spc="-1" strike="noStrike">
                <a:solidFill>
                  <a:srgbClr val="000000"/>
                </a:solidFill>
                <a:latin typeface="Calibri"/>
              </a:rPr>
              <a:t>, reported in a timely and harmonized fashion. This is in essence what the SRF Action Plan lays out and this is now widely endorsed and the top priority for implementation in 2013. (</a:t>
            </a:r>
            <a:r>
              <a:rPr b="0" i="1" lang="en-PH" sz="2800" spc="-1" strike="noStrike">
                <a:solidFill>
                  <a:srgbClr val="000000"/>
                </a:solidFill>
                <a:latin typeface="Calibri"/>
              </a:rPr>
              <a:t>From Frank Rijsberman reflections on GCARD, Nov 5</a:t>
            </a:r>
            <a:r>
              <a:rPr b="0" i="1" lang="en-PH" sz="2800" spc="-1" strike="noStrike" baseline="30000">
                <a:solidFill>
                  <a:srgbClr val="000000"/>
                </a:solidFill>
                <a:latin typeface="Calibri"/>
              </a:rPr>
              <a:t>th</a:t>
            </a:r>
            <a:r>
              <a:rPr b="0" lang="en-PH" sz="2800" spc="-1" strike="noStrike">
                <a:solidFill>
                  <a:srgbClr val="000000"/>
                </a:solidFill>
                <a:latin typeface="Calibri"/>
              </a:rPr>
              <a:t>)</a:t>
            </a:r>
            <a:endParaRPr b="0" lang="en-US" sz="2800" spc="-1" strike="noStrike">
              <a:solidFill>
                <a:srgbClr val="b23b7e"/>
              </a:solidFill>
              <a:latin typeface="Calibri"/>
            </a:endParaRPr>
          </a:p>
        </p:txBody>
      </p:sp>
      <p:sp>
        <p:nvSpPr>
          <p:cNvPr id="3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E58B1-175D-4D82-97E9-C6786BD993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27CA8-3B00-4458-95AC-8B68B8311D7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99" name="Picture 2" descr="http://image.slidesharecdn.com/carlosperezdelcastillo29octam-121030102821-phpapp02/95/slide-1-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652F6-F221-4206-8E0D-EFA27618B1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69" name="TextBox 4"/>
          <p:cNvSpPr/>
          <p:nvPr/>
        </p:nvSpPr>
        <p:spPr>
          <a:xfrm>
            <a:off x="533520" y="1935000"/>
            <a:ext cx="82296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s the research community ready to respond to these challenges? In general, the 47 respondents and 33 correspondents were optimistic about the prospects for change.</a:t>
            </a:r>
            <a:endParaRPr b="0" lang="en-US" sz="4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3600" spc="-1" strike="noStrike">
              <a:solidFill>
                <a:srgbClr val="b24d1d"/>
              </a:solidFill>
              <a:latin typeface="Calibri"/>
              <a:ea typeface="Angsana New"/>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0A742-C7F4-4B4F-B7AD-CE4A43169D2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3" name="Picture 2" descr="http://image.slidesharecdn.com/carlosperezdelcastillo29octam-121030102821-phpapp02/95/slide-7-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E5478-1DEE-4817-A83C-A740A2F3D2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6" name="Picture 2" descr="http://image.slidesharecdn.com/carlosperezdelcastillo29octam-121030102821-phpapp02/95/slide-8-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3600" spc="-1" strike="noStrike">
              <a:solidFill>
                <a:srgbClr val="b24d1d"/>
              </a:solidFill>
              <a:latin typeface="Calibri"/>
              <a:ea typeface="Angsana New"/>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78B4B-CFF3-43D3-9C26-8B53D5283C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10" name="Picture 2" descr="http://image.slidesharecdn.com/carlosperezdelcastillo29octam-121030102821-phpapp02/95/slide-10-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LeBorgne, Ewen (ILRI)</cp:lastModifiedBy>
  <dcterms:modified xsi:type="dcterms:W3CDTF">2013-02-28T13:09:31Z</dcterms:modified>
  <cp:revision>208</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