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A2E8-5AC8-430F-ABC2-56569D308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6EDB-D34E-4B6D-9EBC-B96000459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6A9B5-E23F-4546-816D-D06E183DD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3D79F-0B24-4819-B3AF-F80D2ED80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9480C-3761-4A24-A1AD-B3A40939E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E53BF-97E6-48FB-AD7B-8DC877A68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F6A68-FC69-41B7-BB32-B3CD996BA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C6CA-1356-4A50-BF5C-AE43FD6DD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F30DF-59A5-429A-93C0-A5A8C723B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9A985-6CC1-4443-A6CB-F2D85A21E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9CD97-9DBD-4122-8F83-7ABA75E0B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352AC-71CB-466E-AC90-430B7D0C1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CDA13-8005-4122-A9B3-7505D8D63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7340A-8826-4834-87D9-DF6D6850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0A266-066E-4177-B6D7-8C2F473AE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043F9-803F-4A64-8A2D-A3BD99F98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B9F77-839B-4D66-AFC0-49DED5CBC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B02F9-1ECF-4305-B121-226C2100D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9E9FC-9E77-494A-A705-81A2485FB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CDA185-306E-4A58-B158-34EA030EC0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10AA7-CB46-4409-A9E9-96BC1F5EB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922DF-8DE4-496F-AED1-126358FAB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497A03-1A84-4C2F-BA47-58FA93D90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3F187-42EA-4AD9-97F5-23C551562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E79DC-A9BC-45C8-81E3-33026FACE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710D9B-F340-4DD5-9038-FB19A8D73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5F6DC-9125-4195-822E-9547D25A6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BBF8B-9320-4E0A-8165-54E7DBF6B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7E12F-80D6-4FE8-80D0-EE21487C0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C79864-C11B-4CFB-8DE7-6C0FDDB47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AE823-1BE2-404C-A5D3-AFADC14BF3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4015B0-0F17-40C7-A119-4C37B7337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F5C5D-5E2C-4FE5-8DD3-66EC858BB5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112E7-1D78-491E-854B-874ADEDA6B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778D8-56FE-4B19-AF71-490E44D92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B74B8-693E-425D-8ACF-935B9AF42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0D397-5481-48AA-834A-3150A25B0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DDA12-E981-4480-955F-3CC731752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959DB-3C9B-434E-ACEF-160157B372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CF36D-5289-443E-ACBF-F5735916D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A91FF-9C0D-4754-893F-01425C054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256E8-94BF-461B-BAC5-FA1BFE7AD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DFA5B-43F2-4DC8-A1EC-86017B871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CB6E39-A274-42F0-8F8C-BA1B127CF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30EC32-1CB4-44A9-848F-5C2A5F8FD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625F1-4A43-4877-AC81-63099241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3D2A4-86DB-4723-9F86-D54CB0886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84FB-C891-461A-93C3-7C95A794E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77727-501B-426B-A75D-29F5ABA1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445AA-ED6B-48A5-9A9F-47BA9EF90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2727-316E-4A9A-BCD0-5795C3E8F28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6277-741D-4D25-AD99-A981E57C17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B7F0-8530-4E83-BE62-C7C78E9B245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333D-009A-466D-AB74-BE8A7C9441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295f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e0e7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030B-0F0B-47AD-B041-CE9C91542CD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569E-1496-4D3B-8E9F-EC4695AAC6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295f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c1c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6585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263F-AE2B-47AF-BD48-E93C517F71E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2EFC-B2F2-40ED-9B25-FCA9A7FBB3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33920" y="48006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6BE9-F402-45AA-A176-4915310A82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838080" y="1879560"/>
            <a:ext cx="7315200" cy="19029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ocial learning in the CGIAR: Highlights of a stocktaking exercise</a:t>
            </a:r>
            <a:endParaRPr b="0" lang="en-US" sz="4400" spc="-1" strike="noStrike">
              <a:solidFill>
                <a:srgbClr val="000000"/>
              </a:solidFill>
              <a:latin typeface="Arial"/>
            </a:endParaRPr>
          </a:p>
        </p:txBody>
      </p:sp>
      <p:sp>
        <p:nvSpPr>
          <p:cNvPr id="184" name="TextBox 4"/>
          <p:cNvSpPr/>
          <p:nvPr/>
        </p:nvSpPr>
        <p:spPr>
          <a:xfrm>
            <a:off x="4495680" y="990720"/>
            <a:ext cx="358164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212"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257E-D022-4DD1-B7E7-3D7E0F3972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48960" y="1828440"/>
            <a:ext cx="720396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 new approach to transforming AR4D, do we also have a more conducive environment in the CGIAR for Social Learning Approaches?</a:t>
            </a:r>
            <a:endParaRPr b="0" lang="en-US" sz="3600" spc="-1" strike="noStrike">
              <a:solidFill>
                <a:srgbClr val="b24d1d"/>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0F53-378E-4ED2-B8A1-526FE2C991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6" name="TextBox 4"/>
          <p:cNvSpPr/>
          <p:nvPr/>
        </p:nvSpPr>
        <p:spPr>
          <a:xfrm>
            <a:off x="2362320" y="685800"/>
            <a:ext cx="53337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the survey respondents said?</a:t>
            </a:r>
            <a:endParaRPr b="0" lang="en-US" sz="3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1066320"/>
            <a:ext cx="746748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GIAR might now does have a more conducive climate for</a:t>
            </a:r>
            <a:br>
              <a:rPr sz="3600"/>
            </a:br>
            <a:r>
              <a:rPr b="0" lang="en-US" sz="3600" spc="-1" strike="noStrike">
                <a:solidFill>
                  <a:srgbClr val="000000"/>
                </a:solidFill>
                <a:latin typeface="Calibri"/>
              </a:rPr>
              <a:t>Social Learning (SL).</a:t>
            </a:r>
            <a:endParaRPr b="0" lang="en-US" sz="3600" spc="-1" strike="noStrike">
              <a:solidFill>
                <a:srgbClr val="b24d1d"/>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93AD-537C-4CCD-817B-51DF59BBED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71BB-C7E2-4F65-B96B-DF720D3C5C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1"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9C56-CF9A-4A7C-AD27-3D32C7E668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6"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3476-1C9B-4067-AEEF-B7D33888D3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29"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hanges were often the result of donor pressur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donor pressures to bridge the R&amp;D gaps remain?</a:t>
            </a:r>
            <a:endParaRPr b="0" lang="en-US" sz="3200" spc="-1" strike="noStrike">
              <a:solidFill>
                <a:srgbClr val="b23b7e"/>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AD8A-B492-4DD1-9F39-2F9DDB43EF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6350-9954-44B9-888B-DBB16879D7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6877-6E3E-423C-A0DC-83DE86FCD3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Rectangle 4"/>
          <p:cNvSpPr/>
          <p:nvPr/>
        </p:nvSpPr>
        <p:spPr>
          <a:xfrm>
            <a:off x="380880" y="1973160"/>
            <a:ext cx="8229600" cy="35067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are many implementing groups, facilitators, and communities of practice experts as there are methods“</a:t>
            </a:r>
            <a:endParaRPr b="0" lang="en-US" sz="2800" spc="-1" strike="noStrike">
              <a:solidFill>
                <a:srgbClr val="000000"/>
              </a:solidFill>
              <a:latin typeface="Arial"/>
            </a:endParaRPr>
          </a:p>
          <a:p>
            <a:pPr marL="338040" indent="-338040">
              <a:lnSpc>
                <a:spcPct val="100000"/>
              </a:lnSpc>
              <a:buClr>
                <a:srgbClr val="000000"/>
              </a:buClr>
              <a:buFont typeface="Arial"/>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6D6F-9F64-4721-AAED-4F0EDF0486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llenges remain:</a:t>
            </a:r>
            <a:endParaRPr b="0" lang="en-US" sz="3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6"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ECE3-7713-45B7-A061-66780DA0A5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
        <p:nvSpPr>
          <p:cNvPr id="240"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C171-BF1E-4111-8182-CDF590F3D3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CFC6-5B18-4C0F-A935-7CE58FDFFA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D91D-1C19-4B2B-8AEA-CB2FA1EA2F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llenges remain (contd.):</a:t>
            </a:r>
            <a:endParaRPr b="0" lang="en-US" sz="2800" spc="-1" strike="noStrike">
              <a:solidFill>
                <a:srgbClr val="b24d1d"/>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AE2A-E54D-4E77-8D8F-0B8736A7A2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01BD-E681-4663-AD3D-14A63A0BB3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09480" y="1676520"/>
            <a:ext cx="8001000" cy="380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2200" spc="-1" strike="noStrike">
                <a:solidFill>
                  <a:srgbClr val="000000"/>
                </a:solidFill>
                <a:latin typeface="Calibri"/>
                <a:ea typeface="Calibri"/>
              </a:rPr>
              <a:t>local</a:t>
            </a:r>
            <a:r>
              <a:rPr b="0" lang="en-PH" sz="22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2200" spc="-1" strike="noStrike">
                <a:solidFill>
                  <a:srgbClr val="000000"/>
                </a:solidFill>
                <a:latin typeface="Calibri"/>
                <a:ea typeface="Calibri"/>
              </a:rPr>
              <a:t>Carol Colfer</a:t>
            </a:r>
            <a:endParaRPr b="0" lang="en-US" sz="2200" spc="-1" strike="noStrike">
              <a:solidFill>
                <a:srgbClr val="000000"/>
              </a:solidFill>
              <a:latin typeface="Arial"/>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5607-89FD-4824-A977-2C2CB47DC1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666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cial Learning in</a:t>
            </a:r>
            <a:br>
              <a:rPr sz="4000"/>
            </a:br>
            <a:r>
              <a:rPr b="1" lang="en-US" sz="4000" spc="-1" strike="noStrike">
                <a:solidFill>
                  <a:srgbClr val="000000"/>
                </a:solidFill>
                <a:latin typeface="Calibri"/>
              </a:rPr>
              <a:t>Support of CCAF’s</a:t>
            </a:r>
            <a:br>
              <a:rPr sz="4000"/>
            </a:br>
            <a:r>
              <a:rPr b="1" lang="en-US" sz="4000" spc="-1" strike="noStrike">
                <a:solidFill>
                  <a:srgbClr val="000000"/>
                </a:solidFill>
                <a:latin typeface="Calibri"/>
              </a:rPr>
              <a:t>Theme 4 Objectives</a:t>
            </a:r>
            <a:endParaRPr b="0" lang="en-US" sz="4000" spc="-1" strike="noStrike">
              <a:solidFill>
                <a:srgbClr val="b24d1d"/>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7829-EC84-4477-B23F-FC8B7B1122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382D-2AE0-49F9-9A52-0A2C44C8E0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A45C-03AF-49B8-920D-189BBD13AC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DE57-4963-41AE-9C01-E84EA5BF7F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440"/>
            <a:ext cx="80010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9" name=""/>
          <p:cNvSpPr txBox="1"/>
          <p:nvPr/>
        </p:nvSpPr>
        <p:spPr>
          <a:xfrm>
            <a:off x="1025280" y="2285640"/>
            <a:ext cx="720396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5 days in November-December 2012 for stocktaking</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days in January-February 2013 for preparation of working paper and revised powerpoint presentation</a:t>
            </a:r>
            <a:endParaRPr b="0" lang="en-US" sz="3200" spc="-1" strike="noStrike">
              <a:solidFill>
                <a:srgbClr val="b23b7e"/>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2827-AB2E-45DA-B91F-47569ABAFE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0FB9-0991-46CE-919A-47B52B28EE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7405-1FC3-4EF5-9197-5F93F0DA10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52B7-E888-4025-B3D4-CF3859736A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72"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3"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8080" y="1523880"/>
            <a:ext cx="7772400" cy="419112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 a AR4D framework, a research related interventions are needed in at least three levels:</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COMMUNITY LEVEL: Community-based biodiversity management, adaptive co -management, co-management, etc.</a:t>
            </a:r>
            <a:endParaRPr b="0" lang="en-US" sz="2500" spc="-1" strike="noStrike">
              <a:solidFill>
                <a:srgbClr val="b23b7e"/>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MULTISCALE LEVEL: Innovation platforms, learning alliances, multi-stakeholder platforms, etc.</a:t>
            </a:r>
            <a:endParaRPr b="0" lang="en-US" sz="2500" spc="-1" strike="noStrike">
              <a:solidFill>
                <a:srgbClr val="b23b7e"/>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b23b7e"/>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422A-7FCB-4E83-86BC-B717EAFD37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6" descr="Untitled1.png"/>
          <p:cNvPicPr/>
          <p:nvPr/>
        </p:nvPicPr>
        <p:blipFill>
          <a:blip r:embed="rId1"/>
          <a:stretch/>
        </p:blipFill>
        <p:spPr>
          <a:xfrm>
            <a:off x="2362320" y="1603440"/>
            <a:ext cx="4952880" cy="4035240"/>
          </a:xfrm>
          <a:prstGeom prst="rect">
            <a:avLst/>
          </a:prstGeom>
          <a:ln w="0">
            <a:noFill/>
          </a:ln>
        </p:spPr>
      </p:pic>
      <p:sp>
        <p:nvSpPr>
          <p:cNvPr id="277" name=""/>
          <p:cNvSpPr txBox="1"/>
          <p:nvPr/>
        </p:nvSpPr>
        <p:spPr>
          <a:xfrm>
            <a:off x="2285640" y="685800"/>
            <a:ext cx="563868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Calibri"/>
              </a:rPr>
              <a:t>At whatever scale we work a learning framework should apply... </a:t>
            </a:r>
            <a:endParaRPr b="0" lang="en-US" sz="2400" spc="-1" strike="noStrike">
              <a:solidFill>
                <a:srgbClr val="b23b7e"/>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C856-045F-4950-BD96-08858EDC6C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837720" y="5562720"/>
            <a:ext cx="80773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Black"/>
              </a:rPr>
              <a:t>Need for learning framework</a:t>
            </a:r>
            <a:endParaRPr b="0" lang="en-US" sz="2800" spc="-1" strike="noStrike">
              <a:solidFill>
                <a:srgbClr val="b24d1d"/>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 is crucial</a:t>
            </a:r>
            <a:endParaRPr b="0" lang="en-US" sz="3200" spc="-1" strike="noStrike">
              <a:solidFill>
                <a:srgbClr val="b24d1d"/>
              </a:solidFill>
              <a:latin typeface="Calibri"/>
            </a:endParaRPr>
          </a:p>
        </p:txBody>
      </p:sp>
      <p:sp>
        <p:nvSpPr>
          <p:cNvPr id="281"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8CA8-7898-4E28-972C-D048019EA8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284" name=""/>
          <p:cNvSpPr txBox="1"/>
          <p:nvPr/>
        </p:nvSpPr>
        <p:spPr>
          <a:xfrm>
            <a:off x="969840" y="2209680"/>
            <a:ext cx="7204320" cy="1524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hat the stocktaking exercise came up with</a:t>
            </a:r>
            <a:endParaRPr b="0" lang="en-US" sz="4000" spc="-1" strike="noStrike">
              <a:solidFill>
                <a:srgbClr val="b23b7e"/>
              </a:solidFill>
              <a:latin typeface="Calibri"/>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D297-F1A6-414C-A5A3-89F91D1C16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33160" y="2057400"/>
            <a:ext cx="830556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32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70EC-5D74-446F-9787-9FC4955F80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62120" y="2209320"/>
            <a:ext cx="7488000" cy="2590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Calibri"/>
              </a:rPr>
              <a:t>Check out the cases recommended by respondents in this survey</a:t>
            </a:r>
            <a:endParaRPr b="0" lang="en-US" sz="3800" spc="-1" strike="noStrike">
              <a:solidFill>
                <a:srgbClr val="b23b7e"/>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BC33-85D9-47DF-99DD-9856B1E1D7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3861-BA35-4B51-B05F-E402B83EAE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92" name="Group 2"/>
          <p:cNvGrpSpPr/>
          <p:nvPr/>
        </p:nvGrpSpPr>
        <p:grpSpPr>
          <a:xfrm>
            <a:off x="747360" y="990720"/>
            <a:ext cx="7719840" cy="5498640"/>
            <a:chOff x="747360" y="990720"/>
            <a:chExt cx="7719840" cy="5498640"/>
          </a:xfrm>
        </p:grpSpPr>
        <p:sp>
          <p:nvSpPr>
            <p:cNvPr id="29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9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9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9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9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9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9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0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0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0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0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0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0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0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0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0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0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1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1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1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1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1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1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1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2" name=""/>
          <p:cNvSpPr txBox="1"/>
          <p:nvPr/>
        </p:nvSpPr>
        <p:spPr>
          <a:xfrm>
            <a:off x="380880" y="1599840"/>
            <a:ext cx="8382240" cy="437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view of secondary literature, websites and extensive personal corresponden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specific review limited to website-research and survey respondent inpu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ilation of Illustrative Cases (128)</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duct of surveys ( one-to-one) and analysis - respondents (47) and personal correspondence (33)</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eparation of powerpoint presentation, promising cases collection and working paper</a:t>
            </a:r>
            <a:endParaRPr b="0" lang="en-US" sz="28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EA15-1816-41B2-A303-FE0F594E92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62A1-2D4D-4070-A73F-8DCC1BD10F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4630-171F-4382-BE7F-44B2EAC553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BB04-0608-4934-8FBF-92054FB0DC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C4D2-24F2-4FEA-9FE4-76E97DC0E0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5"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27"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FC70-3312-4D2B-ADF5-5B0D9E48D3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3607-DB09-45EA-B2FE-4E08B3154F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1"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45DD-D8CD-47B0-AF63-6D841B4412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1A62-7844-42DB-A442-6C682AAB9F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37"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C8D4-7A47-477A-BF91-28B3CD616A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40" name="Content Placeholder 4" descr="Untitled.png"/>
          <p:cNvPicPr/>
          <p:nvPr/>
        </p:nvPicPr>
        <p:blipFill>
          <a:blip r:embed="rId1"/>
          <a:stretch/>
        </p:blipFill>
        <p:spPr>
          <a:xfrm>
            <a:off x="0" y="1447920"/>
            <a:ext cx="9144000" cy="4800600"/>
          </a:xfrm>
          <a:prstGeom prst="rect">
            <a:avLst/>
          </a:prstGeom>
          <a:ln w="0">
            <a:noFill/>
          </a:ln>
        </p:spPr>
      </p:pic>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48D0-649A-4FB7-8685-36E5100362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2133360"/>
            <a:ext cx="80010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form in CGIAR:</a:t>
            </a:r>
            <a:br>
              <a:rPr sz="4800"/>
            </a:br>
            <a:r>
              <a:rPr b="1" lang="en-US" sz="4800" spc="-1" strike="noStrike">
                <a:solidFill>
                  <a:srgbClr val="000000"/>
                </a:solidFill>
                <a:latin typeface="Calibri"/>
              </a:rPr>
              <a:t>Addressing Development Challenges More Directly</a:t>
            </a:r>
            <a:endParaRPr b="0" lang="en-US" sz="4800" spc="-1" strike="noStrike">
              <a:solidFill>
                <a:srgbClr val="b24d1d"/>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F715-027C-4810-91FF-0BF0B32FD2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Title 1"/>
          <p:cNvSpPr/>
          <p:nvPr/>
        </p:nvSpPr>
        <p:spPr>
          <a:xfrm>
            <a:off x="3048120" y="1066680"/>
            <a:ext cx="327636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E658-7F28-467B-8393-8EF024381F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46"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DCE5-92FD-43F3-87A3-2A5E333804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F816-B71C-419F-A5D0-9F0DD4CE75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53"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FE41-B163-4F24-A4A2-30CFE2D177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C6B3-01B6-4FF8-B9AA-A638EDA5CC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86BA-E622-4EFA-9D25-82CAD3BF61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60"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A815-CA1F-427E-BF90-87E1A812ED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0360" y="1219320"/>
            <a:ext cx="7203960" cy="5486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The incentives structure must be in place. The requirement to deliver outcomes in term of development is a key step. </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a:t>
            </a:r>
            <a:r>
              <a:rPr b="0" lang="en-US" sz="2600" spc="-1" strike="noStrike">
                <a:solidFill>
                  <a:srgbClr val="000000"/>
                </a:solidFill>
                <a:latin typeface="Calibri"/>
                <a:ea typeface="Calibri"/>
              </a:rPr>
              <a:t>enior management have a key role in fostering a new environment for change in emphasis, approaches and commitment to development outcom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Calibri"/>
                <a:ea typeface="Calibri"/>
              </a:rPr>
              <a:t>Scientific publications must be considered as only one contribution to agricultural knowledge for development. Other knowledge products and its effects must be compensated. (2.5)</a:t>
            </a:r>
            <a:endParaRPr b="0" lang="en-US" sz="2600" spc="-1" strike="noStrike">
              <a:solidFill>
                <a:srgbClr val="b23b7e"/>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5C4E-6044-4C28-9E76-E66CE146F1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840" y="1143000"/>
            <a:ext cx="720432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pondents were fairly upbeat about new prospects for social learning method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F967-4677-41D8-8665-A9B2860FBD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a:t>
            </a:r>
            <a:r>
              <a:rPr b="1" lang="en-PH" sz="2800" spc="-1" strike="noStrike" u="sng">
                <a:solidFill>
                  <a:srgbClr val="ff0000"/>
                </a:solidFill>
                <a:uFillTx/>
                <a:latin typeface="Calibri"/>
              </a:rPr>
              <a:t>development outcomes</a:t>
            </a:r>
            <a:r>
              <a:rPr b="0" lang="en-PH" sz="2800" spc="-1" strike="noStrike">
                <a:solidFill>
                  <a:srgbClr val="000000"/>
                </a:solidFill>
                <a:latin typeface="Calibri"/>
              </a:rPr>
              <a:t>,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914C-274D-4FE6-B945-A4AA5B870A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67A7-2273-4812-908C-F37DA70B5F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9"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7953-41ED-427A-BEEA-B9CB27AC03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9" name="TextBox 4"/>
          <p:cNvSpPr/>
          <p:nvPr/>
        </p:nvSpPr>
        <p:spPr>
          <a:xfrm>
            <a:off x="533520" y="1935000"/>
            <a:ext cx="82296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s the research community ready to respond to these challenges? In general, the 47 respondents and 33 correspondents were optimistic about the prospects for change.</a:t>
            </a:r>
            <a:endParaRPr b="0" lang="en-US" sz="4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A3E2-543E-4B66-A057-AE2ECEA110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3"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B7B1-7BDF-4274-BDA4-DD223569B6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3600" spc="-1" strike="noStrike">
              <a:solidFill>
                <a:srgbClr val="b24d1d"/>
              </a:solidFill>
              <a:latin typeface="Calibri"/>
              <a:ea typeface="Angsana New"/>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A8E2-9929-42DF-8B24-446140898C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0"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28T13:09:31Z</dcterms:modified>
  <cp:revision>208</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