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9E0-EF6F-4340-AE57-C0C49A62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40A9-25EB-4FA9-B6EF-2CD3C113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7D6-4355-4D87-A44A-4853E5D3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5EF-8A36-4678-9E00-B781A455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B67-F96B-4560-B104-8D8831EF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D82-073E-4395-B4FB-DF943313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C98-27F4-4295-9555-ADD8DA57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5FB-6177-4541-AC30-47462D28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4EB-F21A-4334-8404-5C725476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EA0-BC8E-4C47-B0E2-67CEA371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598-CF15-4406-BB42-7AC885D4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B58-95B5-4A2F-81D9-2BB3C5E8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9190-F0FB-4F64-99C2-1097C00C0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9:50:14Z</dcterms:created>
  <dc:creator>Alison Shaw</dc:creator>
  <dc:description/>
  <dc:language>en-US</dc:language>
  <cp:lastModifiedBy>eleborgne</cp:lastModifiedBy>
  <dcterms:modified xsi:type="dcterms:W3CDTF">2012-05-10T09:58:06Z</dcterms:modified>
  <cp:revision>1</cp:revision>
  <dc:subject/>
  <dc:title>Supporting endogenous social learning for enhanced food security</dc:title>
</cp:coreProperties>
</file>