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2C4-79EF-430E-A2BF-A6059D85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485-731C-4832-815D-6BF95E35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BA2-785A-4844-8A99-C279B028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B97-DE1A-4A1A-9258-0A7705CB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DDF-180A-4CDD-89BB-292D71C0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D90-8ADA-4FA3-8D25-DDB5A566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4B7-E47D-446A-B6A7-3618FD6B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182-D1EC-4797-8FB0-F9B2D5D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9D3-4DFC-4A42-90BD-998DEECC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69E-33BC-46DC-BFF8-B4CDA96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F97-69F4-4851-B8FD-AE53A7E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7BA-A53F-446C-ACF1-D2B8DAE2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675-5395-4C29-BCD0-00C2BD40A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endogenous social learning for enhanced food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&#9;photo.jpg                                                      00000002&#9;ERIC - HP                      00000000:"/>
          <p:cNvPicPr/>
          <p:nvPr/>
        </p:nvPicPr>
        <p:blipFill>
          <a:blip r:embed="rId1"/>
          <a:stretch/>
        </p:blipFill>
        <p:spPr>
          <a:xfrm>
            <a:off x="838080" y="1650960"/>
            <a:ext cx="72392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533520"/>
          <a:ext cx="8534160" cy="6100560"/>
        </p:xfrm>
        <a:graphic>
          <a:graphicData uri="http://schemas.openxmlformats.org/drawingml/2006/table">
            <a:tbl>
              <a:tblPr/>
              <a:tblGrid>
                <a:gridCol w="3886200"/>
                <a:gridCol w="464796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pportunity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n regions; select criteria;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(AA, USAID, AL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Learning and Evaluative Fra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ternal experts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 knowledge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Joint Needs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facilit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&amp; comparative analy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experts |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09480" y="1295280"/>
          <a:ext cx="7848720" cy="3438720"/>
        </p:xfrm>
        <a:graphic>
          <a:graphicData uri="http://schemas.openxmlformats.org/drawingml/2006/table">
            <a:tbl>
              <a:tblPr/>
              <a:tblGrid>
                <a:gridCol w="3429000"/>
                <a:gridCol w="4419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’s inv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inking across s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 | partners | strategic partners fo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Influencing &amp; Strategic Cataly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, cross-section of participating 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Outreach &amp; Support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AFS, partner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9:50:14Z</dcterms:created>
  <dc:creator>Alison Shaw</dc:creator>
  <dc:description/>
  <dc:language>en-US</dc:language>
  <cp:lastModifiedBy>eleborgne</cp:lastModifiedBy>
  <dcterms:modified xsi:type="dcterms:W3CDTF">2012-05-10T09:58:06Z</dcterms:modified>
  <cp:revision>1</cp:revision>
  <dc:subject/>
  <dc:title>Supporting endogenous social learning for enhanced food security</dc:title>
</cp:coreProperties>
</file>