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B1C-5029-4BF5-B5E3-1924C234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3A4-63DA-4CE8-A23D-DE88AA3B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E6F-529B-4665-9D41-BCBD8C7C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DC8-7B42-4D0B-9399-949123B2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B4B-BD1F-4E48-B273-37604373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DBB-8486-4E49-8803-3C4D812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ACC-10E5-4E65-ADB6-F42560B0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3F2-2C04-4E5D-9DAE-4F07255D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06E-C9AA-4342-958C-16DCD00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04A-1B13-4C07-8317-ADFF714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4AA-A9CC-4DEE-8EA4-19C5EAD4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F57-A953-4531-BAAC-D693092E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5C2-1D70-4808-8F59-DD81923E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50:14Z</dcterms:created>
  <dc:creator>Alison Shaw</dc:creator>
  <dc:description/>
  <dc:language>en-US</dc:language>
  <cp:lastModifiedBy>eleborgne</cp:lastModifiedBy>
  <dcterms:modified xsi:type="dcterms:W3CDTF">2012-05-10T09:58:06Z</dcterms:modified>
  <cp:revision>1</cp:revision>
  <dc:subject/>
  <dc:title>Supporting endogenous social learning for enhanced food security</dc:title>
</cp:coreProperties>
</file>