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387-7C30-44CA-B085-9F6A9422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BEEE-B54A-451F-BCE2-0B18667C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E47-3533-4B2A-99DD-5E34EB09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37C-6C50-415D-881D-91701F9F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54E-663D-495A-8411-44864E9C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697-2142-4AD2-9ECE-CD4C8D8C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1A4-9832-4571-B3CA-FA056304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436-30CA-4F05-AF52-21604466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E2D-B5C0-45BB-829F-6F0DCC70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319-5DC4-4D82-9B02-8035DABF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755-C8EE-4CCE-BE86-77532654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70B-C16A-40CE-A32A-BBB6AF33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B19F-FFA9-45F2-98E3-9C68E8725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9:50:14Z</dcterms:created>
  <dc:creator>Alison Shaw</dc:creator>
  <dc:description/>
  <dc:language>en-US</dc:language>
  <cp:lastModifiedBy>eleborgne</cp:lastModifiedBy>
  <dcterms:modified xsi:type="dcterms:W3CDTF">2012-05-10T09:58:06Z</dcterms:modified>
  <cp:revision>1</cp:revision>
  <dc:subject/>
  <dc:title>Supporting endogenous social learning for enhanced food security</dc:title>
</cp:coreProperties>
</file>