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A87-D538-4907-83F3-5EAAF71D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116-BAF9-494E-B8E3-69AE6711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71D-74D4-4C0E-848C-105E638F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0BC-51CA-4E9F-8607-855BC909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096-E441-429E-8CC8-10CAF6C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C11-B4D0-44FF-B13A-703D3B37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193-A2A0-48EE-90CF-E017ED32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AF5-2E32-4389-A137-27359736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6BF-C1EB-433C-AEED-77920A0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BFD-53D7-4B88-ABBB-140469B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A8F-3255-4422-ADD7-6FC3B556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924-FC61-42E7-B4FF-FB05C8B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EFFC-F424-4D59-8C0F-49891791B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genous Social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: 3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of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/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/re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nity with CC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Evaluativ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781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Joint Needs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ovation support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support - cc and f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fferenti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lysis &amp;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ocumentation - throughou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interpretation as part of meaning-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dividual &amp; comparativ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ness matrix/impact of 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akes it effective/impactfu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/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scalable and when?What is contextu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Re-evaluation: 2+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evaluate long-term social learning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o process as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Linking across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fluencing &amp; Strategic Cat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/external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of strategic interventions/levers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Ongoing Outreach &amp; Suppor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: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valuation: 3 months at yea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 $300K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: 1b/c, 2, 3, 4/b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9:47Z</dcterms:created>
  <dc:creator>Alison Shaw</dc:creator>
  <dc:description/>
  <dc:language>en-US</dc:language>
  <cp:lastModifiedBy>eleborgne</cp:lastModifiedBy>
  <dcterms:modified xsi:type="dcterms:W3CDTF">2012-05-14T10:49:12Z</dcterms:modified>
  <cp:revision>2</cp:revision>
  <dc:subject/>
  <dc:title>Endogenous Social Learning</dc:title>
</cp:coreProperties>
</file>