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E1C-1541-4CF3-8835-B35F7B9C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706-FA25-45B8-B1F7-7B7655B0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754-0007-415B-B267-7CA695E6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DBE-4BE5-4C7D-91AF-72730EA4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CDC-0A2D-4BF5-8591-3A4FEB7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A77-865E-4FB5-9D49-71F59F6B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E75-AE53-4DA0-BEEF-2E4C908A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C05-18EA-4135-AD8F-16F90130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9B3-47CF-40AB-A49F-7FCBBAF6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7F1-170E-472F-8ABF-EE2C886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17C-EBE4-4652-9AE8-A637390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AF6-2FAB-4FB6-9005-DA79174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CEE-0FDA-47BF-91FB-BBE989DC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genous Soci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: 3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of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/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/re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nity with CC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Evaluativ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781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Joint Need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ovation support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support - cc and f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fferenti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lysis &amp;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ocumentation - throughou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nterpretation as part of meaning-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dividual &amp; comparativ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ness matrix/impact of 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akes it effective/impactfu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/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scalable and when?What is contextu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Re-evaluation: 2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evaluate long-term social learning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o process a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Linking across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fluencing &amp; Strategic Cat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/extern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of strategic interventions/levers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Ongoing Outreach &amp; Suppor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: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valuation: 3 months at yea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 $300K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: 1b/c, 2, 3, 4/b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9:47Z</dcterms:created>
  <dc:creator>Alison Shaw</dc:creator>
  <dc:description/>
  <dc:language>en-US</dc:language>
  <cp:lastModifiedBy>eleborgne</cp:lastModifiedBy>
  <dcterms:modified xsi:type="dcterms:W3CDTF">2012-05-14T10:49:12Z</dcterms:modified>
  <cp:revision>2</cp:revision>
  <dc:subject/>
  <dc:title>Endogenous Social Learning</dc:title>
</cp:coreProperties>
</file>