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7BE3-69FA-4C8E-A866-2E42130A3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3AA1-90EF-4EDD-82E5-17DBC96F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D94A-C77E-4205-BF42-8196C809E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C8C7-2CC1-4A01-BAEF-999364C23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3903-1590-4879-A18C-25663FFF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25EF-ED5F-451E-ACCA-FC42126F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384E-D546-44F8-82D1-C967967F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5831-9B0B-4337-B596-B366E89B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43F9-6E99-4E2D-A79B-4343F780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3679-590B-480D-928F-2344225A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7EE6-851D-422E-95BA-4C7DC9BB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5163-DF16-4D1D-9F33-C3C02B1B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53DF-020F-4760-8559-B912E128E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ogenous Social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ies: 3 Pilot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portunity Assess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of reg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on/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evance/repu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finity with CCA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and Evaluative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78168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ies - Pilot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Joint Needs Asse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innovation support f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 support - cc and food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acka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acity bui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ing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l differentiation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ies - Pilot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Analysis &amp; Outc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Documentation - throughout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erative interpretation as part of meaning-ma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Individual &amp; comparative analy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ctiveness matrix/impact of social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makes it effective/impactfu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/how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is scalable and when?What is contextua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Re-evaluation: 2+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ze and evaluate long-term social learning imp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-evaluate user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to process as need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ies - Pilot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Linking across 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ver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er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Influencing &amp; Strategic Cataly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l/external stakehol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ing of strategic interventions/levers for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Ongoing Outreach &amp; Support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lot: 2+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evaluation: 3 months at yea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dget: $300K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al Differ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ou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y points: 1b/c, 2, 3, 4/b, 5, 6,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rting endogenous social learning for enhanced food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&#9;photo.jpg                                                      00000002&#9;ERIC - HP                      00000000:"/>
          <p:cNvPicPr/>
          <p:nvPr/>
        </p:nvPicPr>
        <p:blipFill>
          <a:blip r:embed="rId1"/>
          <a:stretch/>
        </p:blipFill>
        <p:spPr>
          <a:xfrm>
            <a:off x="838080" y="1650960"/>
            <a:ext cx="723924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04920" y="533520"/>
          <a:ext cx="8534160" cy="6100560"/>
        </p:xfrm>
        <a:graphic>
          <a:graphicData uri="http://schemas.openxmlformats.org/drawingml/2006/table">
            <a:tbl>
              <a:tblPr/>
              <a:tblGrid>
                <a:gridCol w="3886200"/>
                <a:gridCol w="4647960"/>
              </a:tblGrid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’s involv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1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Opportunity Assess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an regions; select criteria; mapp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(AA, USAID, ALI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Learning and Evaluative Frame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ternal experts |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rs knowledge interf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Joint Needs Assess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| facilita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Ana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cumen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vidual &amp; comparative analy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perts | partn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-evalu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perts | partn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09480" y="1295280"/>
          <a:ext cx="7848720" cy="3438720"/>
        </p:xfrm>
        <a:graphic>
          <a:graphicData uri="http://schemas.openxmlformats.org/drawingml/2006/table">
            <a:tbl>
              <a:tblPr/>
              <a:tblGrid>
                <a:gridCol w="3429000"/>
                <a:gridCol w="441972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’s invol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Linking across sc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| strategic partners for interf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Influencing &amp; Strategic Catalyz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, partners, cross-section of participating act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Outreach &amp; Support Fun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, partner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06:59:47Z</dcterms:created>
  <dc:creator>Alison Shaw</dc:creator>
  <dc:description/>
  <dc:language>en-US</dc:language>
  <cp:lastModifiedBy>eleborgne</cp:lastModifiedBy>
  <dcterms:modified xsi:type="dcterms:W3CDTF">2012-05-14T10:49:12Z</dcterms:modified>
  <cp:revision>2</cp:revision>
  <dc:subject/>
  <dc:title>Endogenous Social Learning</dc:title>
</cp:coreProperties>
</file>