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FBA0-329A-41F3-A730-A7195D7E5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A9D4-CC72-4467-A708-CC70EFFA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9DF0-48F1-4FFF-B45C-94F557C62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E2FD-51B8-4091-846F-0C85BFFCD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8A1C-2E49-478B-9B7A-7B8DC21B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30E9-CC8C-45D1-942D-0A22A4D0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0AD1-EBF3-40A6-973D-D243F3E3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FA23-48DE-4B16-A74D-8DC263DF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E111-823F-469F-AB14-355881EA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95E4-8266-4C90-B16F-9416B4D7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64F6-1CFB-4B6F-81D7-B27D5C4A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82CF-08F5-4DE7-B61E-B019C6EB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BE2D-2454-4616-8C3D-69465E5AD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pporting endogenous social learning for enhanced food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&#9;photo.jpg                                                      00000002&#9;ERIC - HP                      00000000:"/>
          <p:cNvPicPr/>
          <p:nvPr/>
        </p:nvPicPr>
        <p:blipFill>
          <a:blip r:embed="rId1"/>
          <a:stretch/>
        </p:blipFill>
        <p:spPr>
          <a:xfrm>
            <a:off x="838080" y="1650960"/>
            <a:ext cx="723924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04920" y="533520"/>
          <a:ext cx="8534160" cy="6100560"/>
        </p:xfrm>
        <a:graphic>
          <a:graphicData uri="http://schemas.openxmlformats.org/drawingml/2006/table">
            <a:tbl>
              <a:tblPr/>
              <a:tblGrid>
                <a:gridCol w="3886200"/>
                <a:gridCol w="4647960"/>
              </a:tblGrid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’s involv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12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Opportunity Assess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an regions; select criteria; mapp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(AA, USAID, ALI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Learning and Evaluative Framewo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external experts |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rs knowledge interf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Joint Needs Assess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| facilitat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Analy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cumen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vidual &amp; comparative analy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experts | partn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-evalu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experts | partn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609480" y="1295280"/>
          <a:ext cx="7848720" cy="3438720"/>
        </p:xfrm>
        <a:graphic>
          <a:graphicData uri="http://schemas.openxmlformats.org/drawingml/2006/table">
            <a:tbl>
              <a:tblPr/>
              <a:tblGrid>
                <a:gridCol w="3429000"/>
                <a:gridCol w="441972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’s invol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Linking across sc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| strategic partners for interf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Influencing &amp; Strategic Catalyz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, partners, cross-section of participating act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Outreach &amp; Support Fun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, partner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09:50:14Z</dcterms:created>
  <dc:creator>Alison Shaw</dc:creator>
  <dc:description/>
  <dc:language>en-US</dc:language>
  <cp:lastModifiedBy>eleborgne</cp:lastModifiedBy>
  <dcterms:modified xsi:type="dcterms:W3CDTF">2012-05-10T09:58:06Z</dcterms:modified>
  <cp:revision>1</cp:revision>
  <dc:subject/>
  <dc:title>Supporting endogenous social learning for enhanced food security</dc:title>
</cp:coreProperties>
</file>