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067-3130-4A46-8562-15177BB6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6A1-5B5E-4E9D-A18F-D8D1E829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B94-27C8-4E78-9A48-5C48B155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388-A71B-4C9C-8F09-55A7FD14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F5C-5B72-4076-973C-F682B9DD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DCE-93CF-49A8-97B9-96FB2197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C8E-2F4E-4CFF-9799-7AF2FC71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3D7-C407-425C-B9C2-6D44F54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C5B-E23A-4ECA-B571-BEDD9F3C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B47-BBC9-4DB2-8054-3E48D2A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124-1996-4A32-A68D-7C77456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EBE-CAB5-4B39-AA26-2786F2F4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B6C6-43CD-4343-82BD-822AB83EA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genous Social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: 3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of 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/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ce/re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inity with CC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nd Evaluativ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781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Joint Needs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innovation support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support - cc and foo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ifferenti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alysis &amp;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ocumentation - throughou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interpretation as part of meaning-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dividual &amp; comparative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ness matrix/impact of soc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akes it effective/impactfu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/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scalable and when?What is contextu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Re-evaluation: 2+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and evaluate long-term social learning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us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o process as nee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Linking across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Influencing &amp; Strategic Cataly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/external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of strategic interventions/levers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Ongoing Outreach &amp; Suppor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: 2+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valuation: 3 months at yea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 $300K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ou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: 1b/c, 2, 3, 4/b, 5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9:47Z</dcterms:created>
  <dc:creator>Alison Shaw</dc:creator>
  <dc:description/>
  <dc:language>en-US</dc:language>
  <cp:lastModifiedBy>eleborgne</cp:lastModifiedBy>
  <dcterms:modified xsi:type="dcterms:W3CDTF">2012-05-14T10:49:12Z</dcterms:modified>
  <cp:revision>2</cp:revision>
  <dc:subject/>
  <dc:title>Endogenous Social Learning</dc:title>
</cp:coreProperties>
</file>