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F1C-500B-4666-94B1-FBA85A44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071-3235-4A86-8915-2012883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F2A-348A-4FDE-9DB9-F1C179BE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B7B-01A0-409F-A7A3-7E0EF696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0C5-FC90-4853-AC1E-0661E52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5ED-C218-44E0-B6FD-36ABA388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959-BC72-4A09-9A7C-7285C7C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506-AB2A-4313-A551-FAAC741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EEC-3EDD-4166-9345-5AF4C30A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1BE-EEA8-42C2-908B-54DAC95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F76-4E1B-4C3A-B99E-A3B972E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E2C-5989-4774-BFFF-7561310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8AC9-E5BD-4421-8330-D4CE8D61F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genous Social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: 3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of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/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/re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nity with CC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nd Evaluativ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781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Joint Needs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innovation support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support - cc and foo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ifferenti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lysis &amp;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ocumentation - throughou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interpretation as part of meaning-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dividual &amp; comparative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ness matrix/impact of 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akes it effective/impactfu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/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scalable and when?What is contextu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Re-evaluation: 2+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and evaluate long-term social learning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o process as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- Pilo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Linking across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Influencing &amp; Strategic Cataly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/external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of strategic interventions/levers for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Ongoing Outreach &amp; Suppor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: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valuation: 3 months at yea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 $300K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o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: 1b/c, 2, 3, 4/b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9:47Z</dcterms:created>
  <dc:creator>Alison Shaw</dc:creator>
  <dc:description/>
  <dc:language>en-US</dc:language>
  <cp:lastModifiedBy>eleborgne</cp:lastModifiedBy>
  <dcterms:modified xsi:type="dcterms:W3CDTF">2012-05-14T10:49:12Z</dcterms:modified>
  <cp:revision>2</cp:revision>
  <dc:subject/>
  <dc:title>Endogenous Social Learning</dc:title>
</cp:coreProperties>
</file>