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F4EB-DEB6-45C5-B60D-57398F39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C95-74BD-46CD-8971-1331E566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ACC-815F-4EA1-9F5F-FDF4AFF7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57D-DBE7-4239-B155-82634D19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7AF-EB0C-4FCE-8ACE-CCEC1B4A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0A3-2789-48F8-9056-9807F9AC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273-3272-43B0-B055-BB10D4D3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ECDF-8B3F-4B3E-A2F3-20CF9E29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253-891F-4327-B3C5-FA3F99D4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4FE-BABE-4EF1-B527-61A6CC2E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982-31CF-47C3-A8AD-8F712D78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307-AF74-48C2-98E6-85B318EE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D490-5122-4C5F-AD60-87622F4885D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Docum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3789360"/>
          <a:ext cx="7920000" cy="2728800"/>
        </p:xfrm>
        <a:graphic>
          <a:graphicData uri="http://schemas.openxmlformats.org/drawingml/2006/table">
            <a:tbl>
              <a:tblPr/>
              <a:tblGrid>
                <a:gridCol w="1295280"/>
                <a:gridCol w="3384360"/>
                <a:gridCol w="3240360"/>
              </a:tblGrid>
              <a:tr h="934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pecific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 “owners”, researchers, “champions”, keeping in mind social differentiation and representa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84360" y="1557360"/>
          <a:ext cx="7991280" cy="180036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e / test social learning as a t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 researchers and policy community (and convince them) on the basis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the practice itself – further developing the learning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4360" y="549360"/>
          <a:ext cx="7920000" cy="4119480"/>
        </p:xfrm>
        <a:graphic>
          <a:graphicData uri="http://schemas.openxmlformats.org/drawingml/2006/table">
            <a:tbl>
              <a:tblPr/>
              <a:tblGrid>
                <a:gridCol w="1366560"/>
                <a:gridCol w="1800360"/>
                <a:gridCol w="4753080"/>
              </a:tblGrid>
              <a:tr h="902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, Activities, Process, Results, Outputs, Outcome : Has SL reached its go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categories (Knowledge, Attitudes, Skills, Practi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focus: Mechanism of causality and at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: Analytical frameworks, selection of 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84360" y="4941720"/>
          <a:ext cx="7991280" cy="144000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“owners” of each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jorge</cp:lastModifiedBy>
  <dcterms:modified xsi:type="dcterms:W3CDTF">2012-05-09T16:19:02Z</dcterms:modified>
  <cp:revision>25</cp:revision>
  <dc:subject/>
  <dc:title>Action planning work Tuesday</dc:title>
</cp:coreProperties>
</file>