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299B-2C29-46AD-91C1-A186B2191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9377-CCBC-4ED8-819E-09A0218D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75FC-614A-4C5F-B2FE-F70DD8DE3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F1E1-1372-4B5A-92C9-0E0C4A9A5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3FA7-A0AF-4A1B-BCF1-4D316994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D025-6AE6-4C29-82B0-F6CDBB36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8B5C-3BD7-4285-BC75-5FD64B11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E03C-3A9D-4A2C-9D7B-7B029398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B888-F8BC-4FC1-843A-CA002D1B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F33E-62DC-41F9-86AD-C3D678FE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6396-AC97-42E0-AEDC-482B5750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CF01-7EF0-4973-A3BF-61D82EA1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7AD9-0960-4AF9-8E13-FAE6A1A10C5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. Documen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4360" y="3789360"/>
          <a:ext cx="7920000" cy="2728800"/>
        </p:xfrm>
        <a:graphic>
          <a:graphicData uri="http://schemas.openxmlformats.org/drawingml/2006/table">
            <a:tbl>
              <a:tblPr/>
              <a:tblGrid>
                <a:gridCol w="1295280"/>
                <a:gridCol w="3384360"/>
                <a:gridCol w="3240360"/>
              </a:tblGrid>
              <a:tr h="934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 Inventory, selection of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U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specific cri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 Selection of participants, and inv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e and involve “owners”, researchers, “champions”, keeping in mind social differentiation and representative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684360" y="1557360"/>
          <a:ext cx="7991280" cy="1800360"/>
        </p:xfrm>
        <a:graphic>
          <a:graphicData uri="http://schemas.openxmlformats.org/drawingml/2006/table">
            <a:tbl>
              <a:tblPr/>
              <a:tblGrid>
                <a:gridCol w="1366560"/>
                <a:gridCol w="66247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yse / test social learning as a t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 researchers and policy community (and convince them) on the basis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 the practice itself – further developing the learning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84360" y="549360"/>
          <a:ext cx="7920000" cy="4119480"/>
        </p:xfrm>
        <a:graphic>
          <a:graphicData uri="http://schemas.openxmlformats.org/drawingml/2006/table">
            <a:tbl>
              <a:tblPr/>
              <a:tblGrid>
                <a:gridCol w="1366560"/>
                <a:gridCol w="1800360"/>
                <a:gridCol w="4753080"/>
              </a:tblGrid>
              <a:tr h="902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 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ext, Baseline, Activities, Process, Results, Outputs, Outcome : Has SL reached its goal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 Analysis (test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categories (Knowledge, Attitudes, Skills, Practi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fic focus: Mechanism of causality and attrib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: Analytical frameworks, selection of indic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 Writing, sharing, disse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level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nts of the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CCAF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side world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684360" y="4941720"/>
          <a:ext cx="7991280" cy="1440000"/>
        </p:xfrm>
        <a:graphic>
          <a:graphicData uri="http://schemas.openxmlformats.org/drawingml/2006/table">
            <a:tbl>
              <a:tblPr/>
              <a:tblGrid>
                <a:gridCol w="1366560"/>
                <a:gridCol w="662472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 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“owners” of each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5:54:51Z</dcterms:created>
  <dc:creator>eleborgne</dc:creator>
  <dc:description/>
  <dc:language>en-US</dc:language>
  <cp:lastModifiedBy>jorge</cp:lastModifiedBy>
  <dcterms:modified xsi:type="dcterms:W3CDTF">2012-05-09T16:19:02Z</dcterms:modified>
  <cp:revision>25</cp:revision>
  <dc:subject/>
  <dc:title>Action planning work Tuesday</dc:title>
</cp:coreProperties>
</file>