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AA8E-F396-4012-8F98-19E1B3632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EDBB-2B19-4D3E-88C8-166ACB07F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2740-4097-490F-86D9-79FD74AC4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A1B8-F711-442D-B38A-B313A681E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EA17-787B-4126-B2A9-CF192ED69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6DB0-A150-4CE4-BB2F-3E5975236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B9CA-2A57-4BC9-A0E4-FACD076F0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374B-CA3E-46AB-A3AF-FB08555FB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5FE9-FDB2-4182-8A3C-E0BE3C770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C8CB-85DF-4959-B186-A271BF0F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627F-D188-4685-ABAB-FFA200FC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FA05-880B-4C91-9609-3B2C25B9D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1B438-2AFC-4C74-A828-45EB63E3336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1. Documenta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84360" y="3789360"/>
          <a:ext cx="7920000" cy="2728800"/>
        </p:xfrm>
        <a:graphic>
          <a:graphicData uri="http://schemas.openxmlformats.org/drawingml/2006/table">
            <a:tbl>
              <a:tblPr/>
              <a:tblGrid>
                <a:gridCol w="1295280"/>
                <a:gridCol w="3384360"/>
                <a:gridCol w="3240360"/>
              </a:tblGrid>
              <a:tr h="9349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 Inventory, selection of 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ed on U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ed on specific crite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3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 Selection of participants, and invi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ite and involve “owners”, researchers, “champions”, keeping in mind social differentiation and representative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684360" y="1557360"/>
          <a:ext cx="7991280" cy="1800360"/>
        </p:xfrm>
        <a:graphic>
          <a:graphicData uri="http://schemas.openxmlformats.org/drawingml/2006/table">
            <a:tbl>
              <a:tblPr/>
              <a:tblGrid>
                <a:gridCol w="1366560"/>
                <a:gridCol w="662472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yse / test social learning as a to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orm researchers and policy community (and convince them) on the basis of ev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rove the practice itself – further developing the learning pro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684360" y="549360"/>
          <a:ext cx="7920000" cy="4119480"/>
        </p:xfrm>
        <a:graphic>
          <a:graphicData uri="http://schemas.openxmlformats.org/drawingml/2006/table">
            <a:tbl>
              <a:tblPr/>
              <a:tblGrid>
                <a:gridCol w="1366560"/>
                <a:gridCol w="1800360"/>
                <a:gridCol w="4753080"/>
              </a:tblGrid>
              <a:tr h="9021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 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ext, Baseline, Activities, Process, Results, Outputs, Outcome : Has SL reached its goal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  Analysis (testin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t categories (Knowledge, Attitudes, Skills, Practic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ecific focus: Mechanism of causality and attrib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: Analytical frameworks, selection of indica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  Writing, sharing, dissemin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t level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ticipants of the pro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her CCAF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“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side world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684360" y="4941720"/>
          <a:ext cx="7991280" cy="1440000"/>
        </p:xfrm>
        <a:graphic>
          <a:graphicData uri="http://schemas.openxmlformats.org/drawingml/2006/table">
            <a:tbl>
              <a:tblPr/>
              <a:tblGrid>
                <a:gridCol w="1366560"/>
                <a:gridCol w="6624720"/>
              </a:tblGrid>
              <a:tr h="14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cilit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earch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a peo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“owners” of each c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5:54:51Z</dcterms:created>
  <dc:creator>eleborgne</dc:creator>
  <dc:description/>
  <dc:language>en-US</dc:language>
  <cp:lastModifiedBy>jorge</cp:lastModifiedBy>
  <dcterms:modified xsi:type="dcterms:W3CDTF">2012-05-09T16:19:02Z</dcterms:modified>
  <cp:revision>25</cp:revision>
  <dc:subject/>
  <dc:title>Action planning work Tuesday</dc:title>
</cp:coreProperties>
</file>