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FEA6-BD9C-477C-9A89-D0963745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425F-0AAC-4A6E-B910-27B33347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C35-5E15-45C7-A71A-9266190C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328F-FC32-4109-BC02-D6C25977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D98-EC48-4865-BF2D-1877E0C3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5F6-0AB0-4F60-A3B6-285C05C5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C19F-6817-4C92-8AC3-6A1CA0FF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492-683B-4CDE-A737-B254B4A0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3ED-357D-4669-8288-550F2FBE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461-FD86-4DC5-9D7A-94107237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5CF5-8149-431A-938C-3589E135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4CE3-35D3-4554-BA44-2E1EEA00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ABBE-84C8-4D66-B655-0D7D47EC4A7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on planning work Wednes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upon plans (and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ap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from day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What </a:t>
            </a:r>
            <a:r>
              <a:rPr b="1" i="1" lang="en-GB" sz="2600" spc="-1" strike="noStrike">
                <a:solidFill>
                  <a:srgbClr val="00b050"/>
                </a:solidFill>
                <a:latin typeface="Calibri"/>
              </a:rPr>
              <a:t>change </a:t>
            </a: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(result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What activities (how) / </a:t>
            </a:r>
            <a:r>
              <a:rPr b="1" i="1" lang="en-GB" sz="2600" spc="-1" strike="noStrike">
                <a:solidFill>
                  <a:srgbClr val="00b050"/>
                </a:solidFill>
                <a:latin typeface="Calibri"/>
              </a:rPr>
              <a:t>sequencing </a:t>
            </a: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are we proposing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specific scale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(within the </a:t>
            </a:r>
            <a:r>
              <a:rPr b="0" i="1" lang="en-GB" sz="2600" spc="-1" strike="noStrike" u="sng">
                <a:solidFill>
                  <a:srgbClr val="000000"/>
                </a:solidFill>
                <a:uFillTx/>
                <a:latin typeface="Calibri"/>
              </a:rPr>
              <a:t>sub-national level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) and </a:t>
            </a: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targeted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plays what role to get it going (CCAFS and potential partners, who’s leading, who does what else?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 do these activities happen (in a 2-3 year horiz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Funding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allpark: how much is required for this pla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nge 1: document and test social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ctivities (sequenced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pecific scale / who is targe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re (optiona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o plays what ro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ime needed to do i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unding ballpar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cial differenti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cumen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alyse / test social learning as a t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form researchers and policy community (and convince them) on the basis of evi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rove the practice itself – further developing the learning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692280"/>
          <a:ext cx="8229600" cy="5724360"/>
        </p:xfrm>
        <a:graphic>
          <a:graphicData uri="http://schemas.openxmlformats.org/drawingml/2006/table">
            <a:tbl>
              <a:tblPr/>
              <a:tblGrid>
                <a:gridCol w="2962440"/>
                <a:gridCol w="2592360"/>
                <a:gridCol w="2674800"/>
              </a:tblGrid>
              <a:tr h="25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criteria like success or failure, finished or ongoing, number of cases, inside or outside the CGIAR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IAR Bangladesh simultaneous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LINNO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observ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wner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mpion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ping in mind social differentiation and representativ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68360" y="304920"/>
          <a:ext cx="8229600" cy="6261120"/>
        </p:xfrm>
        <a:graphic>
          <a:graphicData uri="http://schemas.openxmlformats.org/drawingml/2006/table">
            <a:tbl>
              <a:tblPr/>
              <a:tblGrid>
                <a:gridCol w="2386080"/>
                <a:gridCol w="3157560"/>
                <a:gridCol w="2685960"/>
              </a:tblGrid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,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: Has SL reached its goal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ection of 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eld vi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using on different categori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itu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ct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ying attention in each case to social differenti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at: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hanism of caus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How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tical framework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g. context + mechanism = outcome, causal process trac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ng indicato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On the basis of data, or pre-defined, according to goal or US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8360" y="304920"/>
          <a:ext cx="8229600" cy="5386320"/>
        </p:xfrm>
        <a:graphic>
          <a:graphicData uri="http://schemas.openxmlformats.org/drawingml/2006/table">
            <a:tbl>
              <a:tblPr/>
              <a:tblGrid>
                <a:gridCol w="2386080"/>
                <a:gridCol w="3384360"/>
                <a:gridCol w="2459160"/>
              </a:tblGrid>
              <a:tr h="542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esearchers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er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actitio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ming Matter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F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o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, vide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 vi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olicy ma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e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n addition to involving them all in the process itsel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692280"/>
          <a:ext cx="8229600" cy="5343480"/>
        </p:xfrm>
        <a:graphic>
          <a:graphicData uri="http://schemas.openxmlformats.org/drawingml/2006/table">
            <a:tbl>
              <a:tblPr/>
              <a:tblGrid>
                <a:gridCol w="3538440"/>
                <a:gridCol w="4691160"/>
              </a:tblGrid>
              <a:tr h="121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or 3 years –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to 10 years –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le CCA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ng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ining the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ing and log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wor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sem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000 per c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jorge</cp:lastModifiedBy>
  <dcterms:modified xsi:type="dcterms:W3CDTF">2012-05-09T15:56:59Z</dcterms:modified>
  <cp:revision>21</cp:revision>
  <dc:subject/>
  <dc:title>Action planning work Tuesday</dc:title>
</cp:coreProperties>
</file>