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28D-CC94-44C1-BDF2-E977D4C8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C1D0-57D5-411C-BF5D-ABC949DC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96B-3CF9-40E1-BA93-6B877319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B0B-8776-4B0C-9515-DA18B9F8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2E7-EB82-414E-A967-E54318B9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730D-7C35-4816-8245-8F444774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8E9-6DBD-4EF1-9A06-F7DA2F33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374-9CC4-48ED-918A-DA253F0E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A27F-E32B-4910-A378-222863ED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1538-3CFF-4C97-B1DD-7872DC8C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6EF-93F1-40A4-9969-4B85E96B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780-E4B0-4251-9601-14D4417E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CC51-933F-426B-BC82-BC2D23F67B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on planning work Wednes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upon plans (an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ap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from day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What </a:t>
            </a:r>
            <a:r>
              <a:rPr b="1" i="1" lang="en-GB" sz="2600" spc="-1" strike="noStrike">
                <a:solidFill>
                  <a:srgbClr val="00b050"/>
                </a:solidFill>
                <a:latin typeface="Calibri"/>
              </a:rPr>
              <a:t>change </a:t>
            </a: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(result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What activities (how) / </a:t>
            </a:r>
            <a:r>
              <a:rPr b="1" i="1" lang="en-GB" sz="2600" spc="-1" strike="noStrike">
                <a:solidFill>
                  <a:srgbClr val="00b050"/>
                </a:solidFill>
                <a:latin typeface="Calibri"/>
              </a:rPr>
              <a:t>sequencing </a:t>
            </a: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are we propos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specific scale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(within the </a:t>
            </a:r>
            <a:r>
              <a:rPr b="0" i="1" lang="en-GB" sz="2600" spc="-1" strike="noStrike" u="sng">
                <a:solidFill>
                  <a:srgbClr val="000000"/>
                </a:solidFill>
                <a:uFillTx/>
                <a:latin typeface="Calibri"/>
              </a:rPr>
              <a:t>sub-national level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) and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targeted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plays what role to get it going (CCAFS and potential partners, who’s leading, who does what else?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 do these activities happen (in a 2-3 year horiz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Funding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allpark: how much is required for this pla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nge 1: document and test social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ctivities (sequenced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pecific scale / who is targe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re (optiona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o plays what ro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me needed to do i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unding ballpar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cial differenti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cum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alyse / test social learning as a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form researchers and policy community (and convince them) on the basis of evi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rove the practice itself – further developing the learning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692280"/>
          <a:ext cx="8229600" cy="5724360"/>
        </p:xfrm>
        <a:graphic>
          <a:graphicData uri="http://schemas.openxmlformats.org/drawingml/2006/table">
            <a:tbl>
              <a:tblPr/>
              <a:tblGrid>
                <a:gridCol w="2962440"/>
                <a:gridCol w="2592360"/>
                <a:gridCol w="2674800"/>
              </a:tblGrid>
              <a:tr h="25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criteria like success or failure, finished or ongoing, number of cases, inside or outside the CGIAR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IAR Bangladesh simultaneous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LINNO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observ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wner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mpion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ping in mind social differentiation and representativ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68360" y="304920"/>
          <a:ext cx="8229600" cy="6261120"/>
        </p:xfrm>
        <a:graphic>
          <a:graphicData uri="http://schemas.openxmlformats.org/drawingml/2006/table">
            <a:tbl>
              <a:tblPr/>
              <a:tblGrid>
                <a:gridCol w="2386080"/>
                <a:gridCol w="3157560"/>
                <a:gridCol w="2685960"/>
              </a:tblGrid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,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: Has SL reached its goal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ection of 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eld vi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using on different categori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itu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t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ying attention in each case to social differenti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at: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hanism of caus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How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tical framework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g. context + mechanism = outcome, causal process trac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ng indicato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On the basis of data, or pre-defined, according to goal or US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8360" y="304920"/>
          <a:ext cx="8229600" cy="5386320"/>
        </p:xfrm>
        <a:graphic>
          <a:graphicData uri="http://schemas.openxmlformats.org/drawingml/2006/table">
            <a:tbl>
              <a:tblPr/>
              <a:tblGrid>
                <a:gridCol w="2386080"/>
                <a:gridCol w="3384360"/>
                <a:gridCol w="2459160"/>
              </a:tblGrid>
              <a:tr h="542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searcher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er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actitio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ing Matter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F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, vide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 vi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olicy ma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e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n addition to involving them all in the process itsel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692280"/>
          <a:ext cx="8229600" cy="5343480"/>
        </p:xfrm>
        <a:graphic>
          <a:graphicData uri="http://schemas.openxmlformats.org/drawingml/2006/table">
            <a:tbl>
              <a:tblPr/>
              <a:tblGrid>
                <a:gridCol w="3538440"/>
                <a:gridCol w="4691160"/>
              </a:tblGrid>
              <a:tr h="12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or 3 years –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to 10 years –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e CCA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ng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ining the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ing and log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wor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sem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000 per c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jorge</cp:lastModifiedBy>
  <dcterms:modified xsi:type="dcterms:W3CDTF">2012-05-09T15:56:59Z</dcterms:modified>
  <cp:revision>21</cp:revision>
  <dc:subject/>
  <dc:title>Action planning work Tuesday</dc:title>
</cp:coreProperties>
</file>