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E86-C5BD-4650-84CB-B9B0021A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ABE-26CA-472D-A456-3B71A03A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A48-32F4-4038-B49F-4C07146C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431-EA90-41E8-B5C0-7DE1B1E1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6D6-5679-4664-91B9-0F0C0D8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C6C-1BD4-44FD-AEFA-F3848DE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8ED-7BB6-40D7-958C-4D79AC28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44C-4267-4271-9C93-92A6D53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CD1-B03A-4B81-9DD5-8E0829AA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9F9-7B33-4C22-8039-E272223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5A9-0191-4253-8175-49B95A7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9EF-929E-4E89-B59B-BB0CD698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DD5-0BF3-40D2-8C7F-90C223F397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3789360"/>
          <a:ext cx="7920000" cy="2728800"/>
        </p:xfrm>
        <a:graphic>
          <a:graphicData uri="http://schemas.openxmlformats.org/drawingml/2006/table">
            <a:tbl>
              <a:tblPr/>
              <a:tblGrid>
                <a:gridCol w="1295280"/>
                <a:gridCol w="3384360"/>
                <a:gridCol w="3240360"/>
              </a:tblGrid>
              <a:tr h="93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pecific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 “owners”, researchers, “champions”, keeping in mind social differentiation and represen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1557360"/>
          <a:ext cx="7991280" cy="180036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 / test social learning as a 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 researchers and policy community (and convince them) on the basis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 the practice itself – further developing the lear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4360" y="549360"/>
          <a:ext cx="7920000" cy="4119480"/>
        </p:xfrm>
        <a:graphic>
          <a:graphicData uri="http://schemas.openxmlformats.org/drawingml/2006/table">
            <a:tbl>
              <a:tblPr/>
              <a:tblGrid>
                <a:gridCol w="1366560"/>
                <a:gridCol w="1800360"/>
                <a:gridCol w="4753080"/>
              </a:tblGrid>
              <a:tr h="902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, Activities, Process, Results, Outputs, Outcome : Has SL reached its go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categories (Knowledge, Attitudes, Skills,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 focus: Mechanism of causality and at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: Analytical frameworks, selection of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84360" y="4941720"/>
          <a:ext cx="7991280" cy="1440000"/>
        </p:xfrm>
        <a:graphic>
          <a:graphicData uri="http://schemas.openxmlformats.org/drawingml/2006/table">
            <a:tbl>
              <a:tblPr/>
              <a:tblGrid>
                <a:gridCol w="1366560"/>
                <a:gridCol w="662472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“owners” of each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6:19:02Z</dcterms:modified>
  <cp:revision>25</cp:revision>
  <dc:subject/>
  <dc:title>Action planning work Tuesday</dc:title>
</cp:coreProperties>
</file>