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942-D330-46C3-B514-9CF885E4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8E5-44A1-4110-8A0D-EB9BC3B1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90E-2830-4812-B28B-C18DBBDD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20F-8777-496A-8B5A-76AB2F09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D3B-B955-44C5-B31F-83FD3490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D9E-08F5-4F08-B4D7-F3A3E952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C39-E776-468E-80C8-B7DC467B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8DD-AEB4-40BA-88D8-B1989664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525-4815-4BC8-A3F0-21918BAC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806-1B30-4ED5-ACFC-A1C72D4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013-59CD-4D6B-97BE-94957CD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74F-098B-4FE1-905C-02F528C1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C9B6-C381-4990-B51F-49E6B4D508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planning work Wednes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upon plans (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ap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day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change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(result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activities (how) /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sequencing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are we propos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specific scale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(within th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Calibri"/>
              </a:rPr>
              <a:t>sub-national level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targeted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plays what role to get it going (CCAFS and potential partners, who’s leading, who does what else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 do these activities happen (in a 2-3 year horiz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Funding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allpark: how much is required for this pla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1: document and test social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tivities (sequence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ecific scale / who i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(optiona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plays what ro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e needed to do 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nding ballpar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ial differenti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yse / test social learning as a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 researchers and policy community (and convince them) on the basis of ev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rove the practice itself – further developing the 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692280"/>
          <a:ext cx="8229600" cy="5724360"/>
        </p:xfrm>
        <a:graphic>
          <a:graphicData uri="http://schemas.openxmlformats.org/drawingml/2006/table">
            <a:tbl>
              <a:tblPr/>
              <a:tblGrid>
                <a:gridCol w="2962440"/>
                <a:gridCol w="2592360"/>
                <a:gridCol w="2674800"/>
              </a:tblGrid>
              <a:tr h="25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riteria like success or failure, finished or ongoing, number of cases, inside or outside the CGI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Bangladesh simultaneous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LINN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ob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mpion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ing in mind social differentiation and representa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304920"/>
          <a:ext cx="8229600" cy="6261120"/>
        </p:xfrm>
        <a:graphic>
          <a:graphicData uri="http://schemas.openxmlformats.org/drawingml/2006/table">
            <a:tbl>
              <a:tblPr/>
              <a:tblGrid>
                <a:gridCol w="2386080"/>
                <a:gridCol w="3157560"/>
                <a:gridCol w="268596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,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: Has SL reached its goa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of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using on different categori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ying attention in each case to social differenti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at: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sm of caus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w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tical framework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g. context + mechanism = outcome, causal process trac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indicat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n the basis of data, or pre-defined, according to goal or US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360" y="304920"/>
          <a:ext cx="8229600" cy="5386320"/>
        </p:xfrm>
        <a:graphic>
          <a:graphicData uri="http://schemas.openxmlformats.org/drawingml/2006/table">
            <a:tbl>
              <a:tblPr/>
              <a:tblGrid>
                <a:gridCol w="2386080"/>
                <a:gridCol w="3384360"/>
                <a:gridCol w="2459160"/>
              </a:tblGrid>
              <a:tr h="54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earcher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actitio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ing Matt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,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licy 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 addition to involving them all in the process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692280"/>
          <a:ext cx="8229600" cy="5343480"/>
        </p:xfrm>
        <a:graphic>
          <a:graphicData uri="http://schemas.openxmlformats.org/drawingml/2006/table">
            <a:tbl>
              <a:tblPr/>
              <a:tblGrid>
                <a:gridCol w="3538440"/>
                <a:gridCol w="4691160"/>
              </a:tblGrid>
              <a:tr h="12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 3 years –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o 10 years –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ing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ing and log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 per c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5:56:59Z</dcterms:modified>
  <cp:revision>21</cp:revision>
  <dc:subject/>
  <dc:title>Action planning work Tuesday</dc:title>
</cp:coreProperties>
</file>