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258-4856-414D-A768-652B6CD6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DFF-A8E6-461D-B181-803750E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41B-37C5-4DEB-8975-B3580B92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B1B-B999-44CE-BA24-D062D3AC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04B-7D34-42AD-BFB7-2EA49DCF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B05-4673-4D16-AF1B-4630BC4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EDE-9AD5-4E8D-A53C-93CE157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BE1-AE93-4C61-8BBD-6631D72F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A6C-093E-41F8-B553-7E89886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525-90EE-4AD6-A21B-0FB1BD9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2C3-0435-46E3-AE7D-F6B1816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421-753F-481C-8858-5AAC697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F6CF-CC7F-4ABB-80EA-4EC5B3C0C6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planning work Wednes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upon plans (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a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from day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change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(resul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What activities (how) / </a:t>
            </a:r>
            <a:r>
              <a:rPr b="1" i="1" lang="en-GB" sz="2600" spc="-1" strike="noStrike">
                <a:solidFill>
                  <a:srgbClr val="00b050"/>
                </a:solidFill>
                <a:latin typeface="Calibri"/>
              </a:rPr>
              <a:t>sequencing </a:t>
            </a:r>
            <a:r>
              <a:rPr b="0" i="1" lang="en-GB" sz="2600" spc="-1" strike="noStrike">
                <a:solidFill>
                  <a:srgbClr val="00b050"/>
                </a:solidFill>
                <a:latin typeface="Calibri"/>
              </a:rPr>
              <a:t>are we propos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specific scale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(within th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Calibri"/>
              </a:rPr>
              <a:t>sub-national level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targeted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plays what role to get it going (CCAFS and potential partners, who’s leading, who does what else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 do these activities happen (in a 2-3 year horiz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Calibri"/>
              </a:rPr>
              <a:t>Funding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allpark: how much is required for this pla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1: document and test social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ctivities (sequenc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ific scale / who i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(optiona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plays what ro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e needed to do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nding ballpar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ial differenti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cum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e / test social learning as a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 researchers and policy community (and convince them) on the basis of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 the practice itself – further develop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692280"/>
          <a:ext cx="8229600" cy="5724360"/>
        </p:xfrm>
        <a:graphic>
          <a:graphicData uri="http://schemas.openxmlformats.org/drawingml/2006/table">
            <a:tbl>
              <a:tblPr/>
              <a:tblGrid>
                <a:gridCol w="2962440"/>
                <a:gridCol w="2592360"/>
                <a:gridCol w="2674800"/>
              </a:tblGrid>
              <a:tr h="25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Inventory, selection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U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riteria like success or failure, finished or ongoing, number of cases, inside or outside the CGI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Bangladesh simultaneous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INN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Selection of participants, and inv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ob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and invol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mpion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ing in mind social differentiation and representa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304920"/>
          <a:ext cx="8229600" cy="6261120"/>
        </p:xfrm>
        <a:graphic>
          <a:graphicData uri="http://schemas.openxmlformats.org/drawingml/2006/table">
            <a:tbl>
              <a:tblPr/>
              <a:tblGrid>
                <a:gridCol w="2386080"/>
                <a:gridCol w="3157560"/>
                <a:gridCol w="2685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, Bas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,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: Has SL reached its go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of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Analysis (test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using on different categori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ying attention in each case to social different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at: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sm of caus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How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tical framework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g. context + mechanism = outcome, causal process trac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indicat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On the basis of data, or pre-defined, according to goal or US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8360" y="304920"/>
          <a:ext cx="8229600" cy="5386320"/>
        </p:xfrm>
        <a:graphic>
          <a:graphicData uri="http://schemas.openxmlformats.org/drawingml/2006/table">
            <a:tbl>
              <a:tblPr/>
              <a:tblGrid>
                <a:gridCol w="2386080"/>
                <a:gridCol w="3384360"/>
                <a:gridCol w="2459160"/>
              </a:tblGrid>
              <a:tr h="54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Writing, sharing, 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 leve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nts of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 world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er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ing Matter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, vide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ma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 addition to involving them all in the process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692280"/>
          <a:ext cx="8229600" cy="53434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 3 years –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o 10 years –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e CCA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ng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ing th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ing and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000 per c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jorge</cp:lastModifiedBy>
  <dcterms:modified xsi:type="dcterms:W3CDTF">2012-05-09T15:56:59Z</dcterms:modified>
  <cp:revision>21</cp:revision>
  <dc:subject/>
  <dc:title>Action planning work Tuesday</dc:title>
</cp:coreProperties>
</file>