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1" marL="294840" indent="0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2" marL="589680">
              <a:lnSpc>
                <a:spcPct val="120000"/>
              </a:lnSpc>
              <a:spcBef>
                <a:spcPts val="3801"/>
              </a:spcBef>
              <a:buClr>
                <a:srgbClr val="747474"/>
              </a:buClr>
              <a:buFont typeface="Helvetica Neue Light"/>
              <a:buChar char="•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3" marL="884520">
              <a:lnSpc>
                <a:spcPct val="120000"/>
              </a:lnSpc>
              <a:spcBef>
                <a:spcPts val="3801"/>
              </a:spcBef>
              <a:buClr>
                <a:srgbClr val="747474"/>
              </a:buClr>
              <a:buFont typeface="Helvetica Neue Light"/>
              <a:buChar char="•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4" marL="1179360">
              <a:lnSpc>
                <a:spcPct val="120000"/>
              </a:lnSpc>
              <a:spcBef>
                <a:spcPts val="3801"/>
              </a:spcBef>
              <a:buClr>
                <a:srgbClr val="747474"/>
              </a:buClr>
              <a:buFont typeface="Helvetica Neue Light"/>
              <a:buChar char="•"/>
              <a:tabLst>
                <a:tab algn="l" pos="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5" marL="1179360">
              <a:spcBef>
                <a:spcPts val="9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6" marL="1179360">
              <a:spcBef>
                <a:spcPts val="901"/>
              </a:spcBef>
              <a:buClr>
                <a:srgbClr val="000000"/>
              </a:buClr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76120" indent="-27612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1" marL="828720" indent="-27612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2" marL="1380960" indent="-27612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3" marL="1933560" indent="-27612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4" marL="2486160" indent="-27612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5" marL="2486160" indent="-276120">
              <a:spcBef>
                <a:spcPts val="4799"/>
              </a:spcBef>
              <a:buClr>
                <a:srgbClr val="000000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lvl="6" marL="2486160" indent="-276120">
              <a:spcBef>
                <a:spcPts val="4799"/>
              </a:spcBef>
              <a:buClr>
                <a:srgbClr val="000000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How we fund development research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7" name="pasted-image.jpg" descr=""/>
          <p:cNvPicPr/>
          <p:nvPr/>
        </p:nvPicPr>
        <p:blipFill>
          <a:blip r:embed="rId2"/>
          <a:stretch/>
        </p:blipFill>
        <p:spPr>
          <a:xfrm>
            <a:off x="2460600" y="3271680"/>
            <a:ext cx="8847000" cy="5481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571320" y="2324160"/>
            <a:ext cx="995652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CGIAR £60 million; 2008-2013 total = £190 million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Research on communication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7520" indent="-31752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Why and how is research taken up and used?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317520" indent="-31752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What are the blockages and constraints?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Supporting researchers to communicat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7520" indent="-31752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Where is support needed?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317520" indent="-31752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Writing for publication and open access?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317520" indent="-31752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Design and implementation of demand driven research?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317520" indent="-31752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New/improved methodologies that support uptake?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ommunication of research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7520" indent="-31752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Should we do more synthesis - lessons of good practice and failures?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317520" indent="-31752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Systematic reviews? Is there a need for those on social learning and participatory approaches?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Support the enabling environmen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7520" indent="-31752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Where is support or research needed to those services that enable or enhance research uptake?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317520" indent="-31752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The role of networks, intermediary organisations and knowledge brokers? 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Knowledge management and M&amp;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7520" indent="-31752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Regular reflection and learning of success and failure in research programmes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317520" indent="-31752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The science of evaluating research communication and uptake - contribution to uptake of research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  <a:p>
            <a:pPr marL="317520" indent="-317520">
              <a:spcBef>
                <a:spcPts val="4799"/>
              </a:spcBef>
              <a:buClr>
                <a:srgbClr val="747474"/>
              </a:buClr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747474"/>
                </a:solidFill>
                <a:latin typeface="Helvetica Neue Light"/>
              </a:rPr>
              <a:t>Cgiar £60 million; 2008-2013 total = £190 million</a:t>
            </a:r>
            <a:endParaRPr b="0" lang="en-US" sz="3600" spc="-1" strike="noStrike">
              <a:solidFill>
                <a:srgbClr val="747474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