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0E48-9211-4D8E-8E6A-797D23196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C691-7ABF-41DE-984B-2976F951E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025F-416E-4A88-ADE9-B6CA61E3D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8105-B456-44B0-960A-5A12FAA3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F879-A803-4D0D-B222-C468FE740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270C-C69D-48CB-80F6-190635963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C8A4-2CB3-4A61-8F57-516335AB4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4CC9-94BF-4CD5-A6BF-46799E99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9AB1-4110-4C2C-854B-53C93C5D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45F1-5B8A-4C3D-8B0A-3EF4C4B3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1C46-A921-40A0-8380-A926CCCE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3C30-0614-4ACD-B1D9-3C048CB6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30F3-057E-4B83-8E94-4FA19633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550C-F74F-4E06-A251-A3B09D94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C634-E6ED-42CF-AB2A-BDEC24DD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EE48-91AD-435C-B5FB-68B7A051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15A7-EC72-42D5-84FC-5AC32993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11E6-2F3F-4E6A-9C2D-38E68EA30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6340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1732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48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6340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1732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2455-1ED5-4662-A7D6-31A483C99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C8BAE-6C20-4256-81F3-506F77E5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9A419-AA36-4CC2-9B58-06D8028B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3A2BC-8664-4710-A4AE-D0A16111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CD0A3-7F30-4013-AA64-0CBD8949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BF9AE-0B35-4F01-9668-DECC7C52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12F1-DA85-4FC3-BAE9-F5D52A24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CEA6E-EC75-4A66-8794-C274B80C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1BDD8-CCA1-490A-81B4-501485E7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EAD84-14BD-4B8E-95BB-82827FDB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77426-69FC-4280-B938-4E698157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62BA6-59E2-4349-9AC3-67D72B7F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201D5-FA62-4EA8-A38D-F2E4B59BF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6340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1732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0948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6340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1732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60F6E-0663-443A-8C47-8C7F8E113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FFF07-E49D-426D-8A90-9A7413131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7B0B4-E4EC-4861-BCD5-70C0D8A3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B4D37-576A-4C17-A323-133725B6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68A4-9CEF-4B61-B217-404CF9F3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9E984-3711-45E5-9B9C-ADAD338E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2ABE1-2CC7-4684-85B8-D9A15E80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258D4-4D80-4842-B059-C925CFD6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67B5A-9E33-4947-8756-84FFCEAD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593CD-9EC5-423E-A526-11CDB218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E7760-D1BA-4F17-8881-B2F3E81F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FA259-1A35-4C23-BB03-29574071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6E170-EDB4-4FE9-8689-4449EB8C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6340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917320" y="106668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0948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6340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917320" y="3693600"/>
            <a:ext cx="252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9AC52-177B-43B3-B9F0-3624BAB29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D0AB-1C28-464F-ABA8-A0234800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8D18-EDD3-4EC2-9D08-7EEAAE07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F53E-86D7-44DC-A259-F0F5126F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369360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3BDD-FBD4-4CA0-8EE6-0260798B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066680"/>
            <a:ext cx="3830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784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3C8D-18B9-4C43-8E0E-6FA64568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Click to edit the outline text format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43040" indent="-28584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con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Thir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our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4" marL="20574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if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ix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ven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F79A-30B9-4160-890C-1F38B861C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7" descr="BUNDSTRIBE"/>
          <p:cNvPicPr/>
          <p:nvPr/>
        </p:nvPicPr>
        <p:blipFill>
          <a:blip r:embed="rId2"/>
          <a:stretch/>
        </p:blipFill>
        <p:spPr>
          <a:xfrm>
            <a:off x="0" y="5710320"/>
            <a:ext cx="9144000" cy="11476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HJOERNELOGO"/>
          <p:cNvPicPr/>
          <p:nvPr/>
        </p:nvPicPr>
        <p:blipFill>
          <a:blip r:embed="rId3"/>
          <a:stretch/>
        </p:blipFill>
        <p:spPr>
          <a:xfrm>
            <a:off x="7211880" y="76320"/>
            <a:ext cx="1779840" cy="8604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9"/>
          <p:cNvSpPr/>
          <p:nvPr/>
        </p:nvSpPr>
        <p:spPr>
          <a:xfrm>
            <a:off x="584280" y="106200"/>
            <a:ext cx="48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228600" y="203040"/>
            <a:ext cx="1523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844B-F087-47A7-87A4-A5F531ECE6D4}" type="slidenum">
              <a:rPr b="0" lang="en-US" sz="1200" spc="-1" strike="noStrike">
                <a:solidFill>
                  <a:srgbClr val="3e2914"/>
                </a:solidFill>
                <a:latin typeface="45 Helvetica Light"/>
              </a:rPr>
              <a:t>&lt;number&gt;</a:t>
            </a:fld>
            <a:r>
              <a:rPr b="0" lang="en-US" sz="1200" spc="-1" strike="noStrike">
                <a:solidFill>
                  <a:srgbClr val="3e2914"/>
                </a:solidFill>
                <a:latin typeface="45 Helvetica Light"/>
              </a:rPr>
              <a:t> </a:t>
            </a:r>
            <a:r>
              <a:rPr b="0" lang="en-US" sz="800" spc="-1" strike="noStrike">
                <a:solidFill>
                  <a:srgbClr val="3e2914"/>
                </a:solidFill>
                <a:latin typeface="45 Helvetica Light"/>
              </a:rPr>
              <a:t>• </a:t>
            </a:r>
            <a:r>
              <a:rPr b="0" lang="da-DK" sz="800" spc="-1" strike="noStrike">
                <a:solidFill>
                  <a:srgbClr val="3e2914"/>
                </a:solidFill>
                <a:latin typeface="45 Helvetica Light"/>
              </a:rPr>
              <a:t>05/08/12</a:t>
            </a:r>
            <a:endParaRPr b="0" lang="en-US" sz="8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LOGOBAELTE"/>
          <p:cNvPicPr/>
          <p:nvPr/>
        </p:nvPicPr>
        <p:blipFill>
          <a:blip r:embed="rId2"/>
          <a:stretch/>
        </p:blipFill>
        <p:spPr>
          <a:xfrm>
            <a:off x="0" y="304920"/>
            <a:ext cx="9144000" cy="35812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9"/>
          <p:cNvSpPr/>
          <p:nvPr/>
        </p:nvSpPr>
        <p:spPr>
          <a:xfrm>
            <a:off x="457200" y="1522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4192560" y="-12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pic>
        <p:nvPicPr>
          <p:cNvPr id="47" name="Picture 12" descr="LIFE"/>
          <p:cNvPicPr/>
          <p:nvPr/>
        </p:nvPicPr>
        <p:blipFill>
          <a:blip r:embed="rId3"/>
          <a:stretch/>
        </p:blipFill>
        <p:spPr>
          <a:xfrm>
            <a:off x="3352680" y="5754600"/>
            <a:ext cx="1143000" cy="1103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CGIAR"/>
          <p:cNvPicPr/>
          <p:nvPr/>
        </p:nvPicPr>
        <p:blipFill>
          <a:blip r:embed="rId4"/>
          <a:stretch/>
        </p:blipFill>
        <p:spPr>
          <a:xfrm>
            <a:off x="76320" y="5754600"/>
            <a:ext cx="793800" cy="1017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CIAT"/>
          <p:cNvPicPr/>
          <p:nvPr/>
        </p:nvPicPr>
        <p:blipFill>
          <a:blip r:embed="rId5"/>
          <a:stretch/>
        </p:blipFill>
        <p:spPr>
          <a:xfrm>
            <a:off x="2057400" y="5830920"/>
            <a:ext cx="1066680" cy="928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ESSP"/>
          <p:cNvPicPr/>
          <p:nvPr/>
        </p:nvPicPr>
        <p:blipFill>
          <a:blip r:embed="rId6"/>
          <a:stretch/>
        </p:blipFill>
        <p:spPr>
          <a:xfrm>
            <a:off x="990720" y="5754600"/>
            <a:ext cx="904680" cy="10177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6"/>
          <p:cNvSpPr/>
          <p:nvPr/>
        </p:nvSpPr>
        <p:spPr>
          <a:xfrm>
            <a:off x="3292560" y="60480"/>
            <a:ext cx="188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e2914"/>
                </a:solidFill>
                <a:latin typeface="Helvetica 45 Light"/>
              </a:rPr>
              <a:t>Addis Ababa, 8-10 May, 2012</a:t>
            </a:r>
            <a:endParaRPr b="0" lang="en-US" sz="10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1295280" y="4038480"/>
            <a:ext cx="649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2914"/>
                </a:solidFill>
                <a:latin typeface="Helvetica 45 Light"/>
              </a:rPr>
              <a:t>Communication and social learning: supporting local decision making on climate change, agriculture and food security</a:t>
            </a: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Click to edit the outline text format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43040" indent="-28584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con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Thir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our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4" marL="20574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if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ix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ven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4A6D-9650-4FBA-B671-A4082C469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BUNDSTRIBE"/>
          <p:cNvPicPr/>
          <p:nvPr/>
        </p:nvPicPr>
        <p:blipFill>
          <a:blip r:embed="rId2"/>
          <a:stretch/>
        </p:blipFill>
        <p:spPr>
          <a:xfrm>
            <a:off x="0" y="5710320"/>
            <a:ext cx="9144000" cy="1147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HJOERNELOGO"/>
          <p:cNvPicPr/>
          <p:nvPr/>
        </p:nvPicPr>
        <p:blipFill>
          <a:blip r:embed="rId3"/>
          <a:stretch/>
        </p:blipFill>
        <p:spPr>
          <a:xfrm>
            <a:off x="7211880" y="76320"/>
            <a:ext cx="1779840" cy="8604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9"/>
          <p:cNvSpPr/>
          <p:nvPr/>
        </p:nvSpPr>
        <p:spPr>
          <a:xfrm>
            <a:off x="584280" y="106200"/>
            <a:ext cx="48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228600" y="203040"/>
            <a:ext cx="1523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5B79-28EC-4B84-8A6B-C3D96667E5AE}" type="slidenum">
              <a:rPr b="0" lang="en-US" sz="1200" spc="-1" strike="noStrike">
                <a:solidFill>
                  <a:srgbClr val="3e2914"/>
                </a:solidFill>
                <a:latin typeface="45 Helvetica Light"/>
              </a:rPr>
              <a:t>&lt;number&gt;</a:t>
            </a:fld>
            <a:r>
              <a:rPr b="0" lang="en-US" sz="1200" spc="-1" strike="noStrike">
                <a:solidFill>
                  <a:srgbClr val="3e2914"/>
                </a:solidFill>
                <a:latin typeface="45 Helvetica Light"/>
              </a:rPr>
              <a:t> </a:t>
            </a:r>
            <a:r>
              <a:rPr b="0" lang="en-US" sz="800" spc="-1" strike="noStrike">
                <a:solidFill>
                  <a:srgbClr val="3e2914"/>
                </a:solidFill>
                <a:latin typeface="45 Helvetica Light"/>
              </a:rPr>
              <a:t>• </a:t>
            </a:r>
            <a:r>
              <a:rPr b="0" lang="da-DK" sz="800" spc="-1" strike="noStrike">
                <a:solidFill>
                  <a:srgbClr val="3e2914"/>
                </a:solidFill>
                <a:latin typeface="45 Helvetica Light"/>
              </a:rPr>
              <a:t>05/08/12</a:t>
            </a:r>
            <a:endParaRPr b="0" lang="en-US" sz="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Click to edit the outline text format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43040" indent="-28584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con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Thir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our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4" marL="20574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if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ix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ven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ADB6-FEC2-42CA-8E97-3623FF90961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BUNDSTRIBE"/>
          <p:cNvPicPr/>
          <p:nvPr/>
        </p:nvPicPr>
        <p:blipFill>
          <a:blip r:embed="rId2"/>
          <a:stretch/>
        </p:blipFill>
        <p:spPr>
          <a:xfrm>
            <a:off x="0" y="5710320"/>
            <a:ext cx="9144000" cy="1147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HJOERNELOGO"/>
          <p:cNvPicPr/>
          <p:nvPr/>
        </p:nvPicPr>
        <p:blipFill>
          <a:blip r:embed="rId3"/>
          <a:stretch/>
        </p:blipFill>
        <p:spPr>
          <a:xfrm>
            <a:off x="7211880" y="76320"/>
            <a:ext cx="1779840" cy="8604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9"/>
          <p:cNvSpPr/>
          <p:nvPr/>
        </p:nvSpPr>
        <p:spPr>
          <a:xfrm>
            <a:off x="584280" y="106200"/>
            <a:ext cx="48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228600" y="203040"/>
            <a:ext cx="1523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E0FE-4FDC-4E82-AC05-30CE26C4F1FA}" type="slidenum">
              <a:rPr b="0" lang="en-US" sz="1200" spc="-1" strike="noStrike">
                <a:solidFill>
                  <a:srgbClr val="3e2914"/>
                </a:solidFill>
                <a:latin typeface="45 Helvetica Light"/>
              </a:rPr>
              <a:t>&lt;number&gt;</a:t>
            </a:fld>
            <a:r>
              <a:rPr b="0" lang="en-US" sz="1200" spc="-1" strike="noStrike">
                <a:solidFill>
                  <a:srgbClr val="3e2914"/>
                </a:solidFill>
                <a:latin typeface="45 Helvetica Light"/>
              </a:rPr>
              <a:t> </a:t>
            </a:r>
            <a:r>
              <a:rPr b="0" lang="en-US" sz="800" spc="-1" strike="noStrike">
                <a:solidFill>
                  <a:srgbClr val="3e2914"/>
                </a:solidFill>
                <a:latin typeface="45 Helvetica Light"/>
              </a:rPr>
              <a:t>• </a:t>
            </a:r>
            <a:r>
              <a:rPr b="0" lang="da-DK" sz="800" spc="-1" strike="noStrike">
                <a:solidFill>
                  <a:srgbClr val="3e2914"/>
                </a:solidFill>
                <a:latin typeface="45 Helvetica Light"/>
              </a:rPr>
              <a:t>05/08/12</a:t>
            </a:r>
            <a:endParaRPr b="0" lang="en-US" sz="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094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Click to edit the outline text format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43040" indent="-28584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con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Third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our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4" marL="2057400" indent="-228600">
              <a:spcBef>
                <a:spcPts val="799"/>
              </a:spcBef>
              <a:buClr>
                <a:srgbClr val="3e2914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Fif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ix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45 Helvetica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Seventh Outline Level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F1B1-B195-474F-8A67-02442A7A5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5"/>
          <p:cNvSpPr/>
          <p:nvPr/>
        </p:nvSpPr>
        <p:spPr>
          <a:xfrm>
            <a:off x="6257880" y="459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63300"/>
                </a:solidFill>
                <a:latin typeface="Arial"/>
              </a:rPr>
              <a:t>Activitie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17936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649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A dynamic Basket of Good Practices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Design, piloting &amp; launch of a basket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Innovation fund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Enabling environment…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marL="2649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Catalysing Social Learning across CCAFS network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Facilitating the emergence of a Community of practice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Advisory group &amp; </a:t>
            </a: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Coaching Panel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Training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Awareness Raising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23360" indent="-264960">
              <a:spcBef>
                <a:spcPts val="425"/>
              </a:spcBef>
              <a:buClr>
                <a:srgbClr val="3e29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  <a:p>
            <a:pPr marL="264960" indent="-264960">
              <a:spcBef>
                <a:spcPts val="425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14"/>
                </a:solidFill>
                <a:latin typeface="45 Helvetica Light"/>
              </a:rPr>
              <a:t> </a:t>
            </a:r>
            <a:endParaRPr b="0" lang="en-US" sz="32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3300"/>
                </a:solidFill>
                <a:latin typeface="Arial"/>
              </a:rPr>
              <a:t>3. Supporting endogenous social learning for enhanced food secu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&#9;photo.jpg                                                      00000002&#9;ERIC - HP                      00000000:"/>
          <p:cNvPicPr/>
          <p:nvPr/>
        </p:nvPicPr>
        <p:blipFill>
          <a:blip r:embed="rId1"/>
          <a:stretch/>
        </p:blipFill>
        <p:spPr>
          <a:xfrm>
            <a:off x="838080" y="1650960"/>
            <a:ext cx="723924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304920" y="533520"/>
          <a:ext cx="8534160" cy="6100560"/>
        </p:xfrm>
        <a:graphic>
          <a:graphicData uri="http://schemas.openxmlformats.org/drawingml/2006/table">
            <a:tbl>
              <a:tblPr/>
              <a:tblGrid>
                <a:gridCol w="3886200"/>
                <a:gridCol w="4647960"/>
              </a:tblGrid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’s involved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1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Opportunity Assessment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an regions; select criteria; mapping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(AA, USAID, ALIN)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Learning and Evaluative Framework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ternal experts |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rs knowledge interface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Joint Needs Assessment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| facilitators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Analysis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cumentation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vidual &amp; comparative analyses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perts | partners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-evaluation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perts | partners</a:t>
                      </a:r>
                      <a:endParaRPr b="0" lang="en-US" sz="24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609480" y="1295280"/>
          <a:ext cx="7848720" cy="3438720"/>
        </p:xfrm>
        <a:graphic>
          <a:graphicData uri="http://schemas.openxmlformats.org/drawingml/2006/table">
            <a:tbl>
              <a:tblPr/>
              <a:tblGrid>
                <a:gridCol w="3429000"/>
                <a:gridCol w="441972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’s involved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Linking across scales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| strategic partners for interface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Influencing &amp; Strategic Catalyzing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, partners, cross-section of participating actors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Outreach &amp; Support Functions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, partners </a:t>
                      </a:r>
                      <a:endParaRPr b="0" lang="en-US" sz="2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299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3300"/>
                </a:solidFill>
                <a:latin typeface="Arial"/>
              </a:rPr>
              <a:t>4. Social learning</a:t>
            </a:r>
            <a:br>
              <a:rPr sz="3600"/>
            </a:br>
            <a:r>
              <a:rPr b="0" i="1" lang="en-US" sz="3600" spc="-1" strike="noStrike">
                <a:solidFill>
                  <a:srgbClr val="663300"/>
                </a:solidFill>
                <a:latin typeface="Arial"/>
              </a:rPr>
              <a:t>and social different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3300"/>
                </a:solidFill>
                <a:latin typeface="Arial"/>
              </a:rPr>
              <a:t>4. Social different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spcBef>
                <a:spcPts val="400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e2914"/>
                </a:solidFill>
                <a:latin typeface="45 Helvetica Light"/>
              </a:rPr>
              <a:t>ACTIVITY 1 – Catalyzing Change from Within (2012 – 2013)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Lead: CCAFS Theme 4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Target Audience: CCAFS &amp; current project partners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4558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Internal review of CCAFS/CG to look for opportunities to further social differentiation and developing strategy for augmenting this work through developing a social learning process. 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4558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Use baseline work to analyze social differentiation, findings from PAR work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4558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Linking social learning process to its annual Science Meeting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4558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Create working group with CCAFS and experts on social learning and differentiation 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4" marL="187200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(Social LSD)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455840" indent="-207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676080" indent="-259920">
              <a:spcBef>
                <a:spcPts val="400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e2914"/>
                </a:solidFill>
                <a:latin typeface="45 Helvetica Light"/>
              </a:rPr>
              <a:t>ACTIVITY 2 – Facilitation (2012 – 2020)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e2914"/>
                </a:solidFill>
                <a:latin typeface="45 Helvetica Light"/>
              </a:rPr>
              <a:t>Lead: Social LSD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Develop a dynamic network cutting across Social LSD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Identify ways to coordinate &amp; facilitate the process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e2914"/>
                </a:solidFill>
                <a:latin typeface="45 Helvetica Light"/>
              </a:rPr>
              <a:t>Organize a working group to lead Activity 3</a:t>
            </a: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040040" indent="-207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  <a:p>
            <a:pPr marL="312120" indent="-312120">
              <a:spcBef>
                <a:spcPts val="40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3300"/>
                </a:solidFill>
                <a:latin typeface="Arial"/>
              </a:rPr>
              <a:t>Social differen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6858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e2914"/>
                </a:solidFill>
                <a:latin typeface="45 Helvetica Light"/>
              </a:rPr>
              <a:t>ACTIVITY 3  - Global Action Research Agenda on Social LSD in CC,A, FS (2012-2013)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Audience: Climate change and food security community in CCAFS countries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(a) Phase 1 – Developing a research agenda (loop 1): Facilitate social learning process to devise research agenda. Phase 1 will help to provide evidence, identify partnership, better understanding, principles, rigorous methodology, and communities of practice. This will also include linking practioners with researchers. This process will: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Use crowd sourcing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Produce literature review on existing work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Conduct scoping process (activities at sub-national level) to help create a research framework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Generate a bucket of tools and approaches on to conduct research on social learning and differentiation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Develop a framework and principles on conducting social learning and differentiation, including action research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Fund initial proposals through a call on social learning and differentiation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(b) Phase 2 (loop 2): Research to action 2014-2020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Iterative process of learning as research underway – e.g. Online forum; Wiki; annual workshops; publication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Capacity development on methodology and approach within the CG system and beyond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Demonstrate the evidence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Move towards impact with partners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e2914"/>
                </a:solidFill>
                <a:latin typeface="45 Helvetica Light"/>
              </a:rPr>
              <a:t>Funding ballpark: 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Activity 1 &amp; 2: $50,000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e2914"/>
                </a:solidFill>
                <a:latin typeface="45 Helvetica Light"/>
              </a:rPr>
              <a:t>Activity 3: $300,000</a:t>
            </a: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Arial"/>
              </a:rPr>
              <a:t>5. Time Sc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e2914"/>
                </a:solidFill>
                <a:latin typeface="45 Helvetica Light"/>
              </a:rPr>
              <a:t>Why? </a:t>
            </a: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Adaptive capacity will be limited if long-term changes are not considered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e2914"/>
                </a:solidFill>
                <a:latin typeface="45 Helvetica Light"/>
              </a:rPr>
              <a:t>How?</a:t>
            </a: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 How do long term changes relate to the time horizons of different actors 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e2914"/>
                </a:solidFill>
                <a:latin typeface="45 Helvetica Light"/>
              </a:rPr>
              <a:t>What?</a:t>
            </a: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 Long-term considerations should be addressed through short-term incentives of relevance and interest to stakeholders for their engagement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e2914"/>
                </a:solidFill>
                <a:latin typeface="45 Helvetica Light"/>
              </a:rPr>
              <a:t>Theory of change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e2914"/>
                </a:solidFill>
                <a:latin typeface="45 Helvetica Light"/>
              </a:rPr>
              <a:t>Example of a tool to enrich existing projects through social learning processes and make them more effective by connecting short-term relevance to longer term understanding of climate change and ability to adapt 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e2914"/>
                </a:solidFill>
                <a:latin typeface="45 Helvetica Light"/>
              </a:rPr>
              <a:t>Activities</a:t>
            </a:r>
            <a:endParaRPr b="0" lang="en-US" sz="40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2914"/>
                </a:solidFill>
                <a:latin typeface="45 Helvetica Light"/>
              </a:rPr>
              <a:t>Time horizons evaluation tool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2914"/>
                </a:solidFill>
                <a:latin typeface="45 Helvetica Light"/>
              </a:rPr>
              <a:t>): Commission research into time horizons building on state of the art (risk management, psychology, behavioural economics)</a:t>
            </a:r>
            <a:endParaRPr b="0" lang="en-US" sz="20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2914"/>
                </a:solidFill>
                <a:latin typeface="45 Helvetica Light"/>
              </a:rPr>
              <a:t>Motivations framework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2914"/>
                </a:solidFill>
                <a:latin typeface="45 Helvetica Light"/>
              </a:rPr>
              <a:t>Commission research building in short term motivations and goals. Applied at the project level with stakeholders learning from each other </a:t>
            </a:r>
            <a:endParaRPr b="0" lang="en-US" sz="20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2914"/>
                </a:solidFill>
                <a:latin typeface="45 Helvetica Light"/>
              </a:rPr>
              <a:t>Evaluating change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2914"/>
                </a:solidFill>
                <a:latin typeface="45 Helvetica Light"/>
              </a:rPr>
              <a:t>apply incentives and evaluate effectiveness in behaviour change over time</a:t>
            </a:r>
            <a:endParaRPr b="0" lang="en-US" sz="20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2914"/>
                </a:solidFill>
                <a:latin typeface="45 Helvetica Light"/>
              </a:rPr>
              <a:t>Anticipated outcomes</a:t>
            </a:r>
            <a:endParaRPr b="0" lang="en-US" sz="40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Projects better linked to stakeholder needs as well as short/medium term development objectives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 </a:t>
            </a:r>
            <a:r>
              <a:rPr b="0" lang="en-US" sz="2200" spc="-1" strike="noStrike">
                <a:solidFill>
                  <a:srgbClr val="3e2914"/>
                </a:solidFill>
                <a:latin typeface="45 Helvetica Light"/>
              </a:rPr>
              <a:t>Short term responses linked to long term adaptation understanding and behaviour change to improve adaptive capacity</a:t>
            </a: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e2914"/>
              </a:solidFill>
              <a:latin typeface="45 Helvetica Light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e2914"/>
                </a:solidFill>
                <a:latin typeface="45 Helvetica Light"/>
              </a:rPr>
              <a:t>What’s next?</a:t>
            </a:r>
            <a:endParaRPr b="0" lang="en-US" sz="5400" spc="-1" strike="noStrike">
              <a:solidFill>
                <a:srgbClr val="3e2914"/>
              </a:solidFill>
              <a:latin typeface="45 Helvetica Light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e2914"/>
              </a:solidFill>
              <a:latin typeface="45 Helvetica Light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e2914"/>
                </a:solidFill>
                <a:latin typeface="45 Helvetica Light"/>
              </a:rPr>
              <a:t>Feedback from our visitors…</a:t>
            </a:r>
            <a:endParaRPr b="0" lang="en-US" sz="54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>
            <a:lum bright="-6000"/>
          </a:blip>
          <a:srcRect l="935" t="1705" r="1871" b="1209"/>
          <a:stretch/>
        </p:blipFill>
        <p:spPr>
          <a:xfrm>
            <a:off x="-257040" y="19080"/>
            <a:ext cx="10424880" cy="5713560"/>
          </a:xfrm>
          <a:prstGeom prst="rect">
            <a:avLst/>
          </a:prstGeom>
          <a:ln w="9360">
            <a:solidFill>
              <a:srgbClr val="202020"/>
            </a:solidFill>
            <a:miter/>
          </a:ln>
        </p:spPr>
      </p:pic>
      <p:sp>
        <p:nvSpPr>
          <p:cNvPr id="190" name="Oval 5"/>
          <p:cNvSpPr/>
          <p:nvPr/>
        </p:nvSpPr>
        <p:spPr>
          <a:xfrm rot="601200">
            <a:off x="194760" y="74520"/>
            <a:ext cx="8948880" cy="5585040"/>
          </a:xfrm>
          <a:prstGeom prst="ellipse">
            <a:avLst/>
          </a:prstGeom>
          <a:solidFill>
            <a:srgbClr val="e6debc">
              <a:alpha val="32000"/>
            </a:srgbClr>
          </a:solidFill>
          <a:ln w="6480">
            <a:solidFill>
              <a:srgbClr val="20202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7615080" y="2081160"/>
            <a:ext cx="1219320" cy="1066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92" name="Oval 7"/>
          <p:cNvSpPr/>
          <p:nvPr/>
        </p:nvSpPr>
        <p:spPr>
          <a:xfrm>
            <a:off x="6319800" y="1471680"/>
            <a:ext cx="1295280" cy="1143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93" name="Oval 8"/>
          <p:cNvSpPr/>
          <p:nvPr/>
        </p:nvSpPr>
        <p:spPr>
          <a:xfrm>
            <a:off x="4871880" y="1166760"/>
            <a:ext cx="1371600" cy="1206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94" name="Bent Arrow 9"/>
          <p:cNvSpPr/>
          <p:nvPr/>
        </p:nvSpPr>
        <p:spPr>
          <a:xfrm flipH="1" rot="10800000">
            <a:off x="2585880" y="2690280"/>
            <a:ext cx="2362320" cy="2514600"/>
          </a:xfrm>
          <a:custGeom>
            <a:avLst/>
            <a:gdLst/>
            <a:ahLst/>
            <a:rect l="l" t="t" r="r" b="b"/>
            <a:pathLst>
              <a:path w="2362200" h="2514600">
                <a:moveTo>
                  <a:pt x="0" y="2514600"/>
                </a:moveTo>
                <a:lnTo>
                  <a:pt x="0" y="1918780"/>
                </a:lnTo>
                <a:cubicBezTo>
                  <a:pt x="0" y="940325"/>
                  <a:pt x="793195" y="147130"/>
                  <a:pt x="1771650" y="147130"/>
                </a:cubicBezTo>
                <a:lnTo>
                  <a:pt x="1771650" y="147130"/>
                </a:lnTo>
                <a:lnTo>
                  <a:pt x="1771650" y="0"/>
                </a:lnTo>
                <a:lnTo>
                  <a:pt x="2362200" y="369094"/>
                </a:lnTo>
                <a:lnTo>
                  <a:pt x="1771650" y="738188"/>
                </a:lnTo>
                <a:lnTo>
                  <a:pt x="1771650" y="591058"/>
                </a:lnTo>
                <a:lnTo>
                  <a:pt x="1771650" y="591058"/>
                </a:lnTo>
                <a:cubicBezTo>
                  <a:pt x="1038369" y="591058"/>
                  <a:pt x="443928" y="1185499"/>
                  <a:pt x="443928" y="1918780"/>
                </a:cubicBezTo>
                <a:lnTo>
                  <a:pt x="443928" y="2514600"/>
                </a:lnTo>
                <a:lnTo>
                  <a:pt x="0" y="2514600"/>
                </a:lnTo>
                <a:close/>
              </a:path>
            </a:pathLst>
          </a:custGeom>
          <a:solidFill>
            <a:srgbClr val="ffff99"/>
          </a:solidFill>
          <a:ln w="19080">
            <a:solidFill>
              <a:srgbClr val="2020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cxnSp>
        <p:nvCxnSpPr>
          <p:cNvPr id="195" name="Straight Arrow Connector 10"/>
          <p:cNvCxnSpPr>
            <a:stCxn id="196" idx="0"/>
            <a:endCxn id="191" idx="3"/>
          </p:cNvCxnSpPr>
          <p:nvPr/>
        </p:nvCxnSpPr>
        <p:spPr>
          <a:xfrm flipV="1">
            <a:off x="6471000" y="2991960"/>
            <a:ext cx="1321200" cy="1146960"/>
          </a:xfrm>
          <a:prstGeom prst="straightConnector1">
            <a:avLst/>
          </a:prstGeom>
          <a:ln w="9360">
            <a:solidFill>
              <a:srgbClr val="202020"/>
            </a:solidFill>
            <a:miter/>
            <a:tailEnd len="med" type="arrow" w="med"/>
          </a:ln>
        </p:spPr>
      </p:cxnSp>
      <p:cxnSp>
        <p:nvCxnSpPr>
          <p:cNvPr id="197" name="Straight Arrow Connector 11"/>
          <p:cNvCxnSpPr/>
          <p:nvPr/>
        </p:nvCxnSpPr>
        <p:spPr>
          <a:xfrm flipV="1">
            <a:off x="6396120" y="2613960"/>
            <a:ext cx="457920" cy="1524600"/>
          </a:xfrm>
          <a:prstGeom prst="straightConnector1">
            <a:avLst/>
          </a:prstGeom>
          <a:ln w="9360">
            <a:solidFill>
              <a:srgbClr val="202020"/>
            </a:solidFill>
            <a:miter/>
            <a:tailEnd len="med" type="arrow" w="med"/>
          </a:ln>
        </p:spPr>
      </p:cxnSp>
      <p:cxnSp>
        <p:nvCxnSpPr>
          <p:cNvPr id="198" name="Straight Arrow Connector 12"/>
          <p:cNvCxnSpPr/>
          <p:nvPr/>
        </p:nvCxnSpPr>
        <p:spPr>
          <a:xfrm flipH="1" flipV="1">
            <a:off x="5758560" y="2347200"/>
            <a:ext cx="559800" cy="1855080"/>
          </a:xfrm>
          <a:prstGeom prst="straightConnector1">
            <a:avLst/>
          </a:prstGeom>
          <a:ln w="9360">
            <a:solidFill>
              <a:srgbClr val="202020"/>
            </a:solidFill>
            <a:miter/>
            <a:tailEnd len="med" type="arrow" w="med"/>
          </a:ln>
        </p:spPr>
      </p:cxnSp>
      <p:sp>
        <p:nvSpPr>
          <p:cNvPr id="196" name="Oval 13"/>
          <p:cNvSpPr/>
          <p:nvPr/>
        </p:nvSpPr>
        <p:spPr>
          <a:xfrm>
            <a:off x="5024520" y="4138560"/>
            <a:ext cx="2895480" cy="1295280"/>
          </a:xfrm>
          <a:prstGeom prst="ellipse">
            <a:avLst/>
          </a:prstGeom>
          <a:solidFill>
            <a:srgbClr val="3e2914"/>
          </a:solidFill>
          <a:ln w="2556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2506680" y="227160"/>
            <a:ext cx="35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2020"/>
                </a:solidFill>
                <a:latin typeface="Arial"/>
                <a:ea typeface="Arial"/>
              </a:rPr>
              <a:t>Adapting Agriculture to</a:t>
            </a: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2020"/>
                </a:solidFill>
                <a:latin typeface="Arial"/>
                <a:ea typeface="Arial"/>
              </a:rPr>
              <a:t>Climate Variability and Change</a:t>
            </a: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0" name="Rounded Rectangle 15"/>
          <p:cNvSpPr/>
          <p:nvPr/>
        </p:nvSpPr>
        <p:spPr>
          <a:xfrm>
            <a:off x="833400" y="1027080"/>
            <a:ext cx="37339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1" name="TextBox 16"/>
          <p:cNvSpPr/>
          <p:nvPr/>
        </p:nvSpPr>
        <p:spPr>
          <a:xfrm>
            <a:off x="909720" y="1090440"/>
            <a:ext cx="365760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Technologies, practices, partnerships and policies for: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100000"/>
              </a:lnSpc>
              <a:buClr>
                <a:srgbClr val="3e291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Adaptation to Progressive Climate Change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100000"/>
              </a:lnSpc>
              <a:buClr>
                <a:srgbClr val="3e291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Adaptation through Managing Climate Risk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100000"/>
              </a:lnSpc>
              <a:buClr>
                <a:srgbClr val="3e291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Pro-poor Climate Change Mitigation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2" name="Rounded Rectangle 17"/>
          <p:cNvSpPr/>
          <p:nvPr/>
        </p:nvSpPr>
        <p:spPr>
          <a:xfrm>
            <a:off x="1366920" y="2995560"/>
            <a:ext cx="3581280" cy="113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3" name="TextBox 39"/>
          <p:cNvSpPr/>
          <p:nvPr/>
        </p:nvSpPr>
        <p:spPr>
          <a:xfrm>
            <a:off x="4794120" y="1419120"/>
            <a:ext cx="1525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Improved Environmental Health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4" name="TextBox 40"/>
          <p:cNvSpPr/>
          <p:nvPr/>
        </p:nvSpPr>
        <p:spPr>
          <a:xfrm>
            <a:off x="6319800" y="16477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Improved Rural Livelihoods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5" name="TextBox 41"/>
          <p:cNvSpPr/>
          <p:nvPr/>
        </p:nvSpPr>
        <p:spPr>
          <a:xfrm>
            <a:off x="7691400" y="2309760"/>
            <a:ext cx="1068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Improved Food Security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6" name="TextBox 42"/>
          <p:cNvSpPr/>
          <p:nvPr/>
        </p:nvSpPr>
        <p:spPr>
          <a:xfrm>
            <a:off x="5175360" y="4386240"/>
            <a:ext cx="266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nhanced adaptive capacity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 agricultural, natural resource management, and food systems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7" name="Oval 22"/>
          <p:cNvSpPr/>
          <p:nvPr/>
        </p:nvSpPr>
        <p:spPr>
          <a:xfrm rot="796800">
            <a:off x="5380200" y="3153960"/>
            <a:ext cx="2814480" cy="593640"/>
          </a:xfrm>
          <a:prstGeom prst="ellipse">
            <a:avLst/>
          </a:prstGeom>
          <a:solidFill>
            <a:srgbClr val="ceeab0"/>
          </a:solidFill>
          <a:ln w="6480">
            <a:solidFill>
              <a:srgbClr val="20202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8" name="TextBox 44"/>
          <p:cNvSpPr/>
          <p:nvPr/>
        </p:nvSpPr>
        <p:spPr>
          <a:xfrm rot="767400">
            <a:off x="5661000" y="3306240"/>
            <a:ext cx="218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Trade-offs and Synergies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09" name="TextBox 24"/>
          <p:cNvSpPr/>
          <p:nvPr/>
        </p:nvSpPr>
        <p:spPr>
          <a:xfrm>
            <a:off x="1442880" y="2995560"/>
            <a:ext cx="35053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2914"/>
                </a:solidFill>
                <a:latin typeface="Arial"/>
                <a:ea typeface="Arial"/>
              </a:rPr>
              <a:t>4. Integration for Decision Making</a:t>
            </a:r>
            <a:endParaRPr b="0" lang="en-US" sz="14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e2914"/>
                </a:solidFill>
                <a:latin typeface="Arial"/>
                <a:ea typeface="Arial"/>
              </a:rPr>
              <a:t>Linking Knowledge with Action</a:t>
            </a:r>
            <a:endParaRPr b="0" lang="en-US" sz="12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100000"/>
              </a:lnSpc>
              <a:buClr>
                <a:srgbClr val="3e29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e2914"/>
                </a:solidFill>
                <a:latin typeface="Arial"/>
                <a:ea typeface="Arial"/>
              </a:rPr>
              <a:t>Assembling Data and Tools for Analysis and Planning</a:t>
            </a:r>
            <a:endParaRPr b="0" lang="en-US" sz="1200" spc="-1" strike="noStrike">
              <a:solidFill>
                <a:srgbClr val="3e2914"/>
              </a:solidFill>
              <a:latin typeface="45 Helvetica Light"/>
            </a:endParaRPr>
          </a:p>
          <a:p>
            <a:pPr>
              <a:lnSpc>
                <a:spcPct val="100000"/>
              </a:lnSpc>
              <a:buClr>
                <a:srgbClr val="3e29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e2914"/>
                </a:solidFill>
                <a:latin typeface="Arial"/>
                <a:ea typeface="Arial"/>
              </a:rPr>
              <a:t>Refining Frameworks for Policy Analysis</a:t>
            </a:r>
            <a:endParaRPr b="0" lang="en-US" sz="12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3300"/>
                </a:solidFill>
                <a:latin typeface="Arial"/>
              </a:rPr>
              <a:t>Th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042560" y="981000"/>
            <a:ext cx="771516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60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2914"/>
                </a:solidFill>
                <a:latin typeface="45 Helvetica Light"/>
              </a:rPr>
              <a:t>Review and analysis of existing approaches to social learning on climate change in the global South to identify gaps, good practices and opportunities for CCAFS.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171360" indent="-171360">
              <a:spcBef>
                <a:spcPts val="60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2914"/>
                </a:solidFill>
                <a:latin typeface="45 Helvetica Light"/>
              </a:rPr>
              <a:t>Concluded with a discussion paper to initiate discussion here.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171360" indent="-171360">
              <a:spcBef>
                <a:spcPts val="60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171360" indent="-171360">
              <a:spcBef>
                <a:spcPts val="60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171360" indent="-171360">
              <a:spcBef>
                <a:spcPts val="60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2914"/>
                </a:solidFill>
                <a:latin typeface="45 Helvetica Light"/>
              </a:rPr>
              <a:t>Bringing together people with skills in this area to share experience, views, and possibilities for partnership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171360" indent="-171360">
              <a:spcBef>
                <a:spcPts val="60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2914"/>
                </a:solidFill>
                <a:latin typeface="45 Helvetica Light"/>
              </a:rPr>
              <a:t>Identify gaps and research priorities and proposed actions to guide CCAFS engagement in this area alongside partners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</p:txBody>
      </p:sp>
      <p:sp>
        <p:nvSpPr>
          <p:cNvPr id="212" name="Title 1"/>
          <p:cNvSpPr/>
          <p:nvPr/>
        </p:nvSpPr>
        <p:spPr>
          <a:xfrm>
            <a:off x="324000" y="321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3300"/>
                </a:solidFill>
                <a:latin typeface="Arial"/>
              </a:rPr>
              <a:t>The workshop</a:t>
            </a:r>
            <a:endParaRPr b="0" lang="en-US" sz="44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3300"/>
                </a:solidFill>
                <a:latin typeface="Arial"/>
              </a:rPr>
              <a:t>Communication and Social Learning for Climate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09480" y="1700280"/>
            <a:ext cx="784872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e2914"/>
                </a:solidFill>
                <a:latin typeface="45 Helvetica Light"/>
              </a:rPr>
              <a:t>Communication and learning – from linear to “looped” approaches</a:t>
            </a:r>
            <a:endParaRPr b="0" lang="en-US" sz="3000" spc="-1" strike="noStrike">
              <a:solidFill>
                <a:srgbClr val="3e2914"/>
              </a:solidFill>
              <a:latin typeface="45 Helvetica Light"/>
            </a:endParaRPr>
          </a:p>
          <a:p>
            <a:pPr marL="332640" indent="-332640">
              <a:spcBef>
                <a:spcPts val="75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e2914"/>
                </a:solidFill>
                <a:latin typeface="45 Helvetica Light"/>
              </a:rPr>
              <a:t>Social learning:  Facilitating sharing information, knowledge and experience between stakeholders for new collective learning and knowledge.</a:t>
            </a:r>
            <a:endParaRPr b="0" lang="en-US" sz="3000" spc="-1" strike="noStrike">
              <a:solidFill>
                <a:srgbClr val="3e2914"/>
              </a:solidFill>
              <a:latin typeface="45 Helvetica Light"/>
            </a:endParaRPr>
          </a:p>
          <a:p>
            <a:pPr marL="332640" indent="-332640">
              <a:spcBef>
                <a:spcPts val="751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e2914"/>
                </a:solidFill>
                <a:latin typeface="45 Helvetica Light"/>
              </a:rPr>
              <a:t>Relevance to the climate challenge:</a:t>
            </a:r>
            <a:endParaRPr b="0" lang="en-US" sz="30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720720" indent="-277200">
              <a:spcBef>
                <a:spcPts val="649"/>
              </a:spcBef>
              <a:buClr>
                <a:srgbClr val="3e2914"/>
              </a:buClr>
              <a:buFont typeface="45 Helvetica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e2914"/>
                </a:solidFill>
                <a:latin typeface="45 Helvetica Light"/>
              </a:rPr>
              <a:t>Complexity; Uncertainty; Limited information; Access divides; Different timescales</a:t>
            </a:r>
            <a:endParaRPr b="0" lang="en-US" sz="2600" spc="-1" strike="noStrike">
              <a:solidFill>
                <a:srgbClr val="3e2914"/>
              </a:solidFill>
              <a:latin typeface="45 Helvetica Light"/>
            </a:endParaRPr>
          </a:p>
          <a:p>
            <a:pPr marL="332640" indent="-332640">
              <a:spcBef>
                <a:spcPts val="649"/>
              </a:spcBef>
              <a:buClr>
                <a:srgbClr val="3e2914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alibri"/>
                <a:ea typeface="Calibri"/>
              </a:rPr>
              <a:t>CCAFS as a part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10920" y="1484280"/>
            <a:ext cx="7848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Long-term program and new set-up / new research space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CCAFS as a testbed for new approaches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Global brand to help leverage funding 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Access to CGIAR expertise: research, tools, models, impact assessment, agriculture focus, …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Increasing access to ESSP expertise: climate science, global change community, food systems focus, …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Global reach of CGIAR: scalability, regions, comparability, partners &amp; linkages, facilities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CGIAR commitment to producing international public goods, science-based evidence, …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alibri"/>
                <a:ea typeface="Calibri"/>
              </a:rPr>
              <a:t>5 areas of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10920" y="1484280"/>
            <a:ext cx="7848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Documentation and testing social learning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Social learning in CCAFS/ the CG systesm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Endogenous social learning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Social differentiation and social learning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e291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14"/>
                </a:solidFill>
                <a:latin typeface="Calibri"/>
                <a:ea typeface="Calibri"/>
              </a:rPr>
              <a:t>Timescales to embed in social learning</a:t>
            </a:r>
            <a:endParaRPr b="0" lang="en-US" sz="24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663300"/>
                </a:solidFill>
                <a:latin typeface="Arial"/>
              </a:rPr>
              <a:t>1. Documentation and testing of social learn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4360" y="3789360"/>
          <a:ext cx="7920000" cy="2727360"/>
        </p:xfrm>
        <a:graphic>
          <a:graphicData uri="http://schemas.openxmlformats.org/drawingml/2006/table">
            <a:tbl>
              <a:tblPr/>
              <a:tblGrid>
                <a:gridCol w="1295280"/>
                <a:gridCol w="3384360"/>
                <a:gridCol w="3240360"/>
              </a:tblGrid>
              <a:tr h="930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</a:t>
                      </a:r>
                      <a:endParaRPr b="0" lang="en-US" sz="20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 Inventory, selection of cases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USP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specific criteria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 Selection of participants, and invitation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e and involve “owners”, researchers, “champions”, keeping in mind social differentiation and representativeness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684360" y="1557360"/>
          <a:ext cx="7991280" cy="1800360"/>
        </p:xfrm>
        <a:graphic>
          <a:graphicData uri="http://schemas.openxmlformats.org/drawingml/2006/table">
            <a:tbl>
              <a:tblPr/>
              <a:tblGrid>
                <a:gridCol w="1366560"/>
                <a:gridCol w="662472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Y</a:t>
                      </a:r>
                      <a:endParaRPr b="0" lang="en-US" sz="20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yse / test social learning as a tool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 researchers and policy community (and convince them) on the basis of evidence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 the practice itself – further developing the learning process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684360" y="549360"/>
          <a:ext cx="7920000" cy="3992400"/>
        </p:xfrm>
        <a:graphic>
          <a:graphicData uri="http://schemas.openxmlformats.org/drawingml/2006/table">
            <a:tbl>
              <a:tblPr/>
              <a:tblGrid>
                <a:gridCol w="1366560"/>
                <a:gridCol w="1800360"/>
                <a:gridCol w="4753080"/>
              </a:tblGrid>
              <a:tr h="775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</a:t>
                      </a:r>
                      <a:endParaRPr b="0" lang="en-US" sz="20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 Description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ext, Baseline, Activities, Process, Results, Outputs, Outcome : Has SL reached its goal?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 Analysis (testing)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 categories (Knowledge, Attitudes, Skills, Practice)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fic focus: Mechanism of causality and attribution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: Analytical frameworks, selection of indicators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 Writing, sharing, dissemination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 levels: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nts of the process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CCAFS 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side world”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684360" y="4941720"/>
          <a:ext cx="7991280" cy="1440000"/>
        </p:xfrm>
        <a:graphic>
          <a:graphicData uri="http://schemas.openxmlformats.org/drawingml/2006/table">
            <a:tbl>
              <a:tblPr/>
              <a:tblGrid>
                <a:gridCol w="1366560"/>
                <a:gridCol w="662472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O</a:t>
                      </a:r>
                      <a:endParaRPr b="0" lang="en-US" sz="20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tor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archers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 people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“owners” of each case</a:t>
                      </a:r>
                      <a:endParaRPr b="0" lang="en-US" sz="1800" spc="-1" strike="noStrike">
                        <a:solidFill>
                          <a:srgbClr val="3e2914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663300"/>
                </a:solidFill>
                <a:latin typeface="Arial"/>
                <a:ea typeface="Arial"/>
              </a:rPr>
              <a:t>2. </a:t>
            </a:r>
            <a:r>
              <a:rPr b="0" i="1" lang="en-US" sz="3100" spc="-1" strike="noStrike">
                <a:solidFill>
                  <a:srgbClr val="663300"/>
                </a:solidFill>
                <a:latin typeface="Arial"/>
                <a:ea typeface="Arial"/>
              </a:rPr>
              <a:t>Social Learning is validated within CCAFS as a mainstream method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50760" bIns="50760" anchor="t">
            <a:normAutofit/>
          </a:bodyPr>
          <a:p>
            <a:pPr lvl="1" marL="2811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3e2914"/>
                </a:solidFill>
                <a:latin typeface="Arial"/>
                <a:ea typeface="Arial"/>
              </a:rPr>
              <a:t>Indicators</a:t>
            </a:r>
            <a:endParaRPr b="0" lang="en-US" sz="27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281160">
              <a:spcBef>
                <a:spcPts val="700"/>
              </a:spcBef>
              <a:buClr>
                <a:srgbClr val="3e2914"/>
              </a:buClr>
              <a:buFont typeface="45 Helvetica Light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e2914"/>
                </a:solidFill>
                <a:latin typeface="45 Helvetica Light"/>
              </a:rPr>
              <a:t>Significant percentage of CG funded proposals that include SL explicitly as a central part, by 2020</a:t>
            </a: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281160">
              <a:spcBef>
                <a:spcPts val="700"/>
              </a:spcBef>
              <a:buClr>
                <a:srgbClr val="3e2914"/>
              </a:buClr>
              <a:buFont typeface="45 Helvetica Light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e2914"/>
                </a:solidFill>
                <a:latin typeface="45 Helvetica Light"/>
              </a:rPr>
              <a:t>Dynamic basket of artifacts with shared attribution/use</a:t>
            </a: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  <a:p>
            <a:pPr lvl="1" marL="281160">
              <a:spcBef>
                <a:spcPts val="700"/>
              </a:spcBef>
              <a:buClr>
                <a:srgbClr val="3e2914"/>
              </a:buClr>
              <a:buFont typeface="45 Helvetica Light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e2914"/>
                </a:solidFill>
                <a:latin typeface="45 Helvetica Light"/>
              </a:rPr>
              <a:t>A porous CGIAR and partners’ network with two-way learning</a:t>
            </a:r>
            <a:endParaRPr b="0" lang="en-US" sz="2800" spc="-1" strike="noStrike">
              <a:solidFill>
                <a:srgbClr val="3e2914"/>
              </a:solidFill>
              <a:latin typeface="45 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5:13:43Z</dcterms:created>
  <dc:creator>Ann-Sophie Neuchs Smed</dc:creator>
  <dc:description/>
  <dc:language>en-US</dc:language>
  <cp:lastModifiedBy>eleborgne</cp:lastModifiedBy>
  <dcterms:modified xsi:type="dcterms:W3CDTF">2012-05-10T11:33:12Z</dcterms:modified>
  <cp:revision>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Type">
    <vt:lpwstr>Agenda</vt:lpwstr>
  </property>
  <property fmtid="{D5CDD505-2E9C-101B-9397-08002B2CF9AE}" pid="3" name="TemplateUrl">
    <vt:lpwstr/>
  </property>
  <property fmtid="{D5CDD505-2E9C-101B-9397-08002B2CF9AE}" pid="4" name="_dlc_DocId">
    <vt:lpwstr>D3D2VP4PYXC5-6-110</vt:lpwstr>
  </property>
  <property fmtid="{D5CDD505-2E9C-101B-9397-08002B2CF9AE}" pid="5" name="_dlc_DocIdItemGuid">
    <vt:lpwstr>1b9dc0f8-76d6-4893-bece-b1b6f1ac88d5</vt:lpwstr>
  </property>
  <property fmtid="{D5CDD505-2E9C-101B-9397-08002B2CF9AE}" pid="6" name="_dlc_DocIdUrl">
    <vt:lpwstr>http://intranet.ccafs.cgiar.org/_layouts/DocIdRedir.aspx?ID=D3D2VP4PYXC5-6-110, D3D2VP4PYXC5-6-110</vt:lpwstr>
  </property>
  <property fmtid="{D5CDD505-2E9C-101B-9397-08002B2CF9AE}" pid="7" name="display_urn:schemas-microsoft-com:office:office#Author">
    <vt:lpwstr>Jordan, Tania (CGIAR)</vt:lpwstr>
  </property>
  <property fmtid="{D5CDD505-2E9C-101B-9397-08002B2CF9AE}" pid="8" name="display_urn:schemas-microsoft-com:office:office#Editor">
    <vt:lpwstr>Jordan, Tania (CGIAR)</vt:lpwstr>
  </property>
  <property fmtid="{D5CDD505-2E9C-101B-9397-08002B2CF9AE}" pid="9" name="xd_ProgID">
    <vt:lpwstr/>
  </property>
</Properties>
</file>