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54D0-A838-4319-968F-6983AFC7C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3E2D-3E36-4A76-8D7F-D1AC05D6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001-3629-4B38-A5F9-BB2123CC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136-AD93-41BE-8AD8-0AB3D9F6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2F2-DD39-4BF0-9035-C9AB1DA5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9F9-6E68-4C4E-82F7-23DEFAA3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AE00-C78C-4CBB-8269-B9FF79FD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6ECE-1D35-453C-B7A9-779F8FF9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93F0-0879-4F79-A683-7941666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E40-C9A7-4895-9A10-A767242C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EAC8-5043-430F-B324-D8E3B917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F32E-17A5-4E2D-9290-A4DAEAE4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6DCF-5F39-4DA2-8539-B88B97B5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810-49FF-4645-8E1E-8663BD2B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4623-6563-4D6D-9C26-6859E8D8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E1C4-54A6-4486-9F92-FD44477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E973-091C-4432-8C6D-D2178400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A871-87BB-429E-A3E3-F1E36A15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AB49-6B09-4905-9D9B-4653A7BC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46B8-D2CF-4A35-B2A3-F2BE1D54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1699-5FE0-4A13-B496-566B5C67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C9CB-5BAE-4B35-9613-20198AB5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A898-90E5-41D1-A421-F0C6EA2E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0B91-2CCC-42CB-8F99-57C3FFF6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42F-7B1F-4C7C-9898-B119011B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8EA6-6FF2-4963-AD8A-55ADF66C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CCCA-7C03-4A9F-90EC-B28886E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ABA9-9770-41B5-BFB1-8B8E3BD6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F614-FDD6-4791-A3AF-906B6A4E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F0D9-A3DF-419F-A1D6-433F27E6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4F39-DCE6-4395-932B-D1372735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5559-61B3-4061-A8B5-E012D4B8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A49B-3802-4F65-AE70-D22A4B3A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261B-0C2C-45E0-9197-88DCE9C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FA6CB-27B6-474B-9ADC-9919F26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D52-E897-49B1-B5E4-B8922D7E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7D23-E4DE-42D5-AC9A-50124C24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BA13-CD4A-400F-96D2-074B64E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27D41-098F-4F90-AFC7-1C2D7BDA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EB34-F47A-4EB6-8CB2-C9DAF8D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5F5A-D25C-4B2D-BC3D-15F34C7E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95EF-B9D8-462B-BB50-F910DF43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2BB3-BB78-40C9-8996-F650746B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2161-9F20-423E-82F6-9C5A1648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00EE5-8196-4DF5-A695-4C4BD316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47F-C10E-4B86-B857-56848BA9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817-39BC-420A-94FF-1115B92F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1A4-5844-4ABF-B529-5034AC3D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4B8-53A5-49B9-9877-1A0B68A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783-6523-4D77-87C1-A27B673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1564-D3B9-4F6F-A6F7-8D8227914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D01D-E43A-4CE3-A728-195C3369082C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LOGOBAELTE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45720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192560" y="-1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pic>
        <p:nvPicPr>
          <p:cNvPr id="47" name="Picture 12" descr="LIFE"/>
          <p:cNvPicPr/>
          <p:nvPr/>
        </p:nvPicPr>
        <p:blipFill>
          <a:blip r:embed="rId3"/>
          <a:stretch/>
        </p:blipFill>
        <p:spPr>
          <a:xfrm>
            <a:off x="3352680" y="575460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GIAR"/>
          <p:cNvPicPr/>
          <p:nvPr/>
        </p:nvPicPr>
        <p:blipFill>
          <a:blip r:embed="rId4"/>
          <a:stretch/>
        </p:blipFill>
        <p:spPr>
          <a:xfrm>
            <a:off x="76320" y="5754600"/>
            <a:ext cx="79380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IAT"/>
          <p:cNvPicPr/>
          <p:nvPr/>
        </p:nvPicPr>
        <p:blipFill>
          <a:blip r:embed="rId5"/>
          <a:stretch/>
        </p:blipFill>
        <p:spPr>
          <a:xfrm>
            <a:off x="2057400" y="5830920"/>
            <a:ext cx="106668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ESSP"/>
          <p:cNvPicPr/>
          <p:nvPr/>
        </p:nvPicPr>
        <p:blipFill>
          <a:blip r:embed="rId6"/>
          <a:stretch/>
        </p:blipFill>
        <p:spPr>
          <a:xfrm>
            <a:off x="990720" y="5754600"/>
            <a:ext cx="904680" cy="101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92560" y="60480"/>
            <a:ext cx="18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e2914"/>
                </a:solidFill>
                <a:latin typeface="Helvetica 45 Light"/>
              </a:rPr>
              <a:t>Addis Ababa, 8-10 May, 2012</a:t>
            </a:r>
            <a:endParaRPr b="0" lang="en-US" sz="10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295280" y="4038480"/>
            <a:ext cx="649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Helvetica 45 Light"/>
              </a:rPr>
              <a:t>Communication and social learning: supporting local decision making on climate change, agriculture and food security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2836-2865-44E5-BCD1-CF05A8D5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B591-000C-4C5F-AFDE-8832810CBE7B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F43-ABF0-47C8-8F26-F9BAFD9F9C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030-61A8-4CA6-8DBA-BDA1D19B7034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97BD-EE14-4AEC-B13D-8F401F44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6257880" y="45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3300"/>
                </a:solidFill>
                <a:latin typeface="Arial"/>
              </a:rPr>
              <a:t>Activi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79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A dynamic Basket of Good Practices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Design, piloting &amp; launch of a baske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Innovation fun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Enabling environment…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atalysing Social Learning across CCAFS network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Facilitating the emergence of a Community of practic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Advisory group &amp;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Coaching Pane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Train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wareness Rais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 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3. 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4. Social learning</a:t>
            </a:r>
            <a:br>
              <a:rPr sz="3600"/>
            </a:b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and social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4. Social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1 – Catalyzing Change from Within (2012 – 2013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ead: CCAFS Theme 4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Target Audience: CCAFS &amp; current project partner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inking social learning process to its annual Science Meeting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187200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(Social LSD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2 – Facilitation (2012 – 2020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Lead: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Develop a dynamic network cutting across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dentify ways to coordinate &amp; facilitate the proces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Organize a working group to lead Activity 3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marL="312120" indent="-3121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Use crowd sourcing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Produce literature review on existing 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b) Phase 2 (loop 2): Research to action 2014-202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monstrate the evidence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Move towards impact with partner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Funding ballpark: 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1 &amp; 2: $5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3: $30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5. 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y?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daptive capacity will be limited if long-term changes are not considere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How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How do long term changes relate to the time horizons of different actors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at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Long-term considerations should be addressed through short-term incentives of relevance and interest to stakeholders for their engagemen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Theory of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e2914"/>
                </a:solidFill>
                <a:latin typeface="45 Helvetica Light"/>
              </a:rPr>
              <a:t>Activiti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Time horizons evaluation too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Motivations framework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Evaluating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2914"/>
                </a:solidFill>
                <a:latin typeface="45 Helvetica Light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914"/>
                </a:solidFill>
                <a:latin typeface="45 Helvetica Light"/>
              </a:rPr>
              <a:t>Anticipated outcom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What’s next?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Feedback from our visitors…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-6000"/>
          </a:blip>
          <a:srcRect l="935" t="1705" r="1871" b="1209"/>
          <a:stretch/>
        </p:blipFill>
        <p:spPr>
          <a:xfrm>
            <a:off x="-257040" y="19080"/>
            <a:ext cx="10424880" cy="5713560"/>
          </a:xfrm>
          <a:prstGeom prst="rect">
            <a:avLst/>
          </a:prstGeom>
          <a:ln w="9360">
            <a:solidFill>
              <a:srgbClr val="202020"/>
            </a:solidFill>
            <a:miter/>
          </a:ln>
        </p:spPr>
      </p:pic>
      <p:sp>
        <p:nvSpPr>
          <p:cNvPr id="190" name="Oval 5"/>
          <p:cNvSpPr/>
          <p:nvPr/>
        </p:nvSpPr>
        <p:spPr>
          <a:xfrm rot="601200">
            <a:off x="194760" y="74520"/>
            <a:ext cx="8948880" cy="5585040"/>
          </a:xfrm>
          <a:prstGeom prst="ellipse">
            <a:avLst/>
          </a:prstGeom>
          <a:solidFill>
            <a:srgbClr val="e6debc">
              <a:alpha val="32000"/>
            </a:srgbClr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615080" y="2081160"/>
            <a:ext cx="12193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6319800" y="1471680"/>
            <a:ext cx="12952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4871880" y="1166760"/>
            <a:ext cx="1371600" cy="120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4" name="Bent Arrow 9"/>
          <p:cNvSpPr/>
          <p:nvPr/>
        </p:nvSpPr>
        <p:spPr>
          <a:xfrm flipH="1" rot="10800000">
            <a:off x="2585880" y="2690280"/>
            <a:ext cx="2362320" cy="2514600"/>
          </a:xfrm>
          <a:custGeom>
            <a:avLst/>
            <a:gdLst/>
            <a:ahLst/>
            <a:rect l="l" t="t" r="r" b="b"/>
            <a:pathLst>
              <a:path w="2362200" h="2514600">
                <a:moveTo>
                  <a:pt x="0" y="2514600"/>
                </a:moveTo>
                <a:lnTo>
                  <a:pt x="0" y="1918780"/>
                </a:lnTo>
                <a:cubicBezTo>
                  <a:pt x="0" y="940325"/>
                  <a:pt x="793195" y="147130"/>
                  <a:pt x="1771650" y="147130"/>
                </a:cubicBezTo>
                <a:lnTo>
                  <a:pt x="1771650" y="147130"/>
                </a:lnTo>
                <a:lnTo>
                  <a:pt x="1771650" y="0"/>
                </a:lnTo>
                <a:lnTo>
                  <a:pt x="2362200" y="369094"/>
                </a:lnTo>
                <a:lnTo>
                  <a:pt x="1771650" y="738188"/>
                </a:lnTo>
                <a:lnTo>
                  <a:pt x="1771650" y="591058"/>
                </a:lnTo>
                <a:lnTo>
                  <a:pt x="1771650" y="591058"/>
                </a:lnTo>
                <a:cubicBezTo>
                  <a:pt x="1038369" y="591058"/>
                  <a:pt x="443928" y="1185499"/>
                  <a:pt x="443928" y="1918780"/>
                </a:cubicBezTo>
                <a:lnTo>
                  <a:pt x="443928" y="2514600"/>
                </a:lnTo>
                <a:lnTo>
                  <a:pt x="0" y="25146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2020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cxnSp>
        <p:nvCxnSpPr>
          <p:cNvPr id="195" name="Straight Arrow Connector 10"/>
          <p:cNvCxnSpPr>
            <a:stCxn id="196" idx="0"/>
            <a:endCxn id="191" idx="3"/>
          </p:cNvCxnSpPr>
          <p:nvPr/>
        </p:nvCxnSpPr>
        <p:spPr>
          <a:xfrm flipV="1">
            <a:off x="6471000" y="2991960"/>
            <a:ext cx="1321200" cy="114696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7" name="Straight Arrow Connector 11"/>
          <p:cNvCxnSpPr/>
          <p:nvPr/>
        </p:nvCxnSpPr>
        <p:spPr>
          <a:xfrm flipV="1">
            <a:off x="6396120" y="2613960"/>
            <a:ext cx="457920" cy="152460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/>
          <p:nvPr/>
        </p:nvCxnSpPr>
        <p:spPr>
          <a:xfrm flipH="1" flipV="1">
            <a:off x="5758560" y="2347200"/>
            <a:ext cx="559800" cy="185508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sp>
        <p:nvSpPr>
          <p:cNvPr id="196" name="Oval 13"/>
          <p:cNvSpPr/>
          <p:nvPr/>
        </p:nvSpPr>
        <p:spPr>
          <a:xfrm>
            <a:off x="5024520" y="4138560"/>
            <a:ext cx="2895480" cy="1295280"/>
          </a:xfrm>
          <a:prstGeom prst="ellipse">
            <a:avLst/>
          </a:prstGeom>
          <a:solidFill>
            <a:srgbClr val="3e2914"/>
          </a:solidFill>
          <a:ln w="255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2506680" y="2271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Adapting Agriculture to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Climate Variability and Change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0" name="Rounded Rectangle 15"/>
          <p:cNvSpPr/>
          <p:nvPr/>
        </p:nvSpPr>
        <p:spPr>
          <a:xfrm>
            <a:off x="833400" y="1027080"/>
            <a:ext cx="37339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909720" y="1090440"/>
            <a:ext cx="3657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echnologies, practices, partnerships and policies for: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o Progressive Climate Change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hrough Managing Climate Risk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Pro-poor Climate Change Mitigation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2" name="Rounded Rectangle 17"/>
          <p:cNvSpPr/>
          <p:nvPr/>
        </p:nvSpPr>
        <p:spPr>
          <a:xfrm>
            <a:off x="1366920" y="2995560"/>
            <a:ext cx="358128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4794120" y="1419120"/>
            <a:ext cx="15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Environmental Health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6319800" y="164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Rural Livelihood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7691400" y="2309760"/>
            <a:ext cx="10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Food Secur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5175360" y="4386240"/>
            <a:ext cx="266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hanced adaptive capac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agricultural, natural resource management, and food system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7" name="Oval 22"/>
          <p:cNvSpPr/>
          <p:nvPr/>
        </p:nvSpPr>
        <p:spPr>
          <a:xfrm rot="796800">
            <a:off x="5380200" y="3153960"/>
            <a:ext cx="2814480" cy="593640"/>
          </a:xfrm>
          <a:prstGeom prst="ellipse">
            <a:avLst/>
          </a:prstGeom>
          <a:solidFill>
            <a:srgbClr val="ceeab0"/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8" name="TextBox 44"/>
          <p:cNvSpPr/>
          <p:nvPr/>
        </p:nvSpPr>
        <p:spPr>
          <a:xfrm rot="767400">
            <a:off x="5661000" y="33062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rade-offs and Synergie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442880" y="2995560"/>
            <a:ext cx="350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4. Integration for Decision Making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Linking Knowledge with Action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Assembling Data and Tools for Analysis and Planning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Refining Frameworks for Policy Analysis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560" y="981000"/>
            <a:ext cx="7715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Review and analysis of existing approaches to social learning on climate change in the global South to identify gaps, good practices and opportunities for CCAFS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Concluded with a discussion paper to initiate discussion here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Bringing together people with skills in this area to share experience, views, and possibilities for partnership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Identify gaps and research priorities and proposed actions to guide CCAFS engagement in this area alongside partner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workshop</a:t>
            </a:r>
            <a:endParaRPr b="0" lang="en-US" sz="4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Arial"/>
              </a:rPr>
              <a:t>Communication and Social Learning for Climat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70028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Communication and learning – from linear to “looped” approaches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Social learning:  Facilitating sharing information, knowledge and experience between stakeholders for new collective learning and knowledge.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Relevance to the climate challenge: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20720" indent="-277200">
              <a:spcBef>
                <a:spcPts val="64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e2914"/>
                </a:solidFill>
                <a:latin typeface="45 Helvetica Light"/>
              </a:rPr>
              <a:t>Complexity; Uncertainty; Limited information; Access divides; Different timescales</a:t>
            </a: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64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CCAFS as a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Long-term program and new set-up / new research space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CAFS as a testbed for new approach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brand to help leverage funding 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Access to CGIAR expertise: research, tools, models, impact assessment, agriculture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Increasing access to ESSP expertise: climate science, global change community, food systems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reach of CGIAR: scalability, regions, comparability, partners &amp; linkages, faciliti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GIAR commitment to producing international public goods, science-based evidence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5 area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Documentation and testing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learning in CCAFS/ the CG systesm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Endogenous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differentiation and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Timescales to embed in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3300"/>
                </a:solidFill>
                <a:latin typeface="Arial"/>
              </a:rPr>
              <a:t>1. Documentation and testing of social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3789360"/>
          <a:ext cx="7920000" cy="272736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84360" y="549360"/>
          <a:ext cx="7920000" cy="399240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775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0" i="1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lvl="1"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3e2914"/>
                </a:solidFill>
                <a:latin typeface="Arial"/>
                <a:ea typeface="Arial"/>
              </a:rPr>
              <a:t>Indicators</a:t>
            </a:r>
            <a:endParaRPr b="0" lang="en-US" sz="27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Significant percentage of CG funded proposals that include SL explicitly as a central part, by 2020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Dynamic basket of artifacts with shared attribution/use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A porous CGIAR and partners’ network with two-way learning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3:43Z</dcterms:created>
  <dc:creator>Ann-Sophie Neuchs Smed</dc:creator>
  <dc:description/>
  <dc:language>en-US</dc:language>
  <cp:lastModifiedBy>eleborgne</cp:lastModifiedBy>
  <dcterms:modified xsi:type="dcterms:W3CDTF">2012-05-10T11:33:1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Agenda</vt:lpwstr>
  </property>
  <property fmtid="{D5CDD505-2E9C-101B-9397-08002B2CF9AE}" pid="3" name="TemplateUrl">
    <vt:lpwstr/>
  </property>
  <property fmtid="{D5CDD505-2E9C-101B-9397-08002B2CF9AE}" pid="4" name="_dlc_DocId">
    <vt:lpwstr>D3D2VP4PYXC5-6-110</vt:lpwstr>
  </property>
  <property fmtid="{D5CDD505-2E9C-101B-9397-08002B2CF9AE}" pid="5" name="_dlc_DocIdItemGuid">
    <vt:lpwstr>1b9dc0f8-76d6-4893-bece-b1b6f1ac88d5</vt:lpwstr>
  </property>
  <property fmtid="{D5CDD505-2E9C-101B-9397-08002B2CF9AE}" pid="6" name="_dlc_DocIdUrl">
    <vt:lpwstr>http://intranet.ccafs.cgiar.org/_layouts/DocIdRedir.aspx?ID=D3D2VP4PYXC5-6-110, D3D2VP4PYXC5-6-110</vt:lpwstr>
  </property>
  <property fmtid="{D5CDD505-2E9C-101B-9397-08002B2CF9AE}" pid="7" name="display_urn:schemas-microsoft-com:office:office#Author">
    <vt:lpwstr>Jordan, Tania (CGIAR)</vt:lpwstr>
  </property>
  <property fmtid="{D5CDD505-2E9C-101B-9397-08002B2CF9AE}" pid="8" name="display_urn:schemas-microsoft-com:office:office#Editor">
    <vt:lpwstr>Jordan, Tania (CGIAR)</vt:lpwstr>
  </property>
  <property fmtid="{D5CDD505-2E9C-101B-9397-08002B2CF9AE}" pid="9" name="xd_ProgID">
    <vt:lpwstr/>
  </property>
</Properties>
</file>