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93CF-4E90-409A-92FC-8DB56E47F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8A76-1020-48B0-B3F4-E71C09A3D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61B4-BDB1-40E3-8AB7-13D181D8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134-EBEA-4F27-B5D9-974DF9F0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9C61-38F5-4299-81D9-72E3AEB2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124-CC6C-4D82-BC47-185BA3AF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5A1D-CE65-4CD1-AD3F-3E25F5D4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FA33-4AC5-462C-A34F-F2B3B47C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3DDD-A837-4746-8D75-7200A426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6718-177F-41FF-A1EE-B4C02095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5D2C-FBCB-4FD9-8478-11D910C6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8303-09B1-48DC-B5D8-D346512B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CD91-E02D-4458-8D8C-E0975B34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6EDC-D383-43F9-87BD-47B8FF80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CE43-8FB4-40D6-8F97-B37C9DCA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B903-CBCC-44FF-93B8-AF3CB9F1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0AC8-61C2-44D5-9D76-D4FFED40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A167-88D4-49A0-97CA-2217C3D6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357E-7026-4C53-8986-44136294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3645F-3824-4A04-B7E1-6349AE55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1C237-CCD5-4493-A9F3-67E2CCE2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49372-A01E-499A-BCBD-0410B234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48B54-3001-4C91-B4DD-E667A32F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E3209-4085-4379-A8DC-A3360D1C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943E-BCBA-4585-B26F-331495AD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CD8FB-850D-465D-A313-487906E4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31575-3F03-4FB5-9DEB-4931D8D0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3CD2A-29BB-44DE-921A-DD3978F0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598DB-F9D0-40A5-A109-8AFDFA42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C4F0A-63D4-4685-86D7-FF5282F2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F740A-3F9D-4F88-B233-51EF3F66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5B9C7-D51E-4905-8140-13972C94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00470-470D-498E-B142-63715773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EF2BF-F96F-4B07-8922-936A6A06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8E342-3968-484B-A0FD-31FEABD8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50F5-9467-4D38-AD74-E37A423D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9AE03-BB0F-49D1-BED7-66AD09FF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11067-707C-48FA-9147-86C57468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5EFFF-0E70-40CA-89D3-5B7874A9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3A1FB-C144-4B42-98AE-E48708FD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1EB75-0546-44FC-95CA-C1A61E46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1A895-2130-4B0F-B671-F489F67C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26DCF-BA6F-474C-B88E-6FBC8E85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175C1-085F-428D-9AE3-EBF4B869B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C5F60-8B7C-43F6-B482-E1E6A24A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239B-2088-4775-8181-A4934A55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9557-7EC5-4899-ABC1-0E71E8CF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53A1-84AF-40E4-821E-3D6508C6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DE8F-A4AF-4497-B909-A51CD1DF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BD57-68AE-4B1F-B0E8-45464F44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CE7E-FF29-4EA3-972A-2B317F8E8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BUNDSTRIBE"/>
          <p:cNvPicPr/>
          <p:nvPr/>
        </p:nvPicPr>
        <p:blipFill>
          <a:blip r:embed="rId2"/>
          <a:stretch/>
        </p:blipFill>
        <p:spPr>
          <a:xfrm>
            <a:off x="0" y="5710320"/>
            <a:ext cx="9144000" cy="11476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HJOERNELOGO"/>
          <p:cNvPicPr/>
          <p:nvPr/>
        </p:nvPicPr>
        <p:blipFill>
          <a:blip r:embed="rId3"/>
          <a:stretch/>
        </p:blipFill>
        <p:spPr>
          <a:xfrm>
            <a:off x="7211880" y="76320"/>
            <a:ext cx="1779840" cy="860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584280" y="10620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228600" y="203040"/>
            <a:ext cx="1523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F3D0-9453-42B6-BAA4-68876A4CBA5A}" type="slidenum"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&lt;number&gt;</a:t>
            </a:fld>
            <a:r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800" spc="-1" strike="noStrike">
                <a:solidFill>
                  <a:srgbClr val="3e2914"/>
                </a:solidFill>
                <a:latin typeface="45 Helvetica Light"/>
              </a:rPr>
              <a:t>• </a:t>
            </a:r>
            <a:r>
              <a:rPr b="0" lang="da-DK" sz="800" spc="-1" strike="noStrike">
                <a:solidFill>
                  <a:srgbClr val="3e2914"/>
                </a:solidFill>
                <a:latin typeface="45 Helvetica Light"/>
              </a:rPr>
              <a:t>05/08/12</a:t>
            </a:r>
            <a:endParaRPr b="0" lang="en-US" sz="8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LOGOBAELTE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457200" y="1522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4192560" y="-12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pic>
        <p:nvPicPr>
          <p:cNvPr id="47" name="Picture 12" descr="LIFE"/>
          <p:cNvPicPr/>
          <p:nvPr/>
        </p:nvPicPr>
        <p:blipFill>
          <a:blip r:embed="rId3"/>
          <a:stretch/>
        </p:blipFill>
        <p:spPr>
          <a:xfrm>
            <a:off x="3352680" y="5754600"/>
            <a:ext cx="1143000" cy="1103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CGIAR"/>
          <p:cNvPicPr/>
          <p:nvPr/>
        </p:nvPicPr>
        <p:blipFill>
          <a:blip r:embed="rId4"/>
          <a:stretch/>
        </p:blipFill>
        <p:spPr>
          <a:xfrm>
            <a:off x="76320" y="5754600"/>
            <a:ext cx="793800" cy="1017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CIAT"/>
          <p:cNvPicPr/>
          <p:nvPr/>
        </p:nvPicPr>
        <p:blipFill>
          <a:blip r:embed="rId5"/>
          <a:stretch/>
        </p:blipFill>
        <p:spPr>
          <a:xfrm>
            <a:off x="2057400" y="5830920"/>
            <a:ext cx="1066680" cy="92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ESSP"/>
          <p:cNvPicPr/>
          <p:nvPr/>
        </p:nvPicPr>
        <p:blipFill>
          <a:blip r:embed="rId6"/>
          <a:stretch/>
        </p:blipFill>
        <p:spPr>
          <a:xfrm>
            <a:off x="990720" y="5754600"/>
            <a:ext cx="904680" cy="1017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6"/>
          <p:cNvSpPr/>
          <p:nvPr/>
        </p:nvSpPr>
        <p:spPr>
          <a:xfrm>
            <a:off x="3292560" y="60480"/>
            <a:ext cx="18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e2914"/>
                </a:solidFill>
                <a:latin typeface="Helvetica 45 Light"/>
              </a:rPr>
              <a:t>Addis Ababa, 8-10 May, 2012</a:t>
            </a:r>
            <a:endParaRPr b="0" lang="en-US" sz="10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1295280" y="4038480"/>
            <a:ext cx="649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Helvetica 45 Light"/>
              </a:rPr>
              <a:t>Communication and social learning: supporting local decision making on climate change, agriculture and food security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EC13-106E-429F-8D26-4ABEB879E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BUNDSTRIBE"/>
          <p:cNvPicPr/>
          <p:nvPr/>
        </p:nvPicPr>
        <p:blipFill>
          <a:blip r:embed="rId2"/>
          <a:stretch/>
        </p:blipFill>
        <p:spPr>
          <a:xfrm>
            <a:off x="0" y="5710320"/>
            <a:ext cx="9144000" cy="1147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JOERNELOGO"/>
          <p:cNvPicPr/>
          <p:nvPr/>
        </p:nvPicPr>
        <p:blipFill>
          <a:blip r:embed="rId3"/>
          <a:stretch/>
        </p:blipFill>
        <p:spPr>
          <a:xfrm>
            <a:off x="7211880" y="76320"/>
            <a:ext cx="1779840" cy="860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584280" y="10620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228600" y="203040"/>
            <a:ext cx="1523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19F5-8738-4443-BCD9-C8518243D549}" type="slidenum"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&lt;number&gt;</a:t>
            </a:fld>
            <a:r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800" spc="-1" strike="noStrike">
                <a:solidFill>
                  <a:srgbClr val="3e2914"/>
                </a:solidFill>
                <a:latin typeface="45 Helvetica Light"/>
              </a:rPr>
              <a:t>• </a:t>
            </a:r>
            <a:r>
              <a:rPr b="0" lang="da-DK" sz="800" spc="-1" strike="noStrike">
                <a:solidFill>
                  <a:srgbClr val="3e2914"/>
                </a:solidFill>
                <a:latin typeface="45 Helvetica Light"/>
              </a:rPr>
              <a:t>05/08/12</a:t>
            </a:r>
            <a:endParaRPr b="0" lang="en-US" sz="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2C67-34E9-4CEC-A703-C523957FF8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BUNDSTRIBE"/>
          <p:cNvPicPr/>
          <p:nvPr/>
        </p:nvPicPr>
        <p:blipFill>
          <a:blip r:embed="rId2"/>
          <a:stretch/>
        </p:blipFill>
        <p:spPr>
          <a:xfrm>
            <a:off x="0" y="5710320"/>
            <a:ext cx="9144000" cy="1147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HJOERNELOGO"/>
          <p:cNvPicPr/>
          <p:nvPr/>
        </p:nvPicPr>
        <p:blipFill>
          <a:blip r:embed="rId3"/>
          <a:stretch/>
        </p:blipFill>
        <p:spPr>
          <a:xfrm>
            <a:off x="7211880" y="76320"/>
            <a:ext cx="1779840" cy="860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584280" y="10620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228600" y="203040"/>
            <a:ext cx="1523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6769-206D-4AFC-8457-B75D7EFCB6FF}" type="slidenum"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&lt;number&gt;</a:t>
            </a:fld>
            <a:r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800" spc="-1" strike="noStrike">
                <a:solidFill>
                  <a:srgbClr val="3e2914"/>
                </a:solidFill>
                <a:latin typeface="45 Helvetica Light"/>
              </a:rPr>
              <a:t>• </a:t>
            </a:r>
            <a:r>
              <a:rPr b="0" lang="da-DK" sz="800" spc="-1" strike="noStrike">
                <a:solidFill>
                  <a:srgbClr val="3e2914"/>
                </a:solidFill>
                <a:latin typeface="45 Helvetica Light"/>
              </a:rPr>
              <a:t>05/08/12</a:t>
            </a:r>
            <a:endParaRPr b="0" lang="en-US" sz="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3729-7BC7-411D-9426-41F105CE5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"/>
          <p:cNvSpPr/>
          <p:nvPr/>
        </p:nvSpPr>
        <p:spPr>
          <a:xfrm>
            <a:off x="6257880" y="459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3300"/>
                </a:solidFill>
                <a:latin typeface="Arial"/>
              </a:rPr>
              <a:t>Activiti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1793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649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A dynamic Basket of Good Practices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Design, piloting &amp; launch of a basket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Innovation fund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Enabling environment…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marL="2649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atalysing Social Learning across CCAFS network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Facilitating the emergence of a Community of practice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Advisory group &amp; 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Coaching Panel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Training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Awareness Raising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marL="2649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 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3. Supporting endogenous social learning for enhanced food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&#9;photo.jpg                                                      00000002&#9;ERIC - HP                      00000000:"/>
          <p:cNvPicPr/>
          <p:nvPr/>
        </p:nvPicPr>
        <p:blipFill>
          <a:blip r:embed="rId1"/>
          <a:stretch/>
        </p:blipFill>
        <p:spPr>
          <a:xfrm>
            <a:off x="838080" y="1650960"/>
            <a:ext cx="72392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304920" y="533520"/>
          <a:ext cx="8534160" cy="6100560"/>
        </p:xfrm>
        <a:graphic>
          <a:graphicData uri="http://schemas.openxmlformats.org/drawingml/2006/table">
            <a:tbl>
              <a:tblPr/>
              <a:tblGrid>
                <a:gridCol w="3886200"/>
                <a:gridCol w="464796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Opportunity Assessment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an regions; select criteria; mapping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(AA, USAID, ALIN)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Learning and Evaluative Framework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ternal experts |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rs knowledge interface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Joint Needs Assessment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facilitator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Analysi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 &amp; comparative analyse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-evaluation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609480" y="1295280"/>
          <a:ext cx="7848720" cy="3438720"/>
        </p:xfrm>
        <a:graphic>
          <a:graphicData uri="http://schemas.openxmlformats.org/drawingml/2006/table">
            <a:tbl>
              <a:tblPr/>
              <a:tblGrid>
                <a:gridCol w="3429000"/>
                <a:gridCol w="441972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inking across scale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strategic partners for interface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Influencing &amp; Strategic Catalyzing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, cross-section of participating actor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Outreach &amp; Support Function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 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4. Social learning</a:t>
            </a:r>
            <a:br>
              <a:rPr sz="3600"/>
            </a:b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and social differen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3300"/>
                </a:solidFill>
                <a:latin typeface="Arial"/>
              </a:rPr>
              <a:t>4. Social different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2914"/>
                </a:solidFill>
                <a:latin typeface="45 Helvetica Light"/>
              </a:rPr>
              <a:t>ACTIVITY 1 – Catalyzing Change from Within (2012 – 2013)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Lead: CCAFS Theme 4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Target Audience: CCAFS &amp; current project partners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Internal review of CCAFS/CG to look for opportunities to further social differentiation and developing strategy for augmenting this work through developing a social learning process. 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Use baseline work to analyze social differentiation, findings from PAR work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Linking social learning process to its annual Science Meeting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Create working group with CCAFS and experts on social learning and differentiation 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187200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(Social LSD)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676080" indent="-2599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2914"/>
                </a:solidFill>
                <a:latin typeface="45 Helvetica Light"/>
              </a:rPr>
              <a:t>ACTIVITY 2 – Facilitation (2012 – 2020)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2914"/>
                </a:solidFill>
                <a:latin typeface="45 Helvetica Light"/>
              </a:rPr>
              <a:t>Lead: Social LSD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Develop a dynamic network cutting across Social LSD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Identify ways to coordinate &amp; facilitate the process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Organize a working group to lead Activity 3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marL="312120" indent="-3121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Social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e2914"/>
                </a:solidFill>
                <a:latin typeface="45 Helvetica Light"/>
              </a:rPr>
              <a:t>ACTIVITY 3  - Global Action Research Agenda on Social LSD in CC,A, FS (2012-2013)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Audience: Climate change and food security community in CCAFS countries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(a) Phase 1 – Developing a research agenda (loop 1): Facilitate social learning process to devise research agenda. Phase 1 will help to provide evidence, identify partnership, better understanding, principles, rigorous methodology, and communities of practice. This will also include linking practioners with researchers. This process will: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Use crowd sourcing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Produce literature review on existing work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Conduct scoping process (activities at sub-national level) to help create a research framework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Generate a bucket of tools and approaches on to conduct research on social learning and differentiation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Develop a framework and principles on conducting social learning and differentiation, including action research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Fund initial proposals through a call on social learning and differentiation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(b) Phase 2 (loop 2): Research to action 2014-2020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Iterative process of learning as research underway – e.g. Online forum; Wiki; annual workshops; publication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Capacity development on methodology and approach within the CG system and beyond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Demonstrate the evidence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Move towards impact with partners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e2914"/>
                </a:solidFill>
                <a:latin typeface="45 Helvetica Light"/>
              </a:rPr>
              <a:t>Funding ballpark: 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Activity 1 &amp; 2: $50,000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Activity 3: $300,000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5. Time 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Why? 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Adaptive capacity will be limited if long-term changes are not considered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How?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 How do long term changes relate to the time horizons of different actors 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What?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 Long-term considerations should be addressed through short-term incentives of relevance and interest to stakeholders for their engagement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Theory of change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Example of a tool to enrich existing projects through social learning processes and make them more effective by connecting short-term relevance to longer term understanding of climate change and ability to adapt 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e2914"/>
                </a:solidFill>
                <a:latin typeface="45 Helvetica Light"/>
              </a:rPr>
              <a:t>Activities</a:t>
            </a:r>
            <a:endParaRPr b="0" lang="en-US" sz="4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2914"/>
                </a:solidFill>
                <a:latin typeface="45 Helvetica Light"/>
              </a:rPr>
              <a:t>Time horizons evaluation tool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2914"/>
                </a:solidFill>
                <a:latin typeface="45 Helvetica Light"/>
              </a:rPr>
              <a:t>): Commission research into time horizons building on state of the art (risk management, psychology, behavioural economics)</a:t>
            </a:r>
            <a:endParaRPr b="0" lang="en-US" sz="2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2914"/>
                </a:solidFill>
                <a:latin typeface="45 Helvetica Light"/>
              </a:rPr>
              <a:t>Motivations framework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2914"/>
                </a:solidFill>
                <a:latin typeface="45 Helvetica Light"/>
              </a:rPr>
              <a:t>Commission research building in short term motivations and goals. Applied at the project level with stakeholders learning from each other </a:t>
            </a:r>
            <a:endParaRPr b="0" lang="en-US" sz="2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2914"/>
                </a:solidFill>
                <a:latin typeface="45 Helvetica Light"/>
              </a:rPr>
              <a:t>Evaluating change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2914"/>
                </a:solidFill>
                <a:latin typeface="45 Helvetica Light"/>
              </a:rPr>
              <a:t>apply incentives and evaluate effectiveness in behaviour change over time</a:t>
            </a:r>
            <a:endParaRPr b="0" lang="en-US" sz="2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2914"/>
                </a:solidFill>
                <a:latin typeface="45 Helvetica Light"/>
              </a:rPr>
              <a:t>Anticipated outcomes</a:t>
            </a:r>
            <a:endParaRPr b="0" lang="en-US" sz="4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Projects better linked to stakeholder needs as well as short/medium term development objectives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Short term responses linked to long term adaptation understanding and behaviour change to improve adaptive capacity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2914"/>
                </a:solidFill>
                <a:latin typeface="45 Helvetica Light"/>
              </a:rPr>
              <a:t>What’s next?</a:t>
            </a: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2914"/>
                </a:solidFill>
                <a:latin typeface="45 Helvetica Light"/>
              </a:rPr>
              <a:t>Feedback from our visitors…</a:t>
            </a: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>
            <a:lum bright="-6000"/>
          </a:blip>
          <a:srcRect l="935" t="1705" r="1871" b="1209"/>
          <a:stretch/>
        </p:blipFill>
        <p:spPr>
          <a:xfrm>
            <a:off x="-257040" y="19080"/>
            <a:ext cx="10424880" cy="5713560"/>
          </a:xfrm>
          <a:prstGeom prst="rect">
            <a:avLst/>
          </a:prstGeom>
          <a:ln w="9360">
            <a:solidFill>
              <a:srgbClr val="202020"/>
            </a:solidFill>
            <a:miter/>
          </a:ln>
        </p:spPr>
      </p:pic>
      <p:sp>
        <p:nvSpPr>
          <p:cNvPr id="190" name="Oval 5"/>
          <p:cNvSpPr/>
          <p:nvPr/>
        </p:nvSpPr>
        <p:spPr>
          <a:xfrm rot="601200">
            <a:off x="194760" y="74520"/>
            <a:ext cx="8948880" cy="5585040"/>
          </a:xfrm>
          <a:prstGeom prst="ellipse">
            <a:avLst/>
          </a:prstGeom>
          <a:solidFill>
            <a:srgbClr val="e6debc">
              <a:alpha val="32000"/>
            </a:srgbClr>
          </a:solidFill>
          <a:ln w="6480">
            <a:solidFill>
              <a:srgbClr val="20202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7615080" y="2081160"/>
            <a:ext cx="1219320" cy="106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6319800" y="1471680"/>
            <a:ext cx="1295280" cy="114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3" name="Oval 8"/>
          <p:cNvSpPr/>
          <p:nvPr/>
        </p:nvSpPr>
        <p:spPr>
          <a:xfrm>
            <a:off x="4871880" y="1166760"/>
            <a:ext cx="1371600" cy="1206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4" name="Bent Arrow 9"/>
          <p:cNvSpPr/>
          <p:nvPr/>
        </p:nvSpPr>
        <p:spPr>
          <a:xfrm flipH="1" rot="10800000">
            <a:off x="2585880" y="2690280"/>
            <a:ext cx="2362320" cy="2514600"/>
          </a:xfrm>
          <a:custGeom>
            <a:avLst/>
            <a:gdLst/>
            <a:ahLst/>
            <a:rect l="l" t="t" r="r" b="b"/>
            <a:pathLst>
              <a:path w="2362200" h="2514600">
                <a:moveTo>
                  <a:pt x="0" y="2514600"/>
                </a:moveTo>
                <a:lnTo>
                  <a:pt x="0" y="1918780"/>
                </a:lnTo>
                <a:cubicBezTo>
                  <a:pt x="0" y="940325"/>
                  <a:pt x="793195" y="147130"/>
                  <a:pt x="1771650" y="147130"/>
                </a:cubicBezTo>
                <a:lnTo>
                  <a:pt x="1771650" y="147130"/>
                </a:lnTo>
                <a:lnTo>
                  <a:pt x="1771650" y="0"/>
                </a:lnTo>
                <a:lnTo>
                  <a:pt x="2362200" y="369094"/>
                </a:lnTo>
                <a:lnTo>
                  <a:pt x="1771650" y="738188"/>
                </a:lnTo>
                <a:lnTo>
                  <a:pt x="1771650" y="591058"/>
                </a:lnTo>
                <a:lnTo>
                  <a:pt x="1771650" y="591058"/>
                </a:lnTo>
                <a:cubicBezTo>
                  <a:pt x="1038369" y="591058"/>
                  <a:pt x="443928" y="1185499"/>
                  <a:pt x="443928" y="1918780"/>
                </a:cubicBezTo>
                <a:lnTo>
                  <a:pt x="443928" y="2514600"/>
                </a:lnTo>
                <a:lnTo>
                  <a:pt x="0" y="2514600"/>
                </a:lnTo>
                <a:close/>
              </a:path>
            </a:pathLst>
          </a:custGeom>
          <a:solidFill>
            <a:srgbClr val="ffff99"/>
          </a:solidFill>
          <a:ln w="19080">
            <a:solidFill>
              <a:srgbClr val="2020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cxnSp>
        <p:nvCxnSpPr>
          <p:cNvPr id="195" name="Straight Arrow Connector 10"/>
          <p:cNvCxnSpPr>
            <a:stCxn id="196" idx="0"/>
            <a:endCxn id="191" idx="3"/>
          </p:cNvCxnSpPr>
          <p:nvPr/>
        </p:nvCxnSpPr>
        <p:spPr>
          <a:xfrm flipV="1">
            <a:off x="6471000" y="2991960"/>
            <a:ext cx="1321200" cy="1146960"/>
          </a:xfrm>
          <a:prstGeom prst="straightConnector1">
            <a:avLst/>
          </a:prstGeom>
          <a:ln w="9360">
            <a:solidFill>
              <a:srgbClr val="202020"/>
            </a:solidFill>
            <a:miter/>
            <a:tailEnd len="med" type="arrow" w="med"/>
          </a:ln>
        </p:spPr>
      </p:cxnSp>
      <p:cxnSp>
        <p:nvCxnSpPr>
          <p:cNvPr id="197" name="Straight Arrow Connector 11"/>
          <p:cNvCxnSpPr/>
          <p:nvPr/>
        </p:nvCxnSpPr>
        <p:spPr>
          <a:xfrm flipV="1">
            <a:off x="6396120" y="2613960"/>
            <a:ext cx="457920" cy="1524600"/>
          </a:xfrm>
          <a:prstGeom prst="straightConnector1">
            <a:avLst/>
          </a:prstGeom>
          <a:ln w="9360">
            <a:solidFill>
              <a:srgbClr val="202020"/>
            </a:solidFill>
            <a:miter/>
            <a:tailEnd len="med" type="arrow" w="med"/>
          </a:ln>
        </p:spPr>
      </p:cxnSp>
      <p:cxnSp>
        <p:nvCxnSpPr>
          <p:cNvPr id="198" name="Straight Arrow Connector 12"/>
          <p:cNvCxnSpPr/>
          <p:nvPr/>
        </p:nvCxnSpPr>
        <p:spPr>
          <a:xfrm flipH="1" flipV="1">
            <a:off x="5758560" y="2347200"/>
            <a:ext cx="559800" cy="1855080"/>
          </a:xfrm>
          <a:prstGeom prst="straightConnector1">
            <a:avLst/>
          </a:prstGeom>
          <a:ln w="9360">
            <a:solidFill>
              <a:srgbClr val="202020"/>
            </a:solidFill>
            <a:miter/>
            <a:tailEnd len="med" type="arrow" w="med"/>
          </a:ln>
        </p:spPr>
      </p:cxnSp>
      <p:sp>
        <p:nvSpPr>
          <p:cNvPr id="196" name="Oval 13"/>
          <p:cNvSpPr/>
          <p:nvPr/>
        </p:nvSpPr>
        <p:spPr>
          <a:xfrm>
            <a:off x="5024520" y="4138560"/>
            <a:ext cx="2895480" cy="1295280"/>
          </a:xfrm>
          <a:prstGeom prst="ellipse">
            <a:avLst/>
          </a:prstGeom>
          <a:solidFill>
            <a:srgbClr val="3e2914"/>
          </a:solidFill>
          <a:ln w="255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2506680" y="227160"/>
            <a:ext cx="35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2020"/>
                </a:solidFill>
                <a:latin typeface="Arial"/>
                <a:ea typeface="Arial"/>
              </a:rPr>
              <a:t>Adapting Agriculture to</a:t>
            </a: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2020"/>
                </a:solidFill>
                <a:latin typeface="Arial"/>
                <a:ea typeface="Arial"/>
              </a:rPr>
              <a:t>Climate Variability and Change</a:t>
            </a: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0" name="Rounded Rectangle 15"/>
          <p:cNvSpPr/>
          <p:nvPr/>
        </p:nvSpPr>
        <p:spPr>
          <a:xfrm>
            <a:off x="833400" y="1027080"/>
            <a:ext cx="37339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1" name="TextBox 16"/>
          <p:cNvSpPr/>
          <p:nvPr/>
        </p:nvSpPr>
        <p:spPr>
          <a:xfrm>
            <a:off x="909720" y="1090440"/>
            <a:ext cx="36576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Technologies, practices, partnerships and policies for: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Adaptation to Progressive Climate Change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Adaptation through Managing Climate Risk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Pro-poor Climate Change Mitigation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2" name="Rounded Rectangle 17"/>
          <p:cNvSpPr/>
          <p:nvPr/>
        </p:nvSpPr>
        <p:spPr>
          <a:xfrm>
            <a:off x="1366920" y="2995560"/>
            <a:ext cx="3581280" cy="113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3" name="TextBox 39"/>
          <p:cNvSpPr/>
          <p:nvPr/>
        </p:nvSpPr>
        <p:spPr>
          <a:xfrm>
            <a:off x="4794120" y="1419120"/>
            <a:ext cx="152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Improved Environmental Health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4" name="TextBox 40"/>
          <p:cNvSpPr/>
          <p:nvPr/>
        </p:nvSpPr>
        <p:spPr>
          <a:xfrm>
            <a:off x="6319800" y="16477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Improved Rural Livelihoods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5" name="TextBox 41"/>
          <p:cNvSpPr/>
          <p:nvPr/>
        </p:nvSpPr>
        <p:spPr>
          <a:xfrm>
            <a:off x="7691400" y="2309760"/>
            <a:ext cx="10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Improved Food Security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6" name="TextBox 42"/>
          <p:cNvSpPr/>
          <p:nvPr/>
        </p:nvSpPr>
        <p:spPr>
          <a:xfrm>
            <a:off x="5175360" y="4386240"/>
            <a:ext cx="266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nhanced adaptive capacity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 agricultural, natural resource management, and food systems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7" name="Oval 22"/>
          <p:cNvSpPr/>
          <p:nvPr/>
        </p:nvSpPr>
        <p:spPr>
          <a:xfrm rot="796800">
            <a:off x="5380200" y="3153960"/>
            <a:ext cx="2814480" cy="593640"/>
          </a:xfrm>
          <a:prstGeom prst="ellipse">
            <a:avLst/>
          </a:prstGeom>
          <a:solidFill>
            <a:srgbClr val="ceeab0"/>
          </a:solidFill>
          <a:ln w="6480">
            <a:solidFill>
              <a:srgbClr val="20202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8" name="TextBox 44"/>
          <p:cNvSpPr/>
          <p:nvPr/>
        </p:nvSpPr>
        <p:spPr>
          <a:xfrm rot="767400">
            <a:off x="5661000" y="3306240"/>
            <a:ext cx="218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Trade-offs and Synergies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9" name="TextBox 24"/>
          <p:cNvSpPr/>
          <p:nvPr/>
        </p:nvSpPr>
        <p:spPr>
          <a:xfrm>
            <a:off x="1442880" y="2995560"/>
            <a:ext cx="35053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4. Integration for Decision Making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e2914"/>
                </a:solidFill>
                <a:latin typeface="Arial"/>
                <a:ea typeface="Arial"/>
              </a:rPr>
              <a:t>Linking Knowledge with Action</a:t>
            </a:r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e2914"/>
                </a:solidFill>
                <a:latin typeface="Arial"/>
                <a:ea typeface="Arial"/>
              </a:rPr>
              <a:t>Assembling Data and Tools for Analysis and Planning</a:t>
            </a:r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e2914"/>
                </a:solidFill>
                <a:latin typeface="Arial"/>
                <a:ea typeface="Arial"/>
              </a:rPr>
              <a:t>Refining Frameworks for Policy Analysis</a:t>
            </a:r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3300"/>
                </a:solidFill>
                <a:latin typeface="Arial"/>
              </a:rPr>
              <a:t>Th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42560" y="981000"/>
            <a:ext cx="77151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Review and analysis of existing approaches to social learning on climate change in the global South to identify gaps, good practices and opportunities for CCAFS.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Concluded with a discussion paper to initiate discussion here.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Bringing together people with skills in this area to share experience, views, and possibilities for partnership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Identify gaps and research priorities and proposed actions to guide CCAFS engagement in this area alongside partners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32400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3300"/>
                </a:solidFill>
                <a:latin typeface="Arial"/>
              </a:rPr>
              <a:t>The workshop</a:t>
            </a:r>
            <a:endParaRPr b="0" lang="en-US" sz="4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3300"/>
                </a:solidFill>
                <a:latin typeface="Arial"/>
              </a:rPr>
              <a:t>Communication and Social Learning for Climate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9480" y="1700280"/>
            <a:ext cx="784872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e2914"/>
                </a:solidFill>
                <a:latin typeface="45 Helvetica Light"/>
              </a:rPr>
              <a:t>Communication and learning – from linear to “looped” approaches</a:t>
            </a:r>
            <a:endParaRPr b="0" lang="en-US" sz="3000" spc="-1" strike="noStrike">
              <a:solidFill>
                <a:srgbClr val="3e2914"/>
              </a:solidFill>
              <a:latin typeface="45 Helvetica Light"/>
            </a:endParaRPr>
          </a:p>
          <a:p>
            <a:pPr marL="332640" indent="-332640">
              <a:spcBef>
                <a:spcPts val="75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e2914"/>
                </a:solidFill>
                <a:latin typeface="45 Helvetica Light"/>
              </a:rPr>
              <a:t>Social learning:  Facilitating sharing information, knowledge and experience between stakeholders for new collective learning and knowledge.</a:t>
            </a:r>
            <a:endParaRPr b="0" lang="en-US" sz="3000" spc="-1" strike="noStrike">
              <a:solidFill>
                <a:srgbClr val="3e2914"/>
              </a:solidFill>
              <a:latin typeface="45 Helvetica Light"/>
            </a:endParaRPr>
          </a:p>
          <a:p>
            <a:pPr marL="332640" indent="-332640">
              <a:spcBef>
                <a:spcPts val="75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e2914"/>
                </a:solidFill>
                <a:latin typeface="45 Helvetica Light"/>
              </a:rPr>
              <a:t>Relevance to the climate challenge:</a:t>
            </a:r>
            <a:endParaRPr b="0" lang="en-US" sz="30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20720" indent="-277200">
              <a:spcBef>
                <a:spcPts val="64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e2914"/>
                </a:solidFill>
                <a:latin typeface="45 Helvetica Light"/>
              </a:rPr>
              <a:t>Complexity; Uncertainty; Limited information; Access divides; Different timescales</a:t>
            </a:r>
            <a:endParaRPr b="0" lang="en-US" sz="2600" spc="-1" strike="noStrike">
              <a:solidFill>
                <a:srgbClr val="3e2914"/>
              </a:solidFill>
              <a:latin typeface="45 Helvetica Light"/>
            </a:endParaRPr>
          </a:p>
          <a:p>
            <a:pPr marL="332640" indent="-332640">
              <a:spcBef>
                <a:spcPts val="64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alibri"/>
                <a:ea typeface="Calibri"/>
              </a:rPr>
              <a:t>CCAFS as a part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10920" y="148428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Long-term program and new set-up / new research space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CCAFS as a testbed for new approaches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Global brand to help leverage funding 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Access to CGIAR expertise: research, tools, models, impact assessment, agriculture focus, …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Increasing access to ESSP expertise: climate science, global change community, food systems focus, …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Global reach of CGIAR: scalability, regions, comparability, partners &amp; linkages, facilities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CGIAR commitment to producing international public goods, science-based evidence, …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alibri"/>
                <a:ea typeface="Calibri"/>
              </a:rPr>
              <a:t>5 areas of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10920" y="148428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Documentation and testing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Social learning in CCAFS/ the CG systesm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Endogenous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Social differentiation and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Timescales to embed in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663300"/>
                </a:solidFill>
                <a:latin typeface="Arial"/>
              </a:rPr>
              <a:t>1. Documentation and testing of social lear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4360" y="3789360"/>
          <a:ext cx="7920000" cy="2727360"/>
        </p:xfrm>
        <a:graphic>
          <a:graphicData uri="http://schemas.openxmlformats.org/drawingml/2006/table">
            <a:tbl>
              <a:tblPr/>
              <a:tblGrid>
                <a:gridCol w="1295280"/>
                <a:gridCol w="3384360"/>
                <a:gridCol w="3240360"/>
              </a:tblGrid>
              <a:tr h="930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Inventory, selection of case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USP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specific criteria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Selection of participants, and invita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and involve “owners”, researchers, “champions”, keeping in mind social differentiation and representativenes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84360" y="1557360"/>
          <a:ext cx="7991280" cy="180036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e / test social learning as a tool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 researchers and policy community (and convince them) on the basis of evidence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 the practice itself – further developing the learning proces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684360" y="549360"/>
          <a:ext cx="7920000" cy="3992400"/>
        </p:xfrm>
        <a:graphic>
          <a:graphicData uri="http://schemas.openxmlformats.org/drawingml/2006/table">
            <a:tbl>
              <a:tblPr/>
              <a:tblGrid>
                <a:gridCol w="1366560"/>
                <a:gridCol w="1800360"/>
                <a:gridCol w="4753080"/>
              </a:tblGrid>
              <a:tr h="775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Descrip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xt, Baseline, Activities, Process, Results, Outputs, Outcome : Has SL reached its goal?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Analysis (testing)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categories (Knowledge, Attitudes, Skills, Practice)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 focus: Mechanism of causality and attribu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: Analytical frameworks, selection of indicator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Writing, sharing, dissemina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levels: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nts of the proces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CCAFS 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ide world”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684360" y="4941720"/>
          <a:ext cx="7991280" cy="144000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or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eople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“owners” of each case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Arial"/>
                <a:ea typeface="Arial"/>
              </a:rPr>
              <a:t>2. </a:t>
            </a:r>
            <a:r>
              <a:rPr b="0" i="1" lang="en-US" sz="3100" spc="-1" strike="noStrike">
                <a:solidFill>
                  <a:srgbClr val="663300"/>
                </a:solidFill>
                <a:latin typeface="Arial"/>
                <a:ea typeface="Arial"/>
              </a:rPr>
              <a:t>Social Learning is validated within CCAFS as a mainstream method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50760" bIns="50760" anchor="t">
            <a:normAutofit/>
          </a:bodyPr>
          <a:p>
            <a:pPr lvl="1" marL="281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3e2914"/>
                </a:solidFill>
                <a:latin typeface="Arial"/>
                <a:ea typeface="Arial"/>
              </a:rPr>
              <a:t>Indicators</a:t>
            </a:r>
            <a:endParaRPr b="0" lang="en-US" sz="27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281160">
              <a:spcBef>
                <a:spcPts val="7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45 Helvetica Light"/>
              </a:rPr>
              <a:t>Significant percentage of CG funded proposals that include SL explicitly as a central part, by 2020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281160">
              <a:spcBef>
                <a:spcPts val="7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45 Helvetica Light"/>
              </a:rPr>
              <a:t>Dynamic basket of artifacts with shared attribution/use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281160">
              <a:spcBef>
                <a:spcPts val="7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45 Helvetica Light"/>
              </a:rPr>
              <a:t>A porous CGIAR and partners’ network with two-way learning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5:13:43Z</dcterms:created>
  <dc:creator>Ann-Sophie Neuchs Smed</dc:creator>
  <dc:description/>
  <dc:language>en-US</dc:language>
  <cp:lastModifiedBy>eleborgne</cp:lastModifiedBy>
  <dcterms:modified xsi:type="dcterms:W3CDTF">2012-05-10T11:33:12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Type">
    <vt:lpwstr>Agenda</vt:lpwstr>
  </property>
  <property fmtid="{D5CDD505-2E9C-101B-9397-08002B2CF9AE}" pid="3" name="TemplateUrl">
    <vt:lpwstr/>
  </property>
  <property fmtid="{D5CDD505-2E9C-101B-9397-08002B2CF9AE}" pid="4" name="_dlc_DocId">
    <vt:lpwstr>D3D2VP4PYXC5-6-110</vt:lpwstr>
  </property>
  <property fmtid="{D5CDD505-2E9C-101B-9397-08002B2CF9AE}" pid="5" name="_dlc_DocIdItemGuid">
    <vt:lpwstr>1b9dc0f8-76d6-4893-bece-b1b6f1ac88d5</vt:lpwstr>
  </property>
  <property fmtid="{D5CDD505-2E9C-101B-9397-08002B2CF9AE}" pid="6" name="_dlc_DocIdUrl">
    <vt:lpwstr>http://intranet.ccafs.cgiar.org/_layouts/DocIdRedir.aspx?ID=D3D2VP4PYXC5-6-110, D3D2VP4PYXC5-6-110</vt:lpwstr>
  </property>
  <property fmtid="{D5CDD505-2E9C-101B-9397-08002B2CF9AE}" pid="7" name="display_urn:schemas-microsoft-com:office:office#Author">
    <vt:lpwstr>Jordan, Tania (CGIAR)</vt:lpwstr>
  </property>
  <property fmtid="{D5CDD505-2E9C-101B-9397-08002B2CF9AE}" pid="8" name="display_urn:schemas-microsoft-com:office:office#Editor">
    <vt:lpwstr>Jordan, Tania (CGIAR)</vt:lpwstr>
  </property>
  <property fmtid="{D5CDD505-2E9C-101B-9397-08002B2CF9AE}" pid="9" name="xd_ProgID">
    <vt:lpwstr/>
  </property>
</Properties>
</file>