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D6698-2290-4D59-965D-4BF42C66B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713BF-50BA-45D5-9349-691FBED3A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076D-F460-47ED-B9C7-7CF12774E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84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3693600"/>
            <a:ext cx="784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645E-2049-491D-888F-35806E338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140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AB7B-7A97-41ED-9001-C58B9DA43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3400" y="106668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17320" y="106668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369360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3400" y="369360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17320" y="369360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6B2B-D6D8-4B12-A034-B1F590E85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DDCC6-4359-4423-BA7E-75FF8B59F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09480" y="10666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8C1E8-2820-40DD-BB33-79634B475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7D134-20EB-4F54-AE54-27512D1A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8EC11-22DE-435E-8971-DAD0F97CB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4DB1B-2CBD-48B5-ACD6-37E052B72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F42A9-D7DB-408B-8E75-DBCE019AB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AC3BF-6D0F-418A-B9FE-37E06587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0666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7107-D033-43A5-BCD8-60C6D9C10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3140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CF1F7-B63D-4020-AC2E-3BE25E5B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693600"/>
            <a:ext cx="784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3F2AE-ED1E-4259-B5E4-6280C54E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84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09480" y="3693600"/>
            <a:ext cx="784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CFAE5-6655-4F96-ABC0-FE2FA326E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948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3140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44F10-F6A1-4338-AAF3-51764BB61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63400" y="106668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17320" y="106668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09480" y="369360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63400" y="369360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17320" y="369360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DB32C-225F-4BDF-BC6A-2FAFAD277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34E74-E27C-4A6A-9881-DDC7A3526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09480" y="10666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382C0-3196-49DF-9EC2-47EB9D11D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CFC1D-3531-4755-BA35-9EFDE9CDF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749EF-BACB-4791-AFBF-38C393FB7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896AE-85B6-4095-B135-85E41F1D7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5C9D-4929-4A1C-9279-EA561F02B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6FE0C-7AB9-49E0-A0A4-B95F9A3DC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948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3D993-8F32-4D13-B4BC-F9795318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3140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12D6C-9F58-4168-A639-E97BBA9F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9480" y="3693600"/>
            <a:ext cx="784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F319B-6DBE-48D7-B7B5-C10B63A1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84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09480" y="3693600"/>
            <a:ext cx="784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8E8D6-DEF1-46B2-9417-57F85A8AB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948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3140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98501-1F00-4A00-AA29-5DC58BCB3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63400" y="106668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17320" y="106668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09480" y="369360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63400" y="369360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917320" y="369360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62CB2-570E-49CE-9294-8234CEE0C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3A254-2E96-44D1-BB6F-B75C9C3E3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609480" y="10666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327AB-4E56-47A6-A6A6-1430A7A2A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B9A24-C907-4F4A-A0A7-8A83A9264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043C-F5C7-409E-82EE-721B5A0B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5C9CC-2075-4545-8291-A1065356E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5E6F1-6983-4440-9B38-17B9CD9E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65E6C-4C51-4F7F-B6AA-8D113C006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948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1C725-7273-461B-A804-93FC0C15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3140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7BB96-B079-4CD1-95CD-5531E453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9480" y="3693600"/>
            <a:ext cx="784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DD041-7683-4699-A2D7-18197ED9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84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09480" y="3693600"/>
            <a:ext cx="784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538E0-6798-485E-B6F1-C0E40D446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948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3140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8C506-DF68-4ED1-BEAA-AE7575508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63400" y="106668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917320" y="106668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609480" y="369360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63400" y="369360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5917320" y="369360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95906-1176-4A3C-AAC1-FE18D0D89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87F8-7964-41AB-BF3F-D5A688887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4759-7B09-460B-BD62-7E8E9B02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4B32-6A5B-4DC0-9385-6FC1159B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140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0889-501C-4A45-9109-6A8E72A1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693600"/>
            <a:ext cx="784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03CD-CDCD-4702-A3C2-E5AC9CF2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09480" y="10666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Click to edit the outline text format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743040" indent="-285840">
              <a:spcBef>
                <a:spcPts val="799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Second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143000" indent="-228600">
              <a:spcBef>
                <a:spcPts val="799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Third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spcBef>
                <a:spcPts val="799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Four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4" marL="2057400" indent="-228600">
              <a:spcBef>
                <a:spcPts val="799"/>
              </a:spcBef>
              <a:buClr>
                <a:srgbClr val="3e2914"/>
              </a:buClr>
              <a:buFont typeface="45 Helvetica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Fif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45 Helvetica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Six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45 Helvetica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Seven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65D77-0AEB-40A2-8828-E2B43718E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7" descr="BUNDSTRIBE"/>
          <p:cNvPicPr/>
          <p:nvPr/>
        </p:nvPicPr>
        <p:blipFill>
          <a:blip r:embed="rId2"/>
          <a:stretch/>
        </p:blipFill>
        <p:spPr>
          <a:xfrm>
            <a:off x="0" y="5710320"/>
            <a:ext cx="9144000" cy="1147680"/>
          </a:xfrm>
          <a:prstGeom prst="rect">
            <a:avLst/>
          </a:prstGeom>
          <a:ln w="0">
            <a:noFill/>
          </a:ln>
        </p:spPr>
      </p:pic>
      <p:pic>
        <p:nvPicPr>
          <p:cNvPr id="5" name="Picture 8" descr="HJOERNELOGO"/>
          <p:cNvPicPr/>
          <p:nvPr/>
        </p:nvPicPr>
        <p:blipFill>
          <a:blip r:embed="rId3"/>
          <a:stretch/>
        </p:blipFill>
        <p:spPr>
          <a:xfrm>
            <a:off x="7211880" y="76320"/>
            <a:ext cx="1779840" cy="8604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9"/>
          <p:cNvSpPr/>
          <p:nvPr/>
        </p:nvSpPr>
        <p:spPr>
          <a:xfrm>
            <a:off x="584280" y="106200"/>
            <a:ext cx="48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228600" y="203040"/>
            <a:ext cx="1523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28FF1-38C1-4709-AF52-8A7A9F20BDA5}" type="slidenum">
              <a:rPr b="0" lang="en-US" sz="1200" spc="-1" strike="noStrike">
                <a:solidFill>
                  <a:srgbClr val="3e2914"/>
                </a:solidFill>
                <a:latin typeface="45 Helvetica Light"/>
              </a:rPr>
              <a:t>&lt;number&gt;</a:t>
            </a:fld>
            <a:r>
              <a:rPr b="0" lang="en-US" sz="1200" spc="-1" strike="noStrike">
                <a:solidFill>
                  <a:srgbClr val="3e2914"/>
                </a:solidFill>
                <a:latin typeface="45 Helvetica Light"/>
              </a:rPr>
              <a:t> </a:t>
            </a:r>
            <a:r>
              <a:rPr b="0" lang="en-US" sz="800" spc="-1" strike="noStrike">
                <a:solidFill>
                  <a:srgbClr val="3e2914"/>
                </a:solidFill>
                <a:latin typeface="45 Helvetica Light"/>
              </a:rPr>
              <a:t>• </a:t>
            </a:r>
            <a:r>
              <a:rPr b="0" lang="da-DK" sz="800" spc="-1" strike="noStrike">
                <a:solidFill>
                  <a:srgbClr val="3e2914"/>
                </a:solidFill>
                <a:latin typeface="45 Helvetica Light"/>
              </a:rPr>
              <a:t>05/08/12</a:t>
            </a:r>
            <a:endParaRPr b="0" lang="en-US" sz="8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8" descr="LOGOBAELTE"/>
          <p:cNvPicPr/>
          <p:nvPr/>
        </p:nvPicPr>
        <p:blipFill>
          <a:blip r:embed="rId2"/>
          <a:stretch/>
        </p:blipFill>
        <p:spPr>
          <a:xfrm>
            <a:off x="0" y="304920"/>
            <a:ext cx="9144000" cy="35812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9"/>
          <p:cNvSpPr/>
          <p:nvPr/>
        </p:nvSpPr>
        <p:spPr>
          <a:xfrm>
            <a:off x="457200" y="15228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4192560" y="-12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pic>
        <p:nvPicPr>
          <p:cNvPr id="47" name="Picture 12" descr="LIFE"/>
          <p:cNvPicPr/>
          <p:nvPr/>
        </p:nvPicPr>
        <p:blipFill>
          <a:blip r:embed="rId3"/>
          <a:stretch/>
        </p:blipFill>
        <p:spPr>
          <a:xfrm>
            <a:off x="3352680" y="5754600"/>
            <a:ext cx="1143000" cy="1103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CGIAR"/>
          <p:cNvPicPr/>
          <p:nvPr/>
        </p:nvPicPr>
        <p:blipFill>
          <a:blip r:embed="rId4"/>
          <a:stretch/>
        </p:blipFill>
        <p:spPr>
          <a:xfrm>
            <a:off x="76320" y="5754600"/>
            <a:ext cx="793800" cy="1017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CIAT"/>
          <p:cNvPicPr/>
          <p:nvPr/>
        </p:nvPicPr>
        <p:blipFill>
          <a:blip r:embed="rId5"/>
          <a:stretch/>
        </p:blipFill>
        <p:spPr>
          <a:xfrm>
            <a:off x="2057400" y="5830920"/>
            <a:ext cx="1066680" cy="928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" descr="ESSP"/>
          <p:cNvPicPr/>
          <p:nvPr/>
        </p:nvPicPr>
        <p:blipFill>
          <a:blip r:embed="rId6"/>
          <a:stretch/>
        </p:blipFill>
        <p:spPr>
          <a:xfrm>
            <a:off x="990720" y="5754600"/>
            <a:ext cx="904680" cy="10177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6"/>
          <p:cNvSpPr/>
          <p:nvPr/>
        </p:nvSpPr>
        <p:spPr>
          <a:xfrm>
            <a:off x="3292560" y="60480"/>
            <a:ext cx="188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e2914"/>
                </a:solidFill>
                <a:latin typeface="Helvetica 45 Light"/>
              </a:rPr>
              <a:t>Addis Ababa, 8-10 May, 2012</a:t>
            </a:r>
            <a:endParaRPr b="0" lang="en-US" sz="10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1295280" y="4038480"/>
            <a:ext cx="6497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2914"/>
                </a:solidFill>
                <a:latin typeface="Helvetica 45 Light"/>
              </a:rPr>
              <a:t>Communication and social learning: supporting local decision making on climate change, agriculture and food security</a:t>
            </a:r>
            <a:endParaRPr b="0" lang="en-US" sz="2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609480" y="10666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Click to edit the outline text format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743040" indent="-285840">
              <a:spcBef>
                <a:spcPts val="799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Second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143000" indent="-228600">
              <a:spcBef>
                <a:spcPts val="799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Third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spcBef>
                <a:spcPts val="799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Four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4" marL="2057400" indent="-228600">
              <a:spcBef>
                <a:spcPts val="799"/>
              </a:spcBef>
              <a:buClr>
                <a:srgbClr val="3e2914"/>
              </a:buClr>
              <a:buFont typeface="45 Helvetica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Fif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45 Helvetica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Six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45 Helvetica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Seven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0849C-BF5D-43F0-880C-348029E61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7" descr="BUNDSTRIBE"/>
          <p:cNvPicPr/>
          <p:nvPr/>
        </p:nvPicPr>
        <p:blipFill>
          <a:blip r:embed="rId2"/>
          <a:stretch/>
        </p:blipFill>
        <p:spPr>
          <a:xfrm>
            <a:off x="0" y="5710320"/>
            <a:ext cx="9144000" cy="1147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HJOERNELOGO"/>
          <p:cNvPicPr/>
          <p:nvPr/>
        </p:nvPicPr>
        <p:blipFill>
          <a:blip r:embed="rId3"/>
          <a:stretch/>
        </p:blipFill>
        <p:spPr>
          <a:xfrm>
            <a:off x="7211880" y="76320"/>
            <a:ext cx="1779840" cy="8604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9"/>
          <p:cNvSpPr/>
          <p:nvPr/>
        </p:nvSpPr>
        <p:spPr>
          <a:xfrm>
            <a:off x="584280" y="106200"/>
            <a:ext cx="48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228600" y="203040"/>
            <a:ext cx="1523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FD755-2464-40B0-A6E5-CDD65332884A}" type="slidenum">
              <a:rPr b="0" lang="en-US" sz="1200" spc="-1" strike="noStrike">
                <a:solidFill>
                  <a:srgbClr val="3e2914"/>
                </a:solidFill>
                <a:latin typeface="45 Helvetica Light"/>
              </a:rPr>
              <a:t>&lt;number&gt;</a:t>
            </a:fld>
            <a:r>
              <a:rPr b="0" lang="en-US" sz="1200" spc="-1" strike="noStrike">
                <a:solidFill>
                  <a:srgbClr val="3e2914"/>
                </a:solidFill>
                <a:latin typeface="45 Helvetica Light"/>
              </a:rPr>
              <a:t> </a:t>
            </a:r>
            <a:r>
              <a:rPr b="0" lang="en-US" sz="800" spc="-1" strike="noStrike">
                <a:solidFill>
                  <a:srgbClr val="3e2914"/>
                </a:solidFill>
                <a:latin typeface="45 Helvetica Light"/>
              </a:rPr>
              <a:t>• </a:t>
            </a:r>
            <a:r>
              <a:rPr b="0" lang="da-DK" sz="800" spc="-1" strike="noStrike">
                <a:solidFill>
                  <a:srgbClr val="3e2914"/>
                </a:solidFill>
                <a:latin typeface="45 Helvetica Light"/>
              </a:rPr>
              <a:t>05/08/12</a:t>
            </a:r>
            <a:endParaRPr b="0" lang="en-US" sz="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609480" y="10666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Click to edit the outline text format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743040" indent="-285840">
              <a:spcBef>
                <a:spcPts val="799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Second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143000" indent="-228600">
              <a:spcBef>
                <a:spcPts val="799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Third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spcBef>
                <a:spcPts val="799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Four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4" marL="2057400" indent="-228600">
              <a:spcBef>
                <a:spcPts val="799"/>
              </a:spcBef>
              <a:buClr>
                <a:srgbClr val="3e2914"/>
              </a:buClr>
              <a:buFont typeface="45 Helvetica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Fif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45 Helvetica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Six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45 Helvetica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Seven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C6078-3268-4346-8625-F3D50759B97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7" descr="BUNDSTRIBE"/>
          <p:cNvPicPr/>
          <p:nvPr/>
        </p:nvPicPr>
        <p:blipFill>
          <a:blip r:embed="rId2"/>
          <a:stretch/>
        </p:blipFill>
        <p:spPr>
          <a:xfrm>
            <a:off x="0" y="5710320"/>
            <a:ext cx="9144000" cy="1147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HJOERNELOGO"/>
          <p:cNvPicPr/>
          <p:nvPr/>
        </p:nvPicPr>
        <p:blipFill>
          <a:blip r:embed="rId3"/>
          <a:stretch/>
        </p:blipFill>
        <p:spPr>
          <a:xfrm>
            <a:off x="7211880" y="76320"/>
            <a:ext cx="1779840" cy="8604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9"/>
          <p:cNvSpPr/>
          <p:nvPr/>
        </p:nvSpPr>
        <p:spPr>
          <a:xfrm>
            <a:off x="584280" y="106200"/>
            <a:ext cx="48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228600" y="203040"/>
            <a:ext cx="1523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CF782-CB3B-4083-8ACE-241657FDDAF2}" type="slidenum">
              <a:rPr b="0" lang="en-US" sz="1200" spc="-1" strike="noStrike">
                <a:solidFill>
                  <a:srgbClr val="3e2914"/>
                </a:solidFill>
                <a:latin typeface="45 Helvetica Light"/>
              </a:rPr>
              <a:t>&lt;number&gt;</a:t>
            </a:fld>
            <a:r>
              <a:rPr b="0" lang="en-US" sz="1200" spc="-1" strike="noStrike">
                <a:solidFill>
                  <a:srgbClr val="3e2914"/>
                </a:solidFill>
                <a:latin typeface="45 Helvetica Light"/>
              </a:rPr>
              <a:t> </a:t>
            </a:r>
            <a:r>
              <a:rPr b="0" lang="en-US" sz="800" spc="-1" strike="noStrike">
                <a:solidFill>
                  <a:srgbClr val="3e2914"/>
                </a:solidFill>
                <a:latin typeface="45 Helvetica Light"/>
              </a:rPr>
              <a:t>• </a:t>
            </a:r>
            <a:r>
              <a:rPr b="0" lang="da-DK" sz="800" spc="-1" strike="noStrike">
                <a:solidFill>
                  <a:srgbClr val="3e2914"/>
                </a:solidFill>
                <a:latin typeface="45 Helvetica Light"/>
              </a:rPr>
              <a:t>05/08/12</a:t>
            </a:r>
            <a:endParaRPr b="0" lang="en-US" sz="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609480" y="10666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Click to edit the outline text format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743040" indent="-285840">
              <a:spcBef>
                <a:spcPts val="799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Second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143000" indent="-228600">
              <a:spcBef>
                <a:spcPts val="799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Third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spcBef>
                <a:spcPts val="799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Four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4" marL="2057400" indent="-228600">
              <a:spcBef>
                <a:spcPts val="799"/>
              </a:spcBef>
              <a:buClr>
                <a:srgbClr val="3e2914"/>
              </a:buClr>
              <a:buFont typeface="45 Helvetica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Fif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45 Helvetica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Six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45 Helvetica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Seven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1EBA6-C158-46EE-8BA0-2F9660C53E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5"/>
          <p:cNvSpPr/>
          <p:nvPr/>
        </p:nvSpPr>
        <p:spPr>
          <a:xfrm>
            <a:off x="6257880" y="4595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63300"/>
                </a:solidFill>
                <a:latin typeface="Arial"/>
              </a:rPr>
              <a:t>Activitie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17936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64960" indent="-264960">
              <a:spcBef>
                <a:spcPts val="425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A dynamic Basket of Good Practices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23360" indent="-264960">
              <a:spcBef>
                <a:spcPts val="425"/>
              </a:spcBef>
              <a:buClr>
                <a:srgbClr val="3e291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2914"/>
                </a:solidFill>
                <a:latin typeface="45 Helvetica Light"/>
              </a:rPr>
              <a:t>Design, piloting &amp; launch of a basket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23360" indent="-264960">
              <a:spcBef>
                <a:spcPts val="425"/>
              </a:spcBef>
              <a:buClr>
                <a:srgbClr val="3e291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2914"/>
                </a:solidFill>
                <a:latin typeface="45 Helvetica Light"/>
              </a:rPr>
              <a:t>Innovation fund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23360" indent="-264960">
              <a:spcBef>
                <a:spcPts val="425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23360" indent="-264960">
              <a:spcBef>
                <a:spcPts val="425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2914"/>
                </a:solidFill>
                <a:latin typeface="45 Helvetica Light"/>
              </a:rPr>
              <a:t>Enabling environment…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23360" indent="-264960">
              <a:spcBef>
                <a:spcPts val="425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marL="264960" indent="-264960">
              <a:spcBef>
                <a:spcPts val="425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Catalysing Social Learning across CCAFS network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23360" indent="-264960">
              <a:spcBef>
                <a:spcPts val="425"/>
              </a:spcBef>
              <a:buClr>
                <a:srgbClr val="3e291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2914"/>
                </a:solidFill>
                <a:latin typeface="45 Helvetica Light"/>
              </a:rPr>
              <a:t>Facilitating the emergence of a Community of practice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23360" indent="-264960">
              <a:spcBef>
                <a:spcPts val="425"/>
              </a:spcBef>
              <a:buClr>
                <a:srgbClr val="3e291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2914"/>
                </a:solidFill>
                <a:latin typeface="45 Helvetica Light"/>
              </a:rPr>
              <a:t>Advisory group &amp; </a:t>
            </a:r>
            <a:r>
              <a:rPr b="0" lang="en-GB" sz="2200" spc="-1" strike="noStrike">
                <a:solidFill>
                  <a:srgbClr val="3e2914"/>
                </a:solidFill>
                <a:latin typeface="45 Helvetica Light"/>
              </a:rPr>
              <a:t>Coaching Panel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23360" indent="-264960">
              <a:spcBef>
                <a:spcPts val="425"/>
              </a:spcBef>
              <a:buClr>
                <a:srgbClr val="3e291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e2914"/>
                </a:solidFill>
                <a:latin typeface="45 Helvetica Light"/>
              </a:rPr>
              <a:t>Training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23360" indent="-264960">
              <a:spcBef>
                <a:spcPts val="425"/>
              </a:spcBef>
              <a:buClr>
                <a:srgbClr val="3e291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e2914"/>
                </a:solidFill>
                <a:latin typeface="45 Helvetica Light"/>
              </a:rPr>
              <a:t>Awareness Raising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23360" indent="-264960">
              <a:spcBef>
                <a:spcPts val="425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23360" indent="-264960">
              <a:spcBef>
                <a:spcPts val="425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23360" indent="-264960">
              <a:spcBef>
                <a:spcPts val="425"/>
              </a:spcBef>
              <a:buClr>
                <a:srgbClr val="3e29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2914"/>
              </a:solidFill>
              <a:latin typeface="45 Helvetica Light"/>
            </a:endParaRPr>
          </a:p>
          <a:p>
            <a:pPr marL="264960" indent="-264960">
              <a:spcBef>
                <a:spcPts val="425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 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63300"/>
                </a:solidFill>
                <a:latin typeface="Arial"/>
              </a:rPr>
              <a:t>3. Supporting endogenous social learning for enhanced food secur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3" descr="&#9;photo.jpg                                                      00000002&#9;ERIC - HP                      00000000:"/>
          <p:cNvPicPr/>
          <p:nvPr/>
        </p:nvPicPr>
        <p:blipFill>
          <a:blip r:embed="rId1"/>
          <a:stretch/>
        </p:blipFill>
        <p:spPr>
          <a:xfrm>
            <a:off x="838080" y="1650960"/>
            <a:ext cx="723924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"/>
          <p:cNvGraphicFramePr/>
          <p:nvPr/>
        </p:nvGraphicFramePr>
        <p:xfrm>
          <a:off x="304920" y="533520"/>
          <a:ext cx="8534160" cy="6100560"/>
        </p:xfrm>
        <a:graphic>
          <a:graphicData uri="http://schemas.openxmlformats.org/drawingml/2006/table">
            <a:tbl>
              <a:tblPr/>
              <a:tblGrid>
                <a:gridCol w="3886200"/>
                <a:gridCol w="4647960"/>
              </a:tblGrid>
              <a:tr h="61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vity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o’s involved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12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Opportunity Assessment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an regions; select criteria; mapping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partners (AA, USAID, ALIN)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Learning and Evaluative Framework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external experts |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ners knowledge interface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Joint Needs Assessment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partners | facilitators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9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Analysis</a:t>
                      </a:r>
                      <a:endParaRPr b="0" lang="en-US" sz="2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cumentation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partners 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vidual &amp; comparative analyses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experts | partners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-evaluation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experts | partners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609480" y="1295280"/>
          <a:ext cx="7848720" cy="3438720"/>
        </p:xfrm>
        <a:graphic>
          <a:graphicData uri="http://schemas.openxmlformats.org/drawingml/2006/table">
            <a:tbl>
              <a:tblPr/>
              <a:tblGrid>
                <a:gridCol w="3429000"/>
                <a:gridCol w="4419720"/>
              </a:tblGrid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vity</a:t>
                      </a:r>
                      <a:endParaRPr b="0" lang="en-US" sz="2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o’s involved</a:t>
                      </a:r>
                      <a:endParaRPr b="0" lang="en-US" sz="2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Linking across scales</a:t>
                      </a:r>
                      <a:endParaRPr b="0" lang="en-US" sz="2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partners | strategic partners for interface</a:t>
                      </a:r>
                      <a:endParaRPr b="0" lang="en-US" sz="2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Influencing &amp; Strategic Catalyzing</a:t>
                      </a:r>
                      <a:endParaRPr b="0" lang="en-US" sz="2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, partners, cross-section of participating actors</a:t>
                      </a:r>
                      <a:endParaRPr b="0" lang="en-US" sz="2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Outreach &amp; Support Functions</a:t>
                      </a:r>
                      <a:endParaRPr b="0" lang="en-US" sz="2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, partners </a:t>
                      </a:r>
                      <a:endParaRPr b="0" lang="en-US" sz="2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299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63300"/>
                </a:solidFill>
                <a:latin typeface="Arial"/>
              </a:rPr>
              <a:t>4. Social learning</a:t>
            </a:r>
            <a:br>
              <a:rPr sz="3600"/>
            </a:br>
            <a:r>
              <a:rPr b="0" i="1" lang="en-US" sz="3600" spc="-1" strike="noStrike">
                <a:solidFill>
                  <a:srgbClr val="663300"/>
                </a:solidFill>
                <a:latin typeface="Arial"/>
              </a:rPr>
              <a:t>and social different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3300"/>
                </a:solidFill>
                <a:latin typeface="Arial"/>
              </a:rPr>
              <a:t>4. Social different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-259920">
              <a:spcBef>
                <a:spcPts val="400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e2914"/>
                </a:solidFill>
                <a:latin typeface="45 Helvetica Light"/>
              </a:rPr>
              <a:t>ACTIVITY 1 – Catalyzing Change from Within (2012 – 2013)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040040" indent="-207720">
              <a:spcBef>
                <a:spcPts val="400"/>
              </a:spcBef>
              <a:buClr>
                <a:srgbClr val="3e2914"/>
              </a:buClr>
              <a:buFont typeface="45 Helvetica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e2914"/>
                </a:solidFill>
                <a:latin typeface="45 Helvetica Light"/>
              </a:rPr>
              <a:t>Lead: CCAFS Theme 4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040040" indent="-207720">
              <a:spcBef>
                <a:spcPts val="400"/>
              </a:spcBef>
              <a:buClr>
                <a:srgbClr val="3e2914"/>
              </a:buClr>
              <a:buFont typeface="45 Helvetica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e2914"/>
                </a:solidFill>
                <a:latin typeface="45 Helvetica Light"/>
              </a:rPr>
              <a:t>Target Audience: CCAFS &amp; current project partners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455840" indent="-207720">
              <a:spcBef>
                <a:spcPts val="400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e2914"/>
                </a:solidFill>
                <a:latin typeface="45 Helvetica Light"/>
              </a:rPr>
              <a:t>Internal review of CCAFS/CG to look for opportunities to further social differentiation and developing strategy for augmenting this work through developing a social learning process. 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455840" indent="-207720">
              <a:spcBef>
                <a:spcPts val="400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e2914"/>
                </a:solidFill>
                <a:latin typeface="45 Helvetica Light"/>
              </a:rPr>
              <a:t>Use baseline work to analyze social differentiation, findings from PAR work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455840" indent="-207720">
              <a:spcBef>
                <a:spcPts val="400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e2914"/>
                </a:solidFill>
                <a:latin typeface="45 Helvetica Light"/>
              </a:rPr>
              <a:t>Linking social learning process to its annual Science Meeting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455840" indent="-207720">
              <a:spcBef>
                <a:spcPts val="400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e2914"/>
                </a:solidFill>
                <a:latin typeface="45 Helvetica Light"/>
              </a:rPr>
              <a:t>Create working group with CCAFS and experts on social learning and differentiation 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4" marL="1872000" indent="-207720">
              <a:spcBef>
                <a:spcPts val="400"/>
              </a:spcBef>
              <a:buClr>
                <a:srgbClr val="3e2914"/>
              </a:buClr>
              <a:buFont typeface="45 Helvetica Light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e2914"/>
                </a:solidFill>
                <a:latin typeface="45 Helvetica Light"/>
              </a:rPr>
              <a:t>(Social LSD)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455840" indent="-2077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676080" indent="-259920">
              <a:spcBef>
                <a:spcPts val="400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e2914"/>
                </a:solidFill>
                <a:latin typeface="45 Helvetica Light"/>
              </a:rPr>
              <a:t>ACTIVITY 2 – Facilitation (2012 – 2020)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040040" indent="-207720">
              <a:spcBef>
                <a:spcPts val="400"/>
              </a:spcBef>
              <a:buClr>
                <a:srgbClr val="3e2914"/>
              </a:buClr>
              <a:buFont typeface="45 Helvetica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e2914"/>
                </a:solidFill>
                <a:latin typeface="45 Helvetica Light"/>
              </a:rPr>
              <a:t>Lead: Social LSD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040040" indent="-207720">
              <a:spcBef>
                <a:spcPts val="400"/>
              </a:spcBef>
              <a:buClr>
                <a:srgbClr val="3e2914"/>
              </a:buClr>
              <a:buFont typeface="45 Helvetica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e2914"/>
                </a:solidFill>
                <a:latin typeface="45 Helvetica Light"/>
              </a:rPr>
              <a:t>Develop a dynamic network cutting across Social LSD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040040" indent="-207720">
              <a:spcBef>
                <a:spcPts val="400"/>
              </a:spcBef>
              <a:buClr>
                <a:srgbClr val="3e2914"/>
              </a:buClr>
              <a:buFont typeface="45 Helvetica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e2914"/>
                </a:solidFill>
                <a:latin typeface="45 Helvetica Light"/>
              </a:rPr>
              <a:t>Identify ways to coordinate &amp; facilitate the process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040040" indent="-207720">
              <a:spcBef>
                <a:spcPts val="400"/>
              </a:spcBef>
              <a:buClr>
                <a:srgbClr val="3e2914"/>
              </a:buClr>
              <a:buFont typeface="45 Helvetica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e2914"/>
                </a:solidFill>
                <a:latin typeface="45 Helvetica Light"/>
              </a:rPr>
              <a:t>Organize a working group to lead Activity 3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040040" indent="-2077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040040" indent="-2077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marL="312120" indent="-312120">
              <a:spcBef>
                <a:spcPts val="400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3300"/>
                </a:solidFill>
                <a:latin typeface="Arial"/>
              </a:rPr>
              <a:t>Social different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6858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e2914"/>
                </a:solidFill>
                <a:latin typeface="45 Helvetica Light"/>
              </a:rPr>
              <a:t>ACTIVITY 3  - Global Action Research Agenda on Social LSD in CC,A, FS (2012-2013)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Audience: Climate change and food security community in CCAFS countries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(a) Phase 1 – Developing a research agenda (loop 1): Facilitate social learning process to devise research agenda. Phase 1 will help to provide evidence, identify partnership, better understanding, principles, rigorous methodology, and communities of practice. This will also include linking practioners with researchers. This process will: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Use crowd sourcing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Produce literature review on existing work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Conduct scoping process (activities at sub-national level) to help create a research framework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Generate a bucket of tools and approaches on to conduct research on social learning and differentiation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Develop a framework and principles on conducting social learning and differentiation, including action research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Fund initial proposals through a call on social learning and differentiation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(b) Phase 2 (loop 2): Research to action 2014-2020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Iterative process of learning as research underway – e.g. Online forum; Wiki; annual workshops; publication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Capacity development on methodology and approach within the CG system and beyond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Demonstrate the evidence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Move towards impact with partners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e2914"/>
                </a:solidFill>
                <a:latin typeface="45 Helvetica Light"/>
              </a:rPr>
              <a:t>Funding ballpark: 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Activity 1 &amp; 2: $50,000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Activity 3: $300,000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3300"/>
                </a:solidFill>
                <a:latin typeface="Arial"/>
              </a:rPr>
              <a:t>5. Time Sc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e2914"/>
                </a:solidFill>
                <a:latin typeface="45 Helvetica Light"/>
              </a:rPr>
              <a:t>Why? </a:t>
            </a:r>
            <a:r>
              <a:rPr b="0" lang="en-GB" sz="2200" spc="-1" strike="noStrike">
                <a:solidFill>
                  <a:srgbClr val="3e2914"/>
                </a:solidFill>
                <a:latin typeface="45 Helvetica Light"/>
              </a:rPr>
              <a:t>Adaptive capacity will be limited if long-term changes are not considered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e2914"/>
                </a:solidFill>
                <a:latin typeface="45 Helvetica Light"/>
              </a:rPr>
              <a:t>How?</a:t>
            </a:r>
            <a:r>
              <a:rPr b="0" lang="en-GB" sz="2200" spc="-1" strike="noStrike">
                <a:solidFill>
                  <a:srgbClr val="3e2914"/>
                </a:solidFill>
                <a:latin typeface="45 Helvetica Light"/>
              </a:rPr>
              <a:t> How do long term changes relate to the time horizons of different actors 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e2914"/>
                </a:solidFill>
                <a:latin typeface="45 Helvetica Light"/>
              </a:rPr>
              <a:t>What?</a:t>
            </a:r>
            <a:r>
              <a:rPr b="0" lang="en-GB" sz="2200" spc="-1" strike="noStrike">
                <a:solidFill>
                  <a:srgbClr val="3e2914"/>
                </a:solidFill>
                <a:latin typeface="45 Helvetica Light"/>
              </a:rPr>
              <a:t> Long-term considerations should be addressed through short-term incentives of relevance and interest to stakeholders for their engagement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e2914"/>
                </a:solidFill>
                <a:latin typeface="45 Helvetica Light"/>
              </a:rPr>
              <a:t>Theory of change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e2914"/>
                </a:solidFill>
                <a:latin typeface="45 Helvetica Light"/>
              </a:rPr>
              <a:t>Example of a tool to enrich existing projects through social learning processes and make them more effective by connecting short-term relevance to longer term understanding of climate change and ability to adapt 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5720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e2914"/>
                </a:solidFill>
                <a:latin typeface="45 Helvetica Light"/>
              </a:rPr>
              <a:t>Activities</a:t>
            </a:r>
            <a:endParaRPr b="0" lang="en-US" sz="40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e2914"/>
                </a:solidFill>
                <a:latin typeface="45 Helvetica Light"/>
              </a:rPr>
              <a:t>Time horizons evaluation tool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2914"/>
                </a:solidFill>
                <a:latin typeface="45 Helvetica Light"/>
              </a:rPr>
              <a:t>): Commission research into time horizons building on state of the art (risk management, psychology, behavioural economics)</a:t>
            </a:r>
            <a:endParaRPr b="0" lang="en-US" sz="20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e2914"/>
                </a:solidFill>
                <a:latin typeface="45 Helvetica Light"/>
              </a:rPr>
              <a:t>Motivations framework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2914"/>
                </a:solidFill>
                <a:latin typeface="45 Helvetica Light"/>
              </a:rPr>
              <a:t>Commission research building in short term motivations and goals. Applied at the project level with stakeholders learning from each other </a:t>
            </a:r>
            <a:endParaRPr b="0" lang="en-US" sz="20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e2914"/>
                </a:solidFill>
                <a:latin typeface="45 Helvetica Light"/>
              </a:rPr>
              <a:t>Evaluating change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2914"/>
                </a:solidFill>
                <a:latin typeface="45 Helvetica Light"/>
              </a:rPr>
              <a:t>apply incentives and evaluate effectiveness in behaviour change over time</a:t>
            </a:r>
            <a:endParaRPr b="0" lang="en-US" sz="20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2914"/>
                </a:solidFill>
                <a:latin typeface="45 Helvetica Light"/>
              </a:rPr>
              <a:t>Anticipated outcomes</a:t>
            </a:r>
            <a:endParaRPr b="0" lang="en-US" sz="40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2914"/>
                </a:solidFill>
                <a:latin typeface="45 Helvetica Light"/>
              </a:rPr>
              <a:t>Projects better linked to stakeholder needs as well as short/medium term development objectives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2914"/>
                </a:solidFill>
                <a:latin typeface="45 Helvetica Light"/>
              </a:rPr>
              <a:t> </a:t>
            </a:r>
            <a:r>
              <a:rPr b="0" lang="en-US" sz="2200" spc="-1" strike="noStrike">
                <a:solidFill>
                  <a:srgbClr val="3e2914"/>
                </a:solidFill>
                <a:latin typeface="45 Helvetica Light"/>
              </a:rPr>
              <a:t>Short term responses linked to long term adaptation understanding and behaviour change to improve adaptive capacity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713160" indent="-274320">
              <a:lnSpc>
                <a:spcPct val="80000"/>
              </a:lnSpc>
              <a:spcBef>
                <a:spcPts val="550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45720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e2914"/>
              </a:solidFill>
              <a:latin typeface="45 Helvetica Light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e2914"/>
                </a:solidFill>
                <a:latin typeface="45 Helvetica Light"/>
              </a:rPr>
              <a:t>What’s next?</a:t>
            </a:r>
            <a:endParaRPr b="0" lang="en-US" sz="5400" spc="-1" strike="noStrike">
              <a:solidFill>
                <a:srgbClr val="3e2914"/>
              </a:solidFill>
              <a:latin typeface="45 Helvetica Light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e2914"/>
              </a:solidFill>
              <a:latin typeface="45 Helvetica Light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e2914"/>
                </a:solidFill>
                <a:latin typeface="45 Helvetica Light"/>
              </a:rPr>
              <a:t>Feedback from our visitors…</a:t>
            </a:r>
            <a:endParaRPr b="0" lang="en-US" sz="54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"/>
          <p:cNvPicPr/>
          <p:nvPr/>
        </p:nvPicPr>
        <p:blipFill>
          <a:blip r:embed="rId1">
            <a:lum bright="-6000"/>
          </a:blip>
          <a:srcRect l="935" t="1705" r="1871" b="1209"/>
          <a:stretch/>
        </p:blipFill>
        <p:spPr>
          <a:xfrm>
            <a:off x="-257040" y="19080"/>
            <a:ext cx="10424880" cy="5713560"/>
          </a:xfrm>
          <a:prstGeom prst="rect">
            <a:avLst/>
          </a:prstGeom>
          <a:ln w="9360">
            <a:solidFill>
              <a:srgbClr val="202020"/>
            </a:solidFill>
            <a:miter/>
          </a:ln>
        </p:spPr>
      </p:pic>
      <p:sp>
        <p:nvSpPr>
          <p:cNvPr id="190" name="Oval 5"/>
          <p:cNvSpPr/>
          <p:nvPr/>
        </p:nvSpPr>
        <p:spPr>
          <a:xfrm rot="601200">
            <a:off x="194760" y="74520"/>
            <a:ext cx="8948880" cy="5585040"/>
          </a:xfrm>
          <a:prstGeom prst="ellipse">
            <a:avLst/>
          </a:prstGeom>
          <a:solidFill>
            <a:srgbClr val="e6debc">
              <a:alpha val="32000"/>
            </a:srgbClr>
          </a:solidFill>
          <a:ln w="6480">
            <a:solidFill>
              <a:srgbClr val="20202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91" name="Oval 6"/>
          <p:cNvSpPr/>
          <p:nvPr/>
        </p:nvSpPr>
        <p:spPr>
          <a:xfrm>
            <a:off x="7615080" y="2081160"/>
            <a:ext cx="1219320" cy="1066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20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92" name="Oval 7"/>
          <p:cNvSpPr/>
          <p:nvPr/>
        </p:nvSpPr>
        <p:spPr>
          <a:xfrm>
            <a:off x="6319800" y="1471680"/>
            <a:ext cx="1295280" cy="1143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20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93" name="Oval 8"/>
          <p:cNvSpPr/>
          <p:nvPr/>
        </p:nvSpPr>
        <p:spPr>
          <a:xfrm>
            <a:off x="4871880" y="1166760"/>
            <a:ext cx="1371600" cy="1206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20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94" name="Bent Arrow 9"/>
          <p:cNvSpPr/>
          <p:nvPr/>
        </p:nvSpPr>
        <p:spPr>
          <a:xfrm flipH="1" rot="10800000">
            <a:off x="2585880" y="2690280"/>
            <a:ext cx="2362320" cy="2514600"/>
          </a:xfrm>
          <a:custGeom>
            <a:avLst/>
            <a:gdLst/>
            <a:ahLst/>
            <a:rect l="l" t="t" r="r" b="b"/>
            <a:pathLst>
              <a:path w="2362200" h="2514600">
                <a:moveTo>
                  <a:pt x="0" y="2514600"/>
                </a:moveTo>
                <a:lnTo>
                  <a:pt x="0" y="1918780"/>
                </a:lnTo>
                <a:cubicBezTo>
                  <a:pt x="0" y="940325"/>
                  <a:pt x="793195" y="147130"/>
                  <a:pt x="1771650" y="147130"/>
                </a:cubicBezTo>
                <a:lnTo>
                  <a:pt x="1771650" y="147130"/>
                </a:lnTo>
                <a:lnTo>
                  <a:pt x="1771650" y="0"/>
                </a:lnTo>
                <a:lnTo>
                  <a:pt x="2362200" y="369094"/>
                </a:lnTo>
                <a:lnTo>
                  <a:pt x="1771650" y="738188"/>
                </a:lnTo>
                <a:lnTo>
                  <a:pt x="1771650" y="591058"/>
                </a:lnTo>
                <a:lnTo>
                  <a:pt x="1771650" y="591058"/>
                </a:lnTo>
                <a:cubicBezTo>
                  <a:pt x="1038369" y="591058"/>
                  <a:pt x="443928" y="1185499"/>
                  <a:pt x="443928" y="1918780"/>
                </a:cubicBezTo>
                <a:lnTo>
                  <a:pt x="443928" y="2514600"/>
                </a:lnTo>
                <a:lnTo>
                  <a:pt x="0" y="2514600"/>
                </a:lnTo>
                <a:close/>
              </a:path>
            </a:pathLst>
          </a:custGeom>
          <a:solidFill>
            <a:srgbClr val="ffff99"/>
          </a:solidFill>
          <a:ln w="19080">
            <a:solidFill>
              <a:srgbClr val="2020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cxnSp>
        <p:nvCxnSpPr>
          <p:cNvPr id="195" name="Straight Arrow Connector 10"/>
          <p:cNvCxnSpPr>
            <a:stCxn id="196" idx="0"/>
            <a:endCxn id="191" idx="3"/>
          </p:cNvCxnSpPr>
          <p:nvPr/>
        </p:nvCxnSpPr>
        <p:spPr>
          <a:xfrm flipV="1">
            <a:off x="6471000" y="2991960"/>
            <a:ext cx="1321200" cy="1146960"/>
          </a:xfrm>
          <a:prstGeom prst="straightConnector1">
            <a:avLst/>
          </a:prstGeom>
          <a:ln w="9360">
            <a:solidFill>
              <a:srgbClr val="202020"/>
            </a:solidFill>
            <a:miter/>
            <a:tailEnd len="med" type="arrow" w="med"/>
          </a:ln>
        </p:spPr>
      </p:cxnSp>
      <p:cxnSp>
        <p:nvCxnSpPr>
          <p:cNvPr id="197" name="Straight Arrow Connector 11"/>
          <p:cNvCxnSpPr/>
          <p:nvPr/>
        </p:nvCxnSpPr>
        <p:spPr>
          <a:xfrm flipV="1">
            <a:off x="6396120" y="2613960"/>
            <a:ext cx="457920" cy="1524600"/>
          </a:xfrm>
          <a:prstGeom prst="straightConnector1">
            <a:avLst/>
          </a:prstGeom>
          <a:ln w="9360">
            <a:solidFill>
              <a:srgbClr val="202020"/>
            </a:solidFill>
            <a:miter/>
            <a:tailEnd len="med" type="arrow" w="med"/>
          </a:ln>
        </p:spPr>
      </p:cxnSp>
      <p:cxnSp>
        <p:nvCxnSpPr>
          <p:cNvPr id="198" name="Straight Arrow Connector 12"/>
          <p:cNvCxnSpPr/>
          <p:nvPr/>
        </p:nvCxnSpPr>
        <p:spPr>
          <a:xfrm flipH="1" flipV="1">
            <a:off x="5758560" y="2347200"/>
            <a:ext cx="559800" cy="1855080"/>
          </a:xfrm>
          <a:prstGeom prst="straightConnector1">
            <a:avLst/>
          </a:prstGeom>
          <a:ln w="9360">
            <a:solidFill>
              <a:srgbClr val="202020"/>
            </a:solidFill>
            <a:miter/>
            <a:tailEnd len="med" type="arrow" w="med"/>
          </a:ln>
        </p:spPr>
      </p:cxnSp>
      <p:sp>
        <p:nvSpPr>
          <p:cNvPr id="196" name="Oval 13"/>
          <p:cNvSpPr/>
          <p:nvPr/>
        </p:nvSpPr>
        <p:spPr>
          <a:xfrm>
            <a:off x="5024520" y="4138560"/>
            <a:ext cx="2895480" cy="1295280"/>
          </a:xfrm>
          <a:prstGeom prst="ellipse">
            <a:avLst/>
          </a:prstGeom>
          <a:solidFill>
            <a:srgbClr val="3e2914"/>
          </a:solidFill>
          <a:ln w="25560">
            <a:solidFill>
              <a:srgbClr val="20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99" name="TextBox 14"/>
          <p:cNvSpPr/>
          <p:nvPr/>
        </p:nvSpPr>
        <p:spPr>
          <a:xfrm>
            <a:off x="2506680" y="227160"/>
            <a:ext cx="353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2020"/>
                </a:solidFill>
                <a:latin typeface="Arial"/>
                <a:ea typeface="Arial"/>
              </a:rPr>
              <a:t>Adapting Agriculture to</a:t>
            </a: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2020"/>
                </a:solidFill>
                <a:latin typeface="Arial"/>
                <a:ea typeface="Arial"/>
              </a:rPr>
              <a:t>Climate Variability and Change</a:t>
            </a: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00" name="Rounded Rectangle 15"/>
          <p:cNvSpPr/>
          <p:nvPr/>
        </p:nvSpPr>
        <p:spPr>
          <a:xfrm>
            <a:off x="833400" y="1027080"/>
            <a:ext cx="37339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0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01" name="TextBox 16"/>
          <p:cNvSpPr/>
          <p:nvPr/>
        </p:nvSpPr>
        <p:spPr>
          <a:xfrm>
            <a:off x="909720" y="1090440"/>
            <a:ext cx="3657600" cy="16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e2914"/>
                </a:solidFill>
                <a:latin typeface="Arial"/>
                <a:ea typeface="Arial"/>
              </a:rPr>
              <a:t>Technologies, practices, partnerships and policies for:</a:t>
            </a:r>
            <a:endParaRPr b="0" lang="en-US" sz="14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100000"/>
              </a:lnSpc>
              <a:buClr>
                <a:srgbClr val="3e291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e2914"/>
                </a:solidFill>
                <a:latin typeface="Arial"/>
                <a:ea typeface="Arial"/>
              </a:rPr>
              <a:t>Adaptation to Progressive Climate Change</a:t>
            </a:r>
            <a:endParaRPr b="0" lang="en-US" sz="14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100000"/>
              </a:lnSpc>
              <a:buClr>
                <a:srgbClr val="3e291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e2914"/>
                </a:solidFill>
                <a:latin typeface="Arial"/>
                <a:ea typeface="Arial"/>
              </a:rPr>
              <a:t>Adaptation through Managing Climate Risk</a:t>
            </a:r>
            <a:endParaRPr b="0" lang="en-US" sz="14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100000"/>
              </a:lnSpc>
              <a:buClr>
                <a:srgbClr val="3e291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e2914"/>
                </a:solidFill>
                <a:latin typeface="Arial"/>
                <a:ea typeface="Arial"/>
              </a:rPr>
              <a:t>Pro-poor Climate Change Mitigation</a:t>
            </a:r>
            <a:endParaRPr b="0" lang="en-US" sz="14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02" name="Rounded Rectangle 17"/>
          <p:cNvSpPr/>
          <p:nvPr/>
        </p:nvSpPr>
        <p:spPr>
          <a:xfrm>
            <a:off x="1366920" y="2995560"/>
            <a:ext cx="3581280" cy="113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0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03" name="TextBox 39"/>
          <p:cNvSpPr/>
          <p:nvPr/>
        </p:nvSpPr>
        <p:spPr>
          <a:xfrm>
            <a:off x="4794120" y="1419120"/>
            <a:ext cx="1525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e2914"/>
                </a:solidFill>
                <a:latin typeface="Arial"/>
                <a:ea typeface="Arial"/>
              </a:rPr>
              <a:t>Improved Environmental Health</a:t>
            </a:r>
            <a:endParaRPr b="0" lang="en-US" sz="14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04" name="TextBox 40"/>
          <p:cNvSpPr/>
          <p:nvPr/>
        </p:nvSpPr>
        <p:spPr>
          <a:xfrm>
            <a:off x="6319800" y="16477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e2914"/>
                </a:solidFill>
                <a:latin typeface="Arial"/>
                <a:ea typeface="Arial"/>
              </a:rPr>
              <a:t>Improved Rural Livelihoods</a:t>
            </a:r>
            <a:endParaRPr b="0" lang="en-US" sz="14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05" name="TextBox 41"/>
          <p:cNvSpPr/>
          <p:nvPr/>
        </p:nvSpPr>
        <p:spPr>
          <a:xfrm>
            <a:off x="7691400" y="2309760"/>
            <a:ext cx="1068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e2914"/>
                </a:solidFill>
                <a:latin typeface="Arial"/>
                <a:ea typeface="Arial"/>
              </a:rPr>
              <a:t>Improved Food Security</a:t>
            </a:r>
            <a:endParaRPr b="0" lang="en-US" sz="14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06" name="TextBox 42"/>
          <p:cNvSpPr/>
          <p:nvPr/>
        </p:nvSpPr>
        <p:spPr>
          <a:xfrm>
            <a:off x="5175360" y="4386240"/>
            <a:ext cx="2668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Enhanced adaptive capacity</a:t>
            </a:r>
            <a:endParaRPr b="0" lang="en-US" sz="1400" spc="-1" strike="noStrike">
              <a:solidFill>
                <a:srgbClr val="3e2914"/>
              </a:solidFill>
              <a:latin typeface="45 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n agricultural, natural resource management, and food systems</a:t>
            </a:r>
            <a:endParaRPr b="0" lang="en-US" sz="14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07" name="Oval 22"/>
          <p:cNvSpPr/>
          <p:nvPr/>
        </p:nvSpPr>
        <p:spPr>
          <a:xfrm rot="796800">
            <a:off x="5380200" y="3153960"/>
            <a:ext cx="2814480" cy="593640"/>
          </a:xfrm>
          <a:prstGeom prst="ellipse">
            <a:avLst/>
          </a:prstGeom>
          <a:solidFill>
            <a:srgbClr val="ceeab0"/>
          </a:solidFill>
          <a:ln w="6480">
            <a:solidFill>
              <a:srgbClr val="20202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08" name="TextBox 44"/>
          <p:cNvSpPr/>
          <p:nvPr/>
        </p:nvSpPr>
        <p:spPr>
          <a:xfrm rot="767400">
            <a:off x="5661000" y="3306240"/>
            <a:ext cx="218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e2914"/>
                </a:solidFill>
                <a:latin typeface="Arial"/>
                <a:ea typeface="Arial"/>
              </a:rPr>
              <a:t>Trade-offs and Synergies</a:t>
            </a:r>
            <a:endParaRPr b="0" lang="en-US" sz="14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09" name="TextBox 24"/>
          <p:cNvSpPr/>
          <p:nvPr/>
        </p:nvSpPr>
        <p:spPr>
          <a:xfrm>
            <a:off x="1442880" y="2995560"/>
            <a:ext cx="350532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e2914"/>
                </a:solidFill>
                <a:latin typeface="Arial"/>
                <a:ea typeface="Arial"/>
              </a:rPr>
              <a:t>4. Integration for Decision Making</a:t>
            </a:r>
            <a:endParaRPr b="0" lang="en-US" sz="14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e2914"/>
                </a:solidFill>
                <a:latin typeface="Arial"/>
                <a:ea typeface="Arial"/>
              </a:rPr>
              <a:t>Linking Knowledge with Action</a:t>
            </a:r>
            <a:endParaRPr b="0" lang="en-US" sz="12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100000"/>
              </a:lnSpc>
              <a:buClr>
                <a:srgbClr val="3e29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e2914"/>
                </a:solidFill>
                <a:latin typeface="Arial"/>
                <a:ea typeface="Arial"/>
              </a:rPr>
              <a:t>Assembling Data and Tools for Analysis and Planning</a:t>
            </a:r>
            <a:endParaRPr b="0" lang="en-US" sz="12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100000"/>
              </a:lnSpc>
              <a:buClr>
                <a:srgbClr val="3e29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e2914"/>
                </a:solidFill>
                <a:latin typeface="Arial"/>
                <a:ea typeface="Arial"/>
              </a:rPr>
              <a:t>Refining Frameworks for Policy Analysis</a:t>
            </a:r>
            <a:endParaRPr b="0" lang="en-US" sz="12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3300"/>
                </a:solidFill>
                <a:latin typeface="Arial"/>
              </a:rPr>
              <a:t>The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042560" y="981000"/>
            <a:ext cx="771516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601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2914"/>
                </a:solidFill>
                <a:latin typeface="45 Helvetica Light"/>
              </a:rPr>
              <a:t>Review and analysis of existing approaches to social learning on climate change in the global South to identify gaps, good practices and opportunities for CCAFS.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171360" indent="-171360">
              <a:spcBef>
                <a:spcPts val="601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2914"/>
                </a:solidFill>
                <a:latin typeface="45 Helvetica Light"/>
              </a:rPr>
              <a:t>Concluded with a discussion paper to initiate discussion here.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171360" indent="-171360">
              <a:spcBef>
                <a:spcPts val="601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171360" indent="-171360">
              <a:spcBef>
                <a:spcPts val="601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171360" indent="-171360">
              <a:spcBef>
                <a:spcPts val="601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2914"/>
                </a:solidFill>
                <a:latin typeface="45 Helvetica Light"/>
              </a:rPr>
              <a:t>Bringing together people with skills in this area to share experience, views, and possibilities for partnership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171360" indent="-171360">
              <a:spcBef>
                <a:spcPts val="601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2914"/>
                </a:solidFill>
                <a:latin typeface="45 Helvetica Light"/>
              </a:rPr>
              <a:t>Identify gaps and research priorities and proposed actions to guide CCAFS engagement in this area alongside partners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12" name="Title 1"/>
          <p:cNvSpPr/>
          <p:nvPr/>
        </p:nvSpPr>
        <p:spPr>
          <a:xfrm>
            <a:off x="324000" y="321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3300"/>
                </a:solidFill>
                <a:latin typeface="Arial"/>
              </a:rPr>
              <a:t>The workshop</a:t>
            </a:r>
            <a:endParaRPr b="0" lang="en-US" sz="44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63300"/>
                </a:solidFill>
                <a:latin typeface="Arial"/>
              </a:rPr>
              <a:t>Communication and Social Learning for Climate 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09480" y="1700280"/>
            <a:ext cx="784872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e2914"/>
                </a:solidFill>
                <a:latin typeface="45 Helvetica Light"/>
              </a:rPr>
              <a:t>Communication and learning – from linear to “looped” approaches</a:t>
            </a:r>
            <a:endParaRPr b="0" lang="en-US" sz="3000" spc="-1" strike="noStrike">
              <a:solidFill>
                <a:srgbClr val="3e2914"/>
              </a:solidFill>
              <a:latin typeface="45 Helvetica Light"/>
            </a:endParaRPr>
          </a:p>
          <a:p>
            <a:pPr marL="332640" indent="-332640">
              <a:spcBef>
                <a:spcPts val="751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e2914"/>
                </a:solidFill>
                <a:latin typeface="45 Helvetica Light"/>
              </a:rPr>
              <a:t>Social learning:  Facilitating sharing information, knowledge and experience between stakeholders for new collective learning and knowledge.</a:t>
            </a:r>
            <a:endParaRPr b="0" lang="en-US" sz="3000" spc="-1" strike="noStrike">
              <a:solidFill>
                <a:srgbClr val="3e2914"/>
              </a:solidFill>
              <a:latin typeface="45 Helvetica Light"/>
            </a:endParaRPr>
          </a:p>
          <a:p>
            <a:pPr marL="332640" indent="-332640">
              <a:spcBef>
                <a:spcPts val="751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e2914"/>
                </a:solidFill>
                <a:latin typeface="45 Helvetica Light"/>
              </a:rPr>
              <a:t>Relevance to the climate challenge:</a:t>
            </a:r>
            <a:endParaRPr b="0" lang="en-US" sz="30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720720" indent="-277200">
              <a:spcBef>
                <a:spcPts val="649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e2914"/>
                </a:solidFill>
                <a:latin typeface="45 Helvetica Light"/>
              </a:rPr>
              <a:t>Complexity; Uncertainty; Limited information; Access divides; Different timescales</a:t>
            </a:r>
            <a:endParaRPr b="0" lang="en-US" sz="2600" spc="-1" strike="noStrike">
              <a:solidFill>
                <a:srgbClr val="3e2914"/>
              </a:solidFill>
              <a:latin typeface="45 Helvetica Light"/>
            </a:endParaRPr>
          </a:p>
          <a:p>
            <a:pPr marL="332640" indent="-332640">
              <a:spcBef>
                <a:spcPts val="649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Calibri"/>
                <a:ea typeface="Calibri"/>
              </a:rPr>
              <a:t>CCAFS as a part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10920" y="1484280"/>
            <a:ext cx="7848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14"/>
                </a:solidFill>
                <a:latin typeface="Calibri"/>
                <a:ea typeface="Calibri"/>
              </a:rPr>
              <a:t>Long-term program and new set-up / new research space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14"/>
                </a:solidFill>
                <a:latin typeface="Calibri"/>
                <a:ea typeface="Calibri"/>
              </a:rPr>
              <a:t>CCAFS as a testbed for new approaches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14"/>
                </a:solidFill>
                <a:latin typeface="Calibri"/>
                <a:ea typeface="Calibri"/>
              </a:rPr>
              <a:t>Global brand to help leverage funding 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14"/>
                </a:solidFill>
                <a:latin typeface="Calibri"/>
                <a:ea typeface="Calibri"/>
              </a:rPr>
              <a:t>Access to CGIAR expertise: research, tools, models, impact assessment, agriculture focus, …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14"/>
                </a:solidFill>
                <a:latin typeface="Calibri"/>
                <a:ea typeface="Calibri"/>
              </a:rPr>
              <a:t>Increasing access to ESSP expertise: climate science, global change community, food systems focus, …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14"/>
                </a:solidFill>
                <a:latin typeface="Calibri"/>
                <a:ea typeface="Calibri"/>
              </a:rPr>
              <a:t>Global reach of CGIAR: scalability, regions, comparability, partners &amp; linkages, facilities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14"/>
                </a:solidFill>
                <a:latin typeface="Calibri"/>
                <a:ea typeface="Calibri"/>
              </a:rPr>
              <a:t>CGIAR commitment to producing international public goods, science-based evidence, …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Calibri"/>
                <a:ea typeface="Calibri"/>
              </a:rPr>
              <a:t>5 areas of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10920" y="1484280"/>
            <a:ext cx="7848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14"/>
                </a:solidFill>
                <a:latin typeface="Calibri"/>
                <a:ea typeface="Calibri"/>
              </a:rPr>
              <a:t>Documentation and testing social learning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14"/>
                </a:solidFill>
                <a:latin typeface="Calibri"/>
                <a:ea typeface="Calibri"/>
              </a:rPr>
              <a:t>Social learning in CCAFS/ the CG systesm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14"/>
                </a:solidFill>
                <a:latin typeface="Calibri"/>
                <a:ea typeface="Calibri"/>
              </a:rPr>
              <a:t>Endogenous social learning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14"/>
                </a:solidFill>
                <a:latin typeface="Calibri"/>
                <a:ea typeface="Calibri"/>
              </a:rPr>
              <a:t>Social differentiation and social learning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14"/>
                </a:solidFill>
                <a:latin typeface="Calibri"/>
                <a:ea typeface="Calibri"/>
              </a:rPr>
              <a:t>Timescales to embed in social learning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663300"/>
                </a:solidFill>
                <a:latin typeface="Arial"/>
              </a:rPr>
              <a:t>1. Documentation and testing of social learn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684360" y="3789360"/>
          <a:ext cx="7920000" cy="2727360"/>
        </p:xfrm>
        <a:graphic>
          <a:graphicData uri="http://schemas.openxmlformats.org/drawingml/2006/table">
            <a:tbl>
              <a:tblPr/>
              <a:tblGrid>
                <a:gridCol w="1295280"/>
                <a:gridCol w="3384360"/>
                <a:gridCol w="3240360"/>
              </a:tblGrid>
              <a:tr h="930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</a:t>
                      </a:r>
                      <a:endParaRPr b="0" lang="en-US" sz="20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 Inventory, selection of cases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d on USP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d on specific criteria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 Selection of participants, and invitation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ite and involve “owners”, researchers, “champions”, keeping in mind social differentiation and representativeness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684360" y="1557360"/>
          <a:ext cx="7991280" cy="1800360"/>
        </p:xfrm>
        <a:graphic>
          <a:graphicData uri="http://schemas.openxmlformats.org/drawingml/2006/table">
            <a:tbl>
              <a:tblPr/>
              <a:tblGrid>
                <a:gridCol w="1366560"/>
                <a:gridCol w="662472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Y</a:t>
                      </a:r>
                      <a:endParaRPr b="0" lang="en-US" sz="20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yse / test social learning as a tool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rm researchers and policy community (and convince them) on the basis of evidence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 the practice itself – further developing the learning process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684360" y="549360"/>
          <a:ext cx="7920000" cy="3992400"/>
        </p:xfrm>
        <a:graphic>
          <a:graphicData uri="http://schemas.openxmlformats.org/drawingml/2006/table">
            <a:tbl>
              <a:tblPr/>
              <a:tblGrid>
                <a:gridCol w="1366560"/>
                <a:gridCol w="1800360"/>
                <a:gridCol w="4753080"/>
              </a:tblGrid>
              <a:tr h="775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</a:t>
                      </a:r>
                      <a:endParaRPr b="0" lang="en-US" sz="20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 Description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ext, Baseline, Activities, Process, Results, Outputs, Outcome : Has SL reached its goal?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 Analysis (testing)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t categories (Knowledge, Attitudes, Skills, Practice)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cific focus: Mechanism of causality and attribution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: Analytical frameworks, selection of indicators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  Writing, sharing, dissemination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t levels: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cipants of the process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 CCAFS 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side world”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684360" y="4941720"/>
          <a:ext cx="7991280" cy="1440000"/>
        </p:xfrm>
        <a:graphic>
          <a:graphicData uri="http://schemas.openxmlformats.org/drawingml/2006/table">
            <a:tbl>
              <a:tblPr/>
              <a:tblGrid>
                <a:gridCol w="1366560"/>
                <a:gridCol w="6624720"/>
              </a:tblGrid>
              <a:tr h="14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O</a:t>
                      </a:r>
                      <a:endParaRPr b="0" lang="en-US" sz="20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cilitator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earchers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a people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“owners” of each case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50760" bIns="507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663300"/>
                </a:solidFill>
                <a:latin typeface="Arial"/>
                <a:ea typeface="Arial"/>
              </a:rPr>
              <a:t>2. </a:t>
            </a:r>
            <a:r>
              <a:rPr b="0" i="1" lang="en-US" sz="3100" spc="-1" strike="noStrike">
                <a:solidFill>
                  <a:srgbClr val="663300"/>
                </a:solidFill>
                <a:latin typeface="Arial"/>
                <a:ea typeface="Arial"/>
              </a:rPr>
              <a:t>Social Learning is validated within CCAFS as a mainstream method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50760" bIns="50760" anchor="t">
            <a:normAutofit/>
          </a:bodyPr>
          <a:p>
            <a:pPr lvl="1" marL="28116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700" spc="-1" strike="noStrike">
                <a:solidFill>
                  <a:srgbClr val="3e2914"/>
                </a:solidFill>
                <a:latin typeface="Arial"/>
                <a:ea typeface="Arial"/>
              </a:rPr>
              <a:t>Indicators</a:t>
            </a:r>
            <a:endParaRPr b="0" lang="en-US" sz="27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281160">
              <a:spcBef>
                <a:spcPts val="700"/>
              </a:spcBef>
              <a:buClr>
                <a:srgbClr val="3e2914"/>
              </a:buClr>
              <a:buFont typeface="45 Helvetica Light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e2914"/>
                </a:solidFill>
                <a:latin typeface="45 Helvetica Light"/>
              </a:rPr>
              <a:t>Significant percentage of CG funded proposals that include SL explicitly as a central part, by 2020</a:t>
            </a:r>
            <a:endParaRPr b="0" lang="en-US" sz="28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281160">
              <a:spcBef>
                <a:spcPts val="700"/>
              </a:spcBef>
              <a:buClr>
                <a:srgbClr val="3e2914"/>
              </a:buClr>
              <a:buFont typeface="45 Helvetica Light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e2914"/>
                </a:solidFill>
                <a:latin typeface="45 Helvetica Light"/>
              </a:rPr>
              <a:t>Dynamic basket of artifacts with shared attribution/use</a:t>
            </a:r>
            <a:endParaRPr b="0" lang="en-US" sz="28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281160">
              <a:spcBef>
                <a:spcPts val="700"/>
              </a:spcBef>
              <a:buClr>
                <a:srgbClr val="3e2914"/>
              </a:buClr>
              <a:buFont typeface="45 Helvetica Light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e2914"/>
                </a:solidFill>
                <a:latin typeface="45 Helvetica Light"/>
              </a:rPr>
              <a:t>A porous CGIAR and partners’ network with two-way learning</a:t>
            </a:r>
            <a:endParaRPr b="0" lang="en-US" sz="28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15:13:43Z</dcterms:created>
  <dc:creator>Ann-Sophie Neuchs Smed</dc:creator>
  <dc:description/>
  <dc:language>en-US</dc:language>
  <cp:lastModifiedBy>eleborgne</cp:lastModifiedBy>
  <dcterms:modified xsi:type="dcterms:W3CDTF">2012-05-10T11:33:12Z</dcterms:modified>
  <cp:revision>6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Type">
    <vt:lpwstr>Agenda</vt:lpwstr>
  </property>
  <property fmtid="{D5CDD505-2E9C-101B-9397-08002B2CF9AE}" pid="3" name="TemplateUrl">
    <vt:lpwstr/>
  </property>
  <property fmtid="{D5CDD505-2E9C-101B-9397-08002B2CF9AE}" pid="4" name="_dlc_DocId">
    <vt:lpwstr>D3D2VP4PYXC5-6-110</vt:lpwstr>
  </property>
  <property fmtid="{D5CDD505-2E9C-101B-9397-08002B2CF9AE}" pid="5" name="_dlc_DocIdItemGuid">
    <vt:lpwstr>1b9dc0f8-76d6-4893-bece-b1b6f1ac88d5</vt:lpwstr>
  </property>
  <property fmtid="{D5CDD505-2E9C-101B-9397-08002B2CF9AE}" pid="6" name="_dlc_DocIdUrl">
    <vt:lpwstr>http://intranet.ccafs.cgiar.org/_layouts/DocIdRedir.aspx?ID=D3D2VP4PYXC5-6-110, D3D2VP4PYXC5-6-110</vt:lpwstr>
  </property>
  <property fmtid="{D5CDD505-2E9C-101B-9397-08002B2CF9AE}" pid="7" name="display_urn:schemas-microsoft-com:office:office#Author">
    <vt:lpwstr>Jordan, Tania (CGIAR)</vt:lpwstr>
  </property>
  <property fmtid="{D5CDD505-2E9C-101B-9397-08002B2CF9AE}" pid="8" name="display_urn:schemas-microsoft-com:office:office#Editor">
    <vt:lpwstr>Jordan, Tania (CGIAR)</vt:lpwstr>
  </property>
  <property fmtid="{D5CDD505-2E9C-101B-9397-08002B2CF9AE}" pid="9" name="xd_ProgID">
    <vt:lpwstr/>
  </property>
</Properties>
</file>