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57D1-DE77-4B38-A342-51859C0838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must mention all the sponsors for point 2! Go through each one – IDS CCTeam CCAFS/CCSL, CDKN, DfID, IDR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5DFE-1E64-4109-B2C4-BDE47BCE0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with people with some kind of similar experience around common question – vast majority know what been invited to – some may have not decided and if you’re not feeling like in the right one go see Pe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ke sure you mention the names of all the facilit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146B-EC91-49F5-8A2A-73DFA1CAE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cial learning experience will use the triple-loop learning approac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strumental learning: acquiring new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unicative: understanding/reinterpreting knowledge through communication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ve: examining underlying assumptions leading to change in attitudes and social norms and collective action, id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223E-B565-4D81-8DD5-9595120956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-EO Webinar (Thursday morning)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t link in here – gives info on how to sign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ors for sea change Dennis Bours  climate eveal Andrew Zub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 survey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541F-ABD9-41BE-A2CD-D5B9FE39D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either Sarah )housekeeping or facilita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164C-CC97-4D38-8322-6592FBA6C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insideLogo"/>
          <p:cNvPicPr/>
          <p:nvPr/>
        </p:nvPicPr>
        <p:blipFill>
          <a:blip r:embed="rId4"/>
          <a:stretch/>
        </p:blipFill>
        <p:spPr>
          <a:xfrm>
            <a:off x="7451640" y="260280"/>
            <a:ext cx="1440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csl.wikispaces.com/201303_IDSclimateLearni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817800" y="5157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andrewn\AppData\Local\Microsoft\Windows\Temporary Internet Files\Content.Outlook\CV43P2CM\GEF_EO_logo.jpeg"/>
          <p:cNvPicPr/>
          <p:nvPr/>
        </p:nvPicPr>
        <p:blipFill>
          <a:blip r:embed="rId1"/>
          <a:stretch/>
        </p:blipFill>
        <p:spPr>
          <a:xfrm>
            <a:off x="6516720" y="5661000"/>
            <a:ext cx="2317680" cy="71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andrewn\AppData\Local\Microsoft\Windows\Temporary Internet Files\Content.Outlook\CV43P2CM\UK AID - Standard - 4C.jpg"/>
          <p:cNvPicPr/>
          <p:nvPr/>
        </p:nvPicPr>
        <p:blipFill>
          <a:blip r:embed="rId2"/>
          <a:stretch/>
        </p:blipFill>
        <p:spPr>
          <a:xfrm>
            <a:off x="324000" y="5373720"/>
            <a:ext cx="10792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DKN_English_Additional Logo_Orange.jpg"/>
          <p:cNvPicPr/>
          <p:nvPr/>
        </p:nvPicPr>
        <p:blipFill>
          <a:blip r:embed="rId3"/>
          <a:stretch/>
        </p:blipFill>
        <p:spPr>
          <a:xfrm>
            <a:off x="395280" y="260280"/>
            <a:ext cx="793800" cy="85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\\ushers\andrewn\CCAFS logo\ccafs_new_logo_rgb-250px.png"/>
          <p:cNvPicPr/>
          <p:nvPr/>
        </p:nvPicPr>
        <p:blipFill>
          <a:blip r:embed="rId4"/>
          <a:stretch/>
        </p:blipFill>
        <p:spPr>
          <a:xfrm>
            <a:off x="3708360" y="260280"/>
            <a:ext cx="1905120" cy="57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Acting on what we know and how we learn for climate and development policy</a:t>
            </a:r>
            <a:br>
              <a:rPr sz="1800"/>
            </a:b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835280" y="765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9640" y="5084640"/>
            <a:ext cx="8282160" cy="935280"/>
            <a:chOff x="539640" y="5084640"/>
            <a:chExt cx="8282160" cy="935280"/>
          </a:xfrm>
        </p:grpSpPr>
        <p:sp>
          <p:nvSpPr>
            <p:cNvPr id="92" name="AutoShape 10"/>
            <p:cNvSpPr/>
            <p:nvPr/>
          </p:nvSpPr>
          <p:spPr>
            <a:xfrm>
              <a:off x="539640" y="5084640"/>
              <a:ext cx="2421360" cy="935280"/>
            </a:xfrm>
            <a:custGeom>
              <a:avLst/>
              <a:gdLst>
                <a:gd name="textAreaLeft" fmla="*/ 0 w 2421360"/>
                <a:gd name="textAreaRight" fmla="*/ 2421720 w 2421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Sh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2399040" y="5084640"/>
              <a:ext cx="2419200" cy="93528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Refl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2"/>
            <p:cNvSpPr/>
            <p:nvPr/>
          </p:nvSpPr>
          <p:spPr>
            <a:xfrm>
              <a:off x="4255560" y="5084640"/>
              <a:ext cx="2723760" cy="93528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Next Ste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6404400" y="5084640"/>
              <a:ext cx="2417400" cy="93528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A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for a confer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 mass of organisations taking stock of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(about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what w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76364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87280" y="98100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knowledge counts?  Pete &amp; A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rs, translators and intermediaries – Fatema and B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 from climate change evaluations in and between organizations Rob &amp; G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events and disaster risk reduction Terry &amp; Ca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763640" y="260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Organisation of 2-day conference diagram"/>
          <p:cNvPicPr/>
          <p:nvPr/>
        </p:nvPicPr>
        <p:blipFill>
          <a:blip r:embed="rId1"/>
          <a:srcRect l="15253" t="8188" r="15066" b="60969"/>
          <a:stretch/>
        </p:blipFill>
        <p:spPr>
          <a:xfrm>
            <a:off x="611280" y="3645000"/>
            <a:ext cx="3490920" cy="28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2" name="Picture 7" descr="Organisation of 2-day conference diagram"/>
          <p:cNvPicPr/>
          <p:nvPr/>
        </p:nvPicPr>
        <p:blipFill>
          <a:blip r:embed="rId2"/>
          <a:srcRect l="10552" t="45035" r="9981" b="8661"/>
          <a:stretch/>
        </p:blipFill>
        <p:spPr>
          <a:xfrm>
            <a:off x="5508720" y="3357720"/>
            <a:ext cx="3078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implified_MTF_TripleLoop_Diagram.png"/>
          <p:cNvPicPr/>
          <p:nvPr/>
        </p:nvPicPr>
        <p:blipFill>
          <a:blip r:embed="rId1"/>
          <a:stretch/>
        </p:blipFill>
        <p:spPr>
          <a:xfrm>
            <a:off x="900000" y="1341360"/>
            <a:ext cx="7347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Opportunities for interaction</a:t>
            </a: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inar (Th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Unless knowledge is communicated, people will continue to ask: What do you mean by knowledge or knowledge management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(Charles Dhe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1042920" y="177336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9"/>
          <a:stretch/>
        </p:blipFill>
        <p:spPr>
          <a:xfrm>
            <a:off x="971640" y="4797360"/>
            <a:ext cx="304776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10"/>
          <a:stretch/>
        </p:blipFill>
        <p:spPr>
          <a:xfrm>
            <a:off x="5508720" y="1197000"/>
            <a:ext cx="2485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You can also feed back through: </a:t>
            </a:r>
            <a:br>
              <a:rPr sz="2000"/>
            </a:b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itter - #climate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ki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sl.wikispaces.com/201303_IDSclimate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8:52Z</dcterms:created>
  <dc:creator>Andrew Newsham</dc:creator>
  <dc:description/>
  <dc:language>en-US</dc:language>
  <cp:lastModifiedBy>Andrew Newsham</cp:lastModifiedBy>
  <dcterms:modified xsi:type="dcterms:W3CDTF">2013-03-05T08:49:00Z</dcterms:modified>
  <cp:revision>18</cp:revision>
  <dc:subject/>
  <dc:title>Acting on what we know and how we learn for climate and development policy</dc:title>
</cp:coreProperties>
</file>