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18ABE-2853-4744-9EC5-87FD9E6AA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CA66-C7A6-48D0-9579-BBAAE5B2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135CD-3AFD-490B-AFB5-7A36201F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4B45D-ABF3-456B-83C1-72645FB61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E7D35-75FB-45B0-81CD-44984886A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871AB-18AA-4C26-9F85-970E027A7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3647D-0782-4490-9395-20CE3F9F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B128D-0243-48A7-8E2E-CB69EB66A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45A7C-4DB7-4E1A-988E-3D31749E1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97588-A150-42A3-B0AF-9553ADE33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C5A78-B098-4BE5-AD29-001A58BC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9C81-9432-4D06-8EF3-30542F7A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F765C-84BD-41B5-A406-0252E1FA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BFAC-2F94-4A49-9385-7DDE56B5B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2881C-B4F1-4486-8495-202C0F0DA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8C2DE-9453-424D-BE24-1F2F5BAD2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04FC6-B5D6-4FC8-93B4-C5DB92C87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42DC21-4CD7-498E-9EC4-83D3556052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F61E7-323B-41A1-A9D5-1DBC8FF81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C050E-7791-4414-9249-3D3E059AD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B7F31-6064-4BF8-BE3A-81B2EDBA4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BB9D5-7A19-486F-AA71-CF4DEECA1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5DA2F-8E5E-46C4-BAD8-C69AA40B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D2352-E3F8-4531-A5DB-DE3CA2835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48172-3AD5-44E0-B36C-FDB5A0971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80F06-9838-4BFB-A6C8-D662ADE50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FD782-998A-4A54-891C-9561F418F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6FAA1-948F-4979-A89C-B14729A76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E64CFB-0ABC-4945-96C5-26A9C155A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36390-EC6A-44FB-A21F-75A279A1D3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BAA535-7917-4150-95C8-E7BAC5DE2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EBCCA-F16C-4B65-AC9D-C6093F842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F4D65-92F1-41DD-A26A-FADEAF496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570DB-BA60-4534-87A8-86D1ECC12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B0861-ED53-45F7-9FA3-F6388A28A9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A7602-1093-4743-9109-535B6E845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08BA7-4E83-46C4-884A-8CB14BEF3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037BE-5DA1-4556-B81B-8D35275F5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BDA68-06D7-49B9-AFA1-D2D3B6017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374EA-3682-4CA6-BF1D-F3BA58713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D5045-AB95-4D4A-AF90-222CF0AB4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2D9EFA-FAEC-4BEC-98CE-2C80DF7636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8C26E-16D8-4590-AF18-B0EC50DF8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1E2EF1-57CC-4406-8C17-8AA930D21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9B33-A97F-47D9-831D-2848D10F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1918A-4202-46A0-B8E0-5A187959E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79FE2E-D5E7-40AB-83E8-71A0933AC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ADFE7D-9A45-46F6-80FE-3B3AA0573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C0243-7267-46AF-A6D2-DC9966825A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67C37-A127-4E22-B421-B6EC9FD4E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E235F-3FAC-4410-A85F-A9D7FBFA3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23CDE-5101-4D1E-B0E2-F3556E984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4015A-EA6B-4B43-AECE-316BAFE3B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C3DFF-7549-413C-96A2-239631C21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203E8-4247-4F7B-A86D-D6D7F9F7BE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DAC41-F4E5-485F-97E8-901C23608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4CBCCD-5D92-4BF8-85E5-0020397664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C225-B1E7-45FE-8753-E24BBE63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C34E-D7C6-4B31-AA7C-E7A0A1E0E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6211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8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91728-E1D2-47F3-8D1D-55E807A25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498D-13EA-4F14-91F5-84FBAFD6FC8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064B-C44B-48FE-90B6-3315E96957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0D57-755F-44E2-9D1F-C617D7976AD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EC68-7BF3-4FEF-ACC2-5517D90E9C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custGeom>
            <a:avLst/>
            <a:gdLst/>
            <a:ahLst/>
            <a:rect l="l" t="t" r="r" b="b"/>
            <a:pathLst>
              <a:path w="17280" h="12132">
                <a:moveTo>
                  <a:pt x="17280" y="12123"/>
                </a:moveTo>
                <a:lnTo>
                  <a:pt x="0" y="12132"/>
                </a:lnTo>
                <a:lnTo>
                  <a:pt x="2" y="4163"/>
                </a:lnTo>
                <a:lnTo>
                  <a:pt x="262" y="3633"/>
                </a:lnTo>
                <a:lnTo>
                  <a:pt x="567" y="3147"/>
                </a:lnTo>
                <a:lnTo>
                  <a:pt x="912" y="2704"/>
                </a:lnTo>
                <a:lnTo>
                  <a:pt x="1295" y="2299"/>
                </a:lnTo>
                <a:lnTo>
                  <a:pt x="1714" y="1931"/>
                </a:lnTo>
                <a:lnTo>
                  <a:pt x="2166" y="1602"/>
                </a:lnTo>
                <a:lnTo>
                  <a:pt x="2649" y="1308"/>
                </a:lnTo>
                <a:lnTo>
                  <a:pt x="3160" y="1048"/>
                </a:lnTo>
                <a:lnTo>
                  <a:pt x="3696" y="820"/>
                </a:lnTo>
                <a:lnTo>
                  <a:pt x="4255" y="623"/>
                </a:lnTo>
                <a:lnTo>
                  <a:pt x="4835" y="457"/>
                </a:lnTo>
                <a:lnTo>
                  <a:pt x="5433" y="319"/>
                </a:lnTo>
                <a:lnTo>
                  <a:pt x="6047" y="207"/>
                </a:lnTo>
                <a:lnTo>
                  <a:pt x="6673" y="121"/>
                </a:lnTo>
                <a:lnTo>
                  <a:pt x="7311" y="59"/>
                </a:lnTo>
                <a:lnTo>
                  <a:pt x="7955" y="19"/>
                </a:lnTo>
                <a:lnTo>
                  <a:pt x="8605" y="0"/>
                </a:lnTo>
                <a:lnTo>
                  <a:pt x="9259" y="1"/>
                </a:lnTo>
                <a:lnTo>
                  <a:pt x="9911" y="20"/>
                </a:lnTo>
                <a:lnTo>
                  <a:pt x="10562" y="55"/>
                </a:lnTo>
                <a:lnTo>
                  <a:pt x="11209" y="107"/>
                </a:lnTo>
                <a:lnTo>
                  <a:pt x="11848" y="172"/>
                </a:lnTo>
                <a:lnTo>
                  <a:pt x="12477" y="250"/>
                </a:lnTo>
                <a:lnTo>
                  <a:pt x="13094" y="338"/>
                </a:lnTo>
                <a:lnTo>
                  <a:pt x="13695" y="435"/>
                </a:lnTo>
                <a:lnTo>
                  <a:pt x="14280" y="542"/>
                </a:lnTo>
                <a:lnTo>
                  <a:pt x="14845" y="655"/>
                </a:lnTo>
                <a:lnTo>
                  <a:pt x="15387" y="772"/>
                </a:lnTo>
                <a:lnTo>
                  <a:pt x="15904" y="894"/>
                </a:lnTo>
                <a:lnTo>
                  <a:pt x="16393" y="1019"/>
                </a:lnTo>
                <a:lnTo>
                  <a:pt x="16853" y="1144"/>
                </a:lnTo>
                <a:lnTo>
                  <a:pt x="17280" y="1268"/>
                </a:lnTo>
                <a:lnTo>
                  <a:pt x="17280" y="1980"/>
                </a:lnTo>
                <a:lnTo>
                  <a:pt x="17280" y="2678"/>
                </a:lnTo>
                <a:lnTo>
                  <a:pt x="17280" y="3364"/>
                </a:lnTo>
                <a:lnTo>
                  <a:pt x="17280" y="4043"/>
                </a:lnTo>
                <a:lnTo>
                  <a:pt x="17280" y="4712"/>
                </a:lnTo>
                <a:lnTo>
                  <a:pt x="17280" y="5377"/>
                </a:lnTo>
                <a:lnTo>
                  <a:pt x="17280" y="6038"/>
                </a:lnTo>
                <a:lnTo>
                  <a:pt x="17280" y="6696"/>
                </a:lnTo>
                <a:lnTo>
                  <a:pt x="17280" y="7355"/>
                </a:lnTo>
                <a:lnTo>
                  <a:pt x="17280" y="8015"/>
                </a:lnTo>
                <a:lnTo>
                  <a:pt x="17280" y="8680"/>
                </a:lnTo>
                <a:lnTo>
                  <a:pt x="17280" y="9350"/>
                </a:lnTo>
                <a:lnTo>
                  <a:pt x="17280" y="10027"/>
                </a:lnTo>
                <a:lnTo>
                  <a:pt x="17280" y="10714"/>
                </a:lnTo>
                <a:lnTo>
                  <a:pt x="17280" y="11413"/>
                </a:lnTo>
                <a:lnTo>
                  <a:pt x="17280" y="12123"/>
                </a:lnTo>
                <a:close/>
              </a:path>
            </a:pathLst>
          </a:custGeom>
          <a:solidFill>
            <a:srgbClr val="5a16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9"/>
          <p:cNvSpPr/>
          <p:nvPr/>
        </p:nvSpPr>
        <p:spPr>
          <a:xfrm flipV="1">
            <a:off x="-25200" y="4889160"/>
            <a:ext cx="8839440" cy="327672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df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flipV="1">
            <a:off x="-25200" y="4785120"/>
            <a:ext cx="9144000" cy="322740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
          <p:cNvSpPr/>
          <p:nvPr/>
        </p:nvSpPr>
        <p:spPr>
          <a:xfrm>
            <a:off x="1440" y="268200"/>
            <a:ext cx="9142560" cy="176076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6"/>
          <p:cNvSpPr/>
          <p:nvPr/>
        </p:nvSpPr>
        <p:spPr>
          <a:xfrm>
            <a:off x="523800" y="190440"/>
            <a:ext cx="8620200" cy="165888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8DC0-A6FF-46F4-9FD2-8FF04E9847A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1A3D-7C19-401C-AD9A-9C07D2D5E2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custGeom>
            <a:avLst/>
            <a:gdLst/>
            <a:ahLst/>
            <a:rect l="l" t="t" r="r" b="b"/>
            <a:pathLst>
              <a:path w="17276" h="3326">
                <a:moveTo>
                  <a:pt x="17276" y="1886"/>
                </a:moveTo>
                <a:lnTo>
                  <a:pt x="16021" y="1568"/>
                </a:lnTo>
                <a:lnTo>
                  <a:pt x="14829" y="1293"/>
                </a:lnTo>
                <a:lnTo>
                  <a:pt x="13697" y="1059"/>
                </a:lnTo>
                <a:lnTo>
                  <a:pt x="12607" y="890"/>
                </a:lnTo>
                <a:lnTo>
                  <a:pt x="11579" y="742"/>
                </a:lnTo>
                <a:lnTo>
                  <a:pt x="10612" y="636"/>
                </a:lnTo>
                <a:lnTo>
                  <a:pt x="9687" y="572"/>
                </a:lnTo>
                <a:lnTo>
                  <a:pt x="8802" y="551"/>
                </a:lnTo>
                <a:lnTo>
                  <a:pt x="7979" y="551"/>
                </a:lnTo>
                <a:lnTo>
                  <a:pt x="7219" y="572"/>
                </a:lnTo>
                <a:lnTo>
                  <a:pt x="6478" y="636"/>
                </a:lnTo>
                <a:lnTo>
                  <a:pt x="5800" y="700"/>
                </a:lnTo>
                <a:lnTo>
                  <a:pt x="5163" y="806"/>
                </a:lnTo>
                <a:lnTo>
                  <a:pt x="4565" y="932"/>
                </a:lnTo>
                <a:lnTo>
                  <a:pt x="4031" y="1059"/>
                </a:lnTo>
                <a:lnTo>
                  <a:pt x="3517" y="1207"/>
                </a:lnTo>
                <a:lnTo>
                  <a:pt x="3044" y="1377"/>
                </a:lnTo>
                <a:lnTo>
                  <a:pt x="2612" y="1526"/>
                </a:lnTo>
                <a:lnTo>
                  <a:pt x="2221" y="1716"/>
                </a:lnTo>
                <a:lnTo>
                  <a:pt x="1851" y="1886"/>
                </a:lnTo>
                <a:lnTo>
                  <a:pt x="1543" y="2055"/>
                </a:lnTo>
                <a:lnTo>
                  <a:pt x="1254" y="2246"/>
                </a:lnTo>
                <a:lnTo>
                  <a:pt x="987" y="2415"/>
                </a:lnTo>
                <a:lnTo>
                  <a:pt x="781" y="2564"/>
                </a:lnTo>
                <a:lnTo>
                  <a:pt x="576" y="2733"/>
                </a:lnTo>
                <a:lnTo>
                  <a:pt x="412" y="2860"/>
                </a:lnTo>
                <a:lnTo>
                  <a:pt x="288" y="2987"/>
                </a:lnTo>
                <a:lnTo>
                  <a:pt x="164" y="3093"/>
                </a:lnTo>
                <a:lnTo>
                  <a:pt x="82" y="3199"/>
                </a:lnTo>
                <a:lnTo>
                  <a:pt x="41" y="3263"/>
                </a:lnTo>
                <a:lnTo>
                  <a:pt x="0" y="3305"/>
                </a:lnTo>
                <a:lnTo>
                  <a:pt x="0" y="3326"/>
                </a:lnTo>
                <a:lnTo>
                  <a:pt x="0" y="3305"/>
                </a:lnTo>
                <a:lnTo>
                  <a:pt x="21" y="3263"/>
                </a:lnTo>
                <a:lnTo>
                  <a:pt x="82" y="3178"/>
                </a:lnTo>
                <a:lnTo>
                  <a:pt x="164" y="3073"/>
                </a:lnTo>
                <a:lnTo>
                  <a:pt x="267" y="2945"/>
                </a:lnTo>
                <a:lnTo>
                  <a:pt x="390" y="2818"/>
                </a:lnTo>
                <a:lnTo>
                  <a:pt x="535" y="2648"/>
                </a:lnTo>
                <a:lnTo>
                  <a:pt x="720" y="2479"/>
                </a:lnTo>
                <a:lnTo>
                  <a:pt x="946" y="2289"/>
                </a:lnTo>
                <a:lnTo>
                  <a:pt x="1172" y="2097"/>
                </a:lnTo>
                <a:lnTo>
                  <a:pt x="1460" y="1886"/>
                </a:lnTo>
                <a:lnTo>
                  <a:pt x="1768" y="1696"/>
                </a:lnTo>
                <a:lnTo>
                  <a:pt x="2118" y="1483"/>
                </a:lnTo>
                <a:lnTo>
                  <a:pt x="2509" y="1271"/>
                </a:lnTo>
                <a:lnTo>
                  <a:pt x="2921" y="1081"/>
                </a:lnTo>
                <a:lnTo>
                  <a:pt x="3394" y="890"/>
                </a:lnTo>
                <a:lnTo>
                  <a:pt x="3887" y="720"/>
                </a:lnTo>
                <a:lnTo>
                  <a:pt x="4442" y="551"/>
                </a:lnTo>
                <a:lnTo>
                  <a:pt x="5018" y="403"/>
                </a:lnTo>
                <a:lnTo>
                  <a:pt x="5656" y="275"/>
                </a:lnTo>
                <a:lnTo>
                  <a:pt x="6335" y="170"/>
                </a:lnTo>
                <a:lnTo>
                  <a:pt x="7075" y="85"/>
                </a:lnTo>
                <a:lnTo>
                  <a:pt x="7836" y="22"/>
                </a:lnTo>
                <a:lnTo>
                  <a:pt x="8679" y="0"/>
                </a:lnTo>
                <a:lnTo>
                  <a:pt x="9543" y="22"/>
                </a:lnTo>
                <a:lnTo>
                  <a:pt x="10489" y="64"/>
                </a:lnTo>
                <a:lnTo>
                  <a:pt x="11476" y="149"/>
                </a:lnTo>
                <a:lnTo>
                  <a:pt x="12505" y="255"/>
                </a:lnTo>
                <a:lnTo>
                  <a:pt x="13615" y="424"/>
                </a:lnTo>
                <a:lnTo>
                  <a:pt x="14767" y="657"/>
                </a:lnTo>
                <a:lnTo>
                  <a:pt x="15980" y="911"/>
                </a:lnTo>
                <a:lnTo>
                  <a:pt x="17276" y="1229"/>
                </a:lnTo>
                <a:lnTo>
                  <a:pt x="17276" y="1251"/>
                </a:lnTo>
                <a:lnTo>
                  <a:pt x="17276" y="1293"/>
                </a:lnTo>
                <a:lnTo>
                  <a:pt x="17276" y="1356"/>
                </a:lnTo>
                <a:lnTo>
                  <a:pt x="17276" y="1441"/>
                </a:lnTo>
                <a:lnTo>
                  <a:pt x="17276" y="1547"/>
                </a:lnTo>
                <a:lnTo>
                  <a:pt x="17276" y="1696"/>
                </a:lnTo>
                <a:lnTo>
                  <a:pt x="17276" y="1886"/>
                </a:ln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
          <p:cNvSpPr/>
          <p:nvPr/>
        </p:nvSpPr>
        <p:spPr>
          <a:xfrm>
            <a:off x="533520" y="322200"/>
            <a:ext cx="8610480" cy="1582920"/>
          </a:xfrm>
          <a:custGeom>
            <a:avLst/>
            <a:gdLst/>
            <a:ahLst/>
            <a:rect l="l" t="t" r="r" b="b"/>
            <a:pathLst>
              <a:path w="16289" h="3135">
                <a:moveTo>
                  <a:pt x="16289" y="1780"/>
                </a:moveTo>
                <a:lnTo>
                  <a:pt x="15096" y="1483"/>
                </a:lnTo>
                <a:lnTo>
                  <a:pt x="13985" y="1229"/>
                </a:lnTo>
                <a:lnTo>
                  <a:pt x="12916" y="1017"/>
                </a:lnTo>
                <a:lnTo>
                  <a:pt x="11888" y="826"/>
                </a:lnTo>
                <a:lnTo>
                  <a:pt x="10921" y="699"/>
                </a:lnTo>
                <a:lnTo>
                  <a:pt x="9996" y="615"/>
                </a:lnTo>
                <a:lnTo>
                  <a:pt x="9132" y="551"/>
                </a:lnTo>
                <a:lnTo>
                  <a:pt x="8309" y="509"/>
                </a:lnTo>
                <a:lnTo>
                  <a:pt x="7528" y="509"/>
                </a:lnTo>
                <a:lnTo>
                  <a:pt x="6808" y="551"/>
                </a:lnTo>
                <a:lnTo>
                  <a:pt x="6109" y="593"/>
                </a:lnTo>
                <a:lnTo>
                  <a:pt x="5471" y="678"/>
                </a:lnTo>
                <a:lnTo>
                  <a:pt x="4874" y="762"/>
                </a:lnTo>
                <a:lnTo>
                  <a:pt x="4319" y="868"/>
                </a:lnTo>
                <a:lnTo>
                  <a:pt x="3785" y="996"/>
                </a:lnTo>
                <a:lnTo>
                  <a:pt x="3312" y="1144"/>
                </a:lnTo>
                <a:lnTo>
                  <a:pt x="2859" y="1293"/>
                </a:lnTo>
                <a:lnTo>
                  <a:pt x="2468" y="1441"/>
                </a:lnTo>
                <a:lnTo>
                  <a:pt x="2098" y="1610"/>
                </a:lnTo>
                <a:lnTo>
                  <a:pt x="1748" y="1780"/>
                </a:lnTo>
                <a:lnTo>
                  <a:pt x="1440" y="1949"/>
                </a:lnTo>
                <a:lnTo>
                  <a:pt x="1172" y="2119"/>
                </a:lnTo>
                <a:lnTo>
                  <a:pt x="947" y="2267"/>
                </a:lnTo>
                <a:lnTo>
                  <a:pt x="720" y="2415"/>
                </a:lnTo>
                <a:lnTo>
                  <a:pt x="556" y="2563"/>
                </a:lnTo>
                <a:lnTo>
                  <a:pt x="391" y="2712"/>
                </a:lnTo>
                <a:lnTo>
                  <a:pt x="267" y="2818"/>
                </a:lnTo>
                <a:lnTo>
                  <a:pt x="165" y="2924"/>
                </a:lnTo>
                <a:lnTo>
                  <a:pt x="83" y="3008"/>
                </a:lnTo>
                <a:lnTo>
                  <a:pt x="41" y="3072"/>
                </a:lnTo>
                <a:lnTo>
                  <a:pt x="0" y="3114"/>
                </a:lnTo>
                <a:lnTo>
                  <a:pt x="0" y="3135"/>
                </a:lnTo>
                <a:lnTo>
                  <a:pt x="0" y="3114"/>
                </a:lnTo>
                <a:lnTo>
                  <a:pt x="21" y="3072"/>
                </a:lnTo>
                <a:lnTo>
                  <a:pt x="83" y="2987"/>
                </a:lnTo>
                <a:lnTo>
                  <a:pt x="144" y="2902"/>
                </a:lnTo>
                <a:lnTo>
                  <a:pt x="247" y="2776"/>
                </a:lnTo>
                <a:lnTo>
                  <a:pt x="370" y="2648"/>
                </a:lnTo>
                <a:lnTo>
                  <a:pt x="515" y="2500"/>
                </a:lnTo>
                <a:lnTo>
                  <a:pt x="679" y="2331"/>
                </a:lnTo>
                <a:lnTo>
                  <a:pt x="885" y="2161"/>
                </a:lnTo>
                <a:lnTo>
                  <a:pt x="1111" y="1970"/>
                </a:lnTo>
                <a:lnTo>
                  <a:pt x="1379" y="1780"/>
                </a:lnTo>
                <a:lnTo>
                  <a:pt x="1666" y="1589"/>
                </a:lnTo>
                <a:lnTo>
                  <a:pt x="1995" y="1399"/>
                </a:lnTo>
                <a:lnTo>
                  <a:pt x="2366" y="1207"/>
                </a:lnTo>
                <a:lnTo>
                  <a:pt x="2757" y="1017"/>
                </a:lnTo>
                <a:lnTo>
                  <a:pt x="3188" y="848"/>
                </a:lnTo>
                <a:lnTo>
                  <a:pt x="3661" y="678"/>
                </a:lnTo>
                <a:lnTo>
                  <a:pt x="4176" y="529"/>
                </a:lnTo>
                <a:lnTo>
                  <a:pt x="4731" y="381"/>
                </a:lnTo>
                <a:lnTo>
                  <a:pt x="5327" y="254"/>
                </a:lnTo>
                <a:lnTo>
                  <a:pt x="5985" y="170"/>
                </a:lnTo>
                <a:lnTo>
                  <a:pt x="6664" y="84"/>
                </a:lnTo>
                <a:lnTo>
                  <a:pt x="7404" y="42"/>
                </a:lnTo>
                <a:lnTo>
                  <a:pt x="8165" y="0"/>
                </a:lnTo>
                <a:lnTo>
                  <a:pt x="9009" y="22"/>
                </a:lnTo>
                <a:lnTo>
                  <a:pt x="9893" y="64"/>
                </a:lnTo>
                <a:lnTo>
                  <a:pt x="10818" y="127"/>
                </a:lnTo>
                <a:lnTo>
                  <a:pt x="11806" y="254"/>
                </a:lnTo>
                <a:lnTo>
                  <a:pt x="12834" y="403"/>
                </a:lnTo>
                <a:lnTo>
                  <a:pt x="13924" y="615"/>
                </a:lnTo>
                <a:lnTo>
                  <a:pt x="15075" y="868"/>
                </a:lnTo>
                <a:lnTo>
                  <a:pt x="16289" y="1165"/>
                </a:lnTo>
                <a:lnTo>
                  <a:pt x="16289" y="1186"/>
                </a:lnTo>
                <a:lnTo>
                  <a:pt x="16289" y="1229"/>
                </a:lnTo>
                <a:lnTo>
                  <a:pt x="16289" y="1271"/>
                </a:lnTo>
                <a:lnTo>
                  <a:pt x="16289" y="1355"/>
                </a:lnTo>
                <a:lnTo>
                  <a:pt x="16289" y="1461"/>
                </a:lnTo>
                <a:lnTo>
                  <a:pt x="16289" y="1610"/>
                </a:lnTo>
                <a:lnTo>
                  <a:pt x="16289" y="1780"/>
                </a:ln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8"/>
          <p:cNvSpPr/>
          <p:nvPr/>
        </p:nvSpPr>
        <p:spPr>
          <a:xfrm>
            <a:off x="-9360" y="4572000"/>
            <a:ext cx="9153360" cy="2309760"/>
          </a:xfrm>
          <a:custGeom>
            <a:avLst/>
            <a:gdLst/>
            <a:ahLst/>
            <a:rect l="l" t="t" r="r" b="b"/>
            <a:pathLst>
              <a:path w="9154274" h="2476072">
                <a:moveTo>
                  <a:pt x="0" y="1202077"/>
                </a:moveTo>
                <a:cubicBezTo>
                  <a:pt x="875016" y="1451225"/>
                  <a:pt x="2273156" y="1880171"/>
                  <a:pt x="3996647" y="1890445"/>
                </a:cubicBezTo>
                <a:cubicBezTo>
                  <a:pt x="7798941" y="1960652"/>
                  <a:pt x="8793822" y="505146"/>
                  <a:pt x="9154274" y="0"/>
                </a:cubicBezTo>
                <a:lnTo>
                  <a:pt x="9154274" y="2476072"/>
                </a:lnTo>
                <a:lnTo>
                  <a:pt x="0" y="2455524"/>
                </a:lnTo>
                <a:cubicBezTo>
                  <a:pt x="3425" y="2027434"/>
                  <a:pt x="6849" y="1599344"/>
                  <a:pt x="0" y="1202077"/>
                </a:cubicBezTo>
                <a:close/>
              </a:path>
            </a:pathLst>
          </a:custGeom>
          <a:solidFill>
            <a:srgbClr val="5a160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reeform 9"/>
          <p:cNvSpPr/>
          <p:nvPr/>
        </p:nvSpPr>
        <p:spPr>
          <a:xfrm flipV="1">
            <a:off x="0" y="4113720"/>
            <a:ext cx="8991720" cy="380988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beb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
          <p:cNvSpPr/>
          <p:nvPr/>
        </p:nvSpPr>
        <p:spPr>
          <a:xfrm flipV="1">
            <a:off x="0" y="4570920"/>
            <a:ext cx="9144000" cy="3251160"/>
          </a:xfrm>
          <a:custGeom>
            <a:avLst/>
            <a:gdLst/>
            <a:ahLst/>
            <a:rect l="l" t="t" r="r" b="b"/>
            <a:pathLst>
              <a:path w="6913" h="3360">
                <a:moveTo>
                  <a:pt x="0" y="2527"/>
                </a:moveTo>
                <a:cubicBezTo>
                  <a:pt x="5458" y="360"/>
                  <a:pt x="6913" y="3360"/>
                  <a:pt x="6913" y="3360"/>
                </a:cubicBezTo>
                <a:cubicBezTo>
                  <a:pt x="6913" y="3360"/>
                  <a:pt x="5593" y="0"/>
                  <a:pt x="0" y="2144"/>
                </a:cubicBezTo>
                <a:cubicBezTo>
                  <a:pt x="0" y="2144"/>
                  <a:pt x="0" y="2197"/>
                  <a:pt x="0" y="2527"/>
                </a:cubicBezTo>
                <a:close/>
              </a:path>
            </a:pathLst>
          </a:custGeom>
          <a:solidFill>
            <a:srgbClr val="f5c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7DD3-41B2-461F-B367-0418C128913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85A8-4DFD-499D-8875-909C3435AB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62110"/>
                </a:solidFill>
                <a:latin typeface="Calibri"/>
              </a:rPr>
              <a:t>Click to edit the title text format</a:t>
            </a:r>
            <a:endParaRPr b="0" lang="en-US" sz="3600" spc="-1" strike="noStrike">
              <a:solidFill>
                <a:srgbClr val="86211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Click to edit the outline text format</a:t>
            </a:r>
            <a:endParaRPr b="0" lang="en-US" sz="2400" spc="-1" strike="noStrike">
              <a:solidFill>
                <a:srgbClr val="6e84b4"/>
              </a:solidFill>
              <a:latin typeface="Calibri"/>
            </a:endParaRPr>
          </a:p>
          <a:p>
            <a:pPr lvl="1" marL="743040" indent="-28584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cond Outline Level</a:t>
            </a:r>
            <a:endParaRPr b="0" lang="en-US" sz="2400" spc="-1" strike="noStrike">
              <a:solidFill>
                <a:srgbClr val="6e84b4"/>
              </a:solidFill>
              <a:latin typeface="Calibri"/>
            </a:endParaRPr>
          </a:p>
          <a:p>
            <a:pPr lvl="2" marL="11430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Third Outline Level</a:t>
            </a:r>
            <a:endParaRPr b="0" lang="en-US" sz="2400" spc="-1" strike="noStrike">
              <a:solidFill>
                <a:srgbClr val="6e84b4"/>
              </a:solidFill>
              <a:latin typeface="Calibri"/>
            </a:endParaRPr>
          </a:p>
          <a:p>
            <a:pPr lvl="3" marL="16002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ourth Outline Level</a:t>
            </a:r>
            <a:endParaRPr b="0" lang="en-US" sz="2400" spc="-1" strike="noStrike">
              <a:solidFill>
                <a:srgbClr val="6e84b4"/>
              </a:solidFill>
              <a:latin typeface="Calibri"/>
            </a:endParaRPr>
          </a:p>
          <a:p>
            <a:pPr lvl="4" marL="2057400" indent="-228600">
              <a:spcBef>
                <a:spcPts val="601"/>
              </a:spcBef>
              <a:buClr>
                <a:srgbClr val="6e8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Fifth Outline Level</a:t>
            </a:r>
            <a:endParaRPr b="0" lang="en-US" sz="2400" spc="-1" strike="noStrike">
              <a:solidFill>
                <a:srgbClr val="6e84b4"/>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ixth Outline Level</a:t>
            </a:r>
            <a:endParaRPr b="0" lang="en-US" sz="2400" spc="-1" strike="noStrike">
              <a:solidFill>
                <a:srgbClr val="6e84b4"/>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84b4"/>
                </a:solidFill>
                <a:latin typeface="Calibri"/>
              </a:rPr>
              <a:t>Seventh Outline Level</a:t>
            </a:r>
            <a:endParaRPr b="0" lang="en-US" sz="2400" spc="-1" strike="noStrike">
              <a:solidFill>
                <a:srgbClr val="6e84b4"/>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539D-CBC1-4772-8886-3EE9537766A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AA8D-8B22-41DF-A6AC-8A35A7C096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www.capri.cgiar.org/" TargetMode="External"/><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1600200"/>
            <a:ext cx="766152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Twelve Propositions for Discussion </a:t>
            </a:r>
            <a:endParaRPr b="0" lang="en-US" sz="4800" spc="-1" strike="noStrike">
              <a:solidFill>
                <a:srgbClr val="86211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C25D-FB1D-4CFD-B97B-6673304EF4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7" name="TextBox 5"/>
          <p:cNvSpPr/>
          <p:nvPr/>
        </p:nvSpPr>
        <p:spPr>
          <a:xfrm>
            <a:off x="4343400" y="4876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lian F. Gonsalves PhD.</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520" y="1447560"/>
            <a:ext cx="8534520" cy="3809880"/>
          </a:xfrm>
          <a:prstGeom prst="rect">
            <a:avLst/>
          </a:prstGeom>
          <a:noFill/>
          <a:ln w="0">
            <a:noFill/>
          </a:ln>
        </p:spPr>
        <p:txBody>
          <a:bodyPr anchor="t">
            <a:normAutofit fontScale="89000"/>
          </a:bodyPr>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a:t>
            </a:r>
            <a:r>
              <a:rPr b="0" lang="en-US" sz="2800" spc="-1" strike="noStrike">
                <a:solidFill>
                  <a:srgbClr val="000000"/>
                </a:solidFill>
                <a:latin typeface="Calibri"/>
                <a:ea typeface="Calibri"/>
              </a:rPr>
              <a:t>CCAFs has well demonstrated models to build on in its adaptive management work.</a:t>
            </a:r>
            <a:r>
              <a:rPr b="0" lang="en-US" sz="2800" spc="-1" strike="noStrike">
                <a:solidFill>
                  <a:srgbClr val="000000"/>
                </a:solidFill>
                <a:latin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1 </a:t>
            </a:r>
            <a:r>
              <a:rPr b="0" lang="en-US" sz="2800" spc="-1" strike="noStrike">
                <a:solidFill>
                  <a:srgbClr val="000000"/>
                </a:solidFill>
                <a:latin typeface="Calibri"/>
                <a:ea typeface="Calibri"/>
              </a:rPr>
              <a:t>Models for effective community engagement -of relevance to any adaptation work-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6e84b4"/>
              </a:solidFill>
              <a:latin typeface="Calibri"/>
            </a:endParaRPr>
          </a:p>
          <a:p>
            <a:pPr marL="252720" indent="-25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84b4"/>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8C09-3FFC-4FFA-9026-74EFE54444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09B1-BB1C-48A8-834B-8AC22C206F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7" name=""/>
          <p:cNvSpPr txBox="1"/>
          <p:nvPr/>
        </p:nvSpPr>
        <p:spPr>
          <a:xfrm>
            <a:off x="533160" y="1752480"/>
            <a:ext cx="7924680" cy="3733920"/>
          </a:xfrm>
          <a:prstGeom prst="rect">
            <a:avLst/>
          </a:prstGeom>
          <a:noFill/>
          <a:ln w="0">
            <a:noFill/>
          </a:ln>
        </p:spPr>
        <p:txBody>
          <a:bodyPr anchor="t">
            <a:normAutofit/>
          </a:bodyPr>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2  Efforts to address institutional issues associated with climate change can draw heavily from a rich and long tradition of research on collective action (</a:t>
            </a:r>
            <a:r>
              <a:rPr b="0" lang="en-US" sz="2800" spc="-1" strike="noStrike" u="sng">
                <a:solidFill>
                  <a:srgbClr val="d2611c"/>
                </a:solidFill>
                <a:uFillTx/>
                <a:latin typeface="Calibri"/>
                <a:ea typeface="Calibri"/>
                <a:hlinkClick r:id="rId1"/>
              </a:rPr>
              <a:t>www.capri.cgiar.org</a:t>
            </a:r>
            <a:r>
              <a:rPr b="0" lang="en-US" sz="2800" spc="-1" strike="noStrike">
                <a:solidFill>
                  <a:srgbClr val="000000"/>
                </a:solidFill>
                <a:latin typeface="Calibri"/>
                <a:ea typeface="Calibri"/>
              </a:rPr>
              <a:t>).</a:t>
            </a:r>
            <a:endParaRPr b="0" lang="en-US" sz="2800" spc="-1" strike="noStrike">
              <a:solidFill>
                <a:srgbClr val="6e84b4"/>
              </a:solidFill>
              <a:latin typeface="Calibri"/>
            </a:endParaRPr>
          </a:p>
          <a:p>
            <a:pPr marL="630360" indent="-630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9.3  Models for outscaling at the higher level have also been demonstrated through such approaches as Learning Alliances and other multistakeholder platforms. </a:t>
            </a:r>
            <a:endParaRPr b="0" lang="en-US" sz="2800" spc="-1" strike="noStrike">
              <a:solidFill>
                <a:srgbClr val="6e84b4"/>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523880"/>
            <a:ext cx="7772400" cy="41911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0. A community of practice on areas related to social learning can be considered. The compilation for wider sharing and promotion of the diverse range of field tested tools and approaches – currently widely dispersed and remaining unknown to the wider community – would be a logical early step.</a:t>
            </a:r>
            <a:endParaRPr b="0" lang="en-US" sz="3200" spc="-1" strike="noStrike">
              <a:solidFill>
                <a:srgbClr val="6e84b4"/>
              </a:solidFill>
              <a:latin typeface="Calibri"/>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E497-5049-4C5B-AD9B-4AAA1D2BB5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14400" y="1874520"/>
            <a:ext cx="7391520" cy="3382920"/>
          </a:xfrm>
          <a:prstGeom prst="rect">
            <a:avLst/>
          </a:prstGeom>
          <a:noFill/>
          <a:ln w="0">
            <a:noFill/>
          </a:ln>
        </p:spPr>
        <p:txBody>
          <a:bodyPr anchor="t">
            <a:normAutofit/>
          </a:bodyPr>
          <a:p>
            <a:pPr marL="630360" indent="-63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1. Social </a:t>
            </a:r>
            <a:r>
              <a:rPr b="0" lang="en-PH" sz="3200" spc="-1" strike="noStrike">
                <a:solidFill>
                  <a:srgbClr val="000000"/>
                </a:solidFill>
                <a:latin typeface="Calibri"/>
              </a:rPr>
              <a:t>learning in AR4D out of necessity  implies frequent, equal exposure and substantive interaction to lower level stakeholders (e.g. communities, farmer groups). Otherwise it will be business as usual</a:t>
            </a:r>
            <a:r>
              <a:rPr b="0" lang="en-US" sz="3200" spc="-1" strike="noStrike">
                <a:solidFill>
                  <a:srgbClr val="000000"/>
                </a:solidFill>
                <a:latin typeface="Calibri"/>
                <a:ea typeface="Calibri"/>
              </a:rPr>
              <a:t>. </a:t>
            </a:r>
            <a:endParaRPr b="0" lang="en-US" sz="3200" spc="-1" strike="noStrike">
              <a:solidFill>
                <a:srgbClr val="6e84b4"/>
              </a:solidFill>
              <a:latin typeface="Calibri"/>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2831-4337-4CD3-9996-88C4968657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1523880"/>
            <a:ext cx="7772400" cy="4191120"/>
          </a:xfrm>
          <a:prstGeom prst="rect">
            <a:avLst/>
          </a:prstGeom>
          <a:noFill/>
          <a:ln w="0">
            <a:noFill/>
          </a:ln>
        </p:spPr>
        <p:txBody>
          <a:bodyPr anchor="t">
            <a:normAutofit/>
          </a:bodyPr>
          <a:p>
            <a:pPr marL="630360" indent="-63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2. 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 </a:t>
            </a:r>
            <a:endParaRPr b="0" lang="en-US" sz="3200" spc="-1" strike="noStrike">
              <a:solidFill>
                <a:srgbClr val="6e84b4"/>
              </a:solidFill>
              <a:latin typeface="Calibri"/>
            </a:endParaRPr>
          </a:p>
        </p:txBody>
      </p:sp>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8637-F809-410B-95F5-584F604AFC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90720" y="1752120"/>
            <a:ext cx="7619760" cy="31244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1. The new reformed CGIAR set up, especially the CRP arrangements, is fostering inter-center collaboration, cooperation and consequently transdisciplinary research.</a:t>
            </a: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52DF-23EB-4CA5-AFB6-6E06B24CE9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61760" y="1523520"/>
            <a:ext cx="8001000" cy="4038840"/>
          </a:xfrm>
          <a:prstGeom prst="rect">
            <a:avLst/>
          </a:prstGeom>
          <a:noFill/>
          <a:ln w="0">
            <a:noFill/>
          </a:ln>
        </p:spPr>
        <p:txBody>
          <a:bodyPr anchor="t">
            <a:normAutofit fontScale="90000"/>
          </a:bodyPr>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2. Challenges posed by the current AR4D focus on poverty, food security, environment and particularly climate change are complex, multi-scale, involving a diversity of stakeholders (with different perspectives and sometimes competing interests) have resulted in a new demand for support in social learning-related areas.</a:t>
            </a:r>
            <a:endParaRPr b="0" lang="en-US" sz="3200" spc="-1" strike="noStrike">
              <a:solidFill>
                <a:srgbClr val="6e84b4"/>
              </a:solidFill>
              <a:latin typeface="Calibri"/>
            </a:endParaRPr>
          </a:p>
          <a:p>
            <a:pPr marL="363960" indent="-363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endParaRPr b="0" lang="en-US" sz="3200" spc="-1" strike="noStrike">
              <a:solidFill>
                <a:srgbClr val="6e84b4"/>
              </a:solidFill>
              <a:latin typeface="Calibri"/>
            </a:endParaRPr>
          </a:p>
          <a:p>
            <a:pPr marL="363960" indent="-363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19A1-6FFD-474A-9BD2-73E505C040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969840" y="1752120"/>
            <a:ext cx="7204320" cy="358164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3. Methodological innovations and new work modalities are needed to address the disciplinary boundaries and biases which still characterize some of the work of some CG centers. </a:t>
            </a:r>
            <a:endParaRPr b="0" lang="en-US" sz="3200" spc="-1" strike="noStrike">
              <a:solidFill>
                <a:srgbClr val="6e84b4"/>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7471-BA31-498D-8213-8701185E8F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1828440"/>
            <a:ext cx="7848720" cy="3505320"/>
          </a:xfrm>
          <a:prstGeom prst="rect">
            <a:avLst/>
          </a:prstGeom>
          <a:noFill/>
          <a:ln w="0">
            <a:noFill/>
          </a:ln>
        </p:spPr>
        <p:txBody>
          <a:bodyPr anchor="t">
            <a:normAutofit/>
          </a:bodyPr>
          <a:p>
            <a:pPr marL="465120" indent="-465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New modalities must recognize the value of bringing stakeholders across the RD spectrum with special emphasis on strategic and purposive integration of the Regional and National research sectors. Otherwise, it could be “business as usual”. </a:t>
            </a:r>
            <a:endParaRPr b="0" lang="en-US" sz="3200" spc="-1" strike="noStrike">
              <a:solidFill>
                <a:srgbClr val="6e84b4"/>
              </a:solidFill>
              <a:latin typeface="Calibri"/>
            </a:endParaRPr>
          </a:p>
        </p:txBody>
      </p:sp>
      <p:sp>
        <p:nvSpPr>
          <p:cNvPr id="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1A7B-DB78-41C7-97B4-975ABDC7E0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520" y="1600200"/>
            <a:ext cx="8153640" cy="403848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5. Resulting from the CRP orientation, emerging partnerships, new work arrangements, ICT tools and related increased networking provide new opportunities for demonstrating the value and eventually institutionalizing social learning approaches, </a:t>
            </a:r>
            <a:r>
              <a:rPr b="1" lang="en-US" sz="3200" spc="-1" strike="noStrike" u="sng">
                <a:solidFill>
                  <a:srgbClr val="000000"/>
                </a:solidFill>
                <a:uFillTx/>
                <a:latin typeface="Calibri"/>
                <a:ea typeface="Calibri"/>
              </a:rPr>
              <a:t>provided</a:t>
            </a:r>
            <a:r>
              <a:rPr b="0" lang="en-US" sz="3200" spc="-1" strike="noStrike">
                <a:solidFill>
                  <a:srgbClr val="000000"/>
                </a:solidFill>
                <a:latin typeface="Calibri"/>
                <a:ea typeface="Calibri"/>
              </a:rPr>
              <a:t> this is done in an organized, coordinated, reflective and consultative manner.</a:t>
            </a: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84b4"/>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C334-8FC0-4CBA-A504-36FD023880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61760" y="1447920"/>
            <a:ext cx="784836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6. There is an “all time high” awareness of the limited uptake of research products and processes – the gap between R &amp; D, resulting in the wider promotion of partnership-based platforms directed primarily at demonstrating the relevance of an innovations perspective and aimed at enhancing research uptake/use. </a:t>
            </a:r>
            <a:endParaRPr b="0" lang="en-US" sz="3200" spc="-1" strike="noStrike">
              <a:solidFill>
                <a:srgbClr val="6e84b4"/>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7017-B340-47D7-8866-432F96CADC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969840" y="1828440"/>
            <a:ext cx="7336080" cy="2971800"/>
          </a:xfrm>
          <a:prstGeom prst="rect">
            <a:avLst/>
          </a:prstGeom>
          <a:noFill/>
          <a:ln w="0">
            <a:noFill/>
          </a:ln>
        </p:spPr>
        <p:txBody>
          <a:bodyPr anchor="t">
            <a:normAutofit/>
          </a:bodyPr>
          <a:p>
            <a:pPr marL="404640" indent="-404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7. The social and institutional issues associated with climate change research in the AR4D sector have many similarities with past CG efforts in natural resources management  research. </a:t>
            </a:r>
            <a:endParaRPr b="0" lang="en-US" sz="3200" spc="-1" strike="noStrike">
              <a:solidFill>
                <a:srgbClr val="6e84b4"/>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0C50-BD68-4541-B63F-0FF96D6DA5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969840" y="1523520"/>
            <a:ext cx="7204320" cy="4496040"/>
          </a:xfrm>
          <a:prstGeom prst="rect">
            <a:avLst/>
          </a:prstGeom>
          <a:noFill/>
          <a:ln w="0">
            <a:noFill/>
          </a:ln>
        </p:spPr>
        <p:txBody>
          <a:bodyPr anchor="t">
            <a:normAutofit/>
          </a:bodyPr>
          <a:p>
            <a:pPr marL="404640" indent="-40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8. 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6e84b4"/>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12B2-E7AA-4847-BF38-8C48E8DB4C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LeBorgne, Ewen (ILRI)</cp:lastModifiedBy>
  <dcterms:modified xsi:type="dcterms:W3CDTF">2013-02-19T09:12:40Z</dcterms:modified>
  <cp:revision>150</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