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FEA9-39F4-4BAA-9B40-B6F2869E5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75CA-BC78-410F-A0CF-2791F120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A804-4B0B-4C0E-83CA-90B5DA32A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2347-1F72-4AC5-AEEA-18A1202CB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5D75-AEA0-4CB4-9396-73350986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821F-76F2-4E47-8F1D-74A54BA4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57F9-63C9-4285-AE98-8B89AF8F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2DAA-DFD8-4933-9D62-5B422A85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2995-BC07-4A12-816C-7D521348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D703-BEE5-4865-ADF7-1C877CD1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A213-B84E-46C5-A82E-24EC8222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4F5D-E9B9-4B03-B904-51FBB042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833A-6196-407F-9975-094DD345ED1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 5: Time Sc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y?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daptive capacity will be limited if long-term changes are not consid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How do long term changes relate to the time horizons of different acto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Long-term considerations should be addressed through short-term incentives of relevance and interest to stakeholders for their eng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heory of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xample of a tool to enrich existing projects through social learning processes and make them more effective by connecting short-term relevance to longer term understanding of climate change and ability to adap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ime horizons evaluation to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): Commission research into time horizons building on state of the art (risk management, psychology, behavioural economic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otivations frame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ission research building in short term motivations and goals. Applied at the project level with stakeholders learning from each oth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valuating chan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incentives and evaluate effectiveness in behaviour change over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ticipated outco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s better linked to stakeholder needs as well as short/medium term development objec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ort term responses linked to long term adaptation understanding and behaviour change to improve adaptive capac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5:54:51Z</dcterms:created>
  <dc:creator>eleborgne</dc:creator>
  <dc:description/>
  <dc:language>en-US</dc:language>
  <cp:lastModifiedBy>eleborgne</cp:lastModifiedBy>
  <dcterms:modified xsi:type="dcterms:W3CDTF">2012-05-10T12:02:58Z</dcterms:modified>
  <cp:revision>51</cp:revision>
  <dc:subject/>
  <dc:title>Action planning work Tuesday</dc:title>
</cp:coreProperties>
</file>