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5CEB-D734-4979-B349-33C9FE726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BBD8-3A0C-4E97-AE38-075912328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F797-B1F3-4B78-9168-DA7C68B2F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FC25-5A23-43F6-9DEF-A139A664C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9624-C767-4105-965E-C01F0DED9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30EB-EE91-4F4B-8FB5-26B2FEBF3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E052-92D5-42C9-9AFB-FCC2C01F1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B45B-4E81-48E5-897C-B74EBE7CA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D8EA-B0A6-4742-925F-F94D4C189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6CC0-B41F-4590-87BA-E81B706E8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3539-F15B-42DC-BB83-912324208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5A4B-260D-4E37-953C-E803D4CEF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4E3CD-BA3B-44EE-A15F-F8D5096B5B35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ange 5: Time Sca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95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Why?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daptive capacity will be limited if long-term changes are not consider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How?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How do long term changes relate to the time horizons of different actor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What?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Long-term considerations should be addressed through short-term incentives of relevance and interest to stakeholders for their engag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heory of chan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Example of a tool to enrich existing projects through social learning processes and make them more effective by connecting short-term relevance to longer term understanding of climate change and ability to adap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54936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Activiti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Time horizons evaluation too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): Commission research into time horizons building on state of the art (risk management, psychology, behavioural economic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Motivations framework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ommission research building in short term motivations and goals. Applied at the project level with stakeholders learning from each othe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Evaluating chang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pply incentives and evaluate effectiveness in behaviour change over ti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nticipated outcom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jects better linked to stakeholder needs as well as short/medium term development objectiv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hort term responses linked to long term adaptation understanding and behaviour change to improve adaptive capac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9T05:54:51Z</dcterms:created>
  <dc:creator>eleborgne</dc:creator>
  <dc:description/>
  <dc:language>en-US</dc:language>
  <cp:lastModifiedBy>eleborgne</cp:lastModifiedBy>
  <dcterms:modified xsi:type="dcterms:W3CDTF">2012-05-10T12:02:58Z</dcterms:modified>
  <cp:revision>51</cp:revision>
  <dc:subject/>
  <dc:title>Action planning work Tuesday</dc:title>
</cp:coreProperties>
</file>