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F1E-240F-4C9A-BADC-8A972AC4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9D0-67C4-4926-BCDA-858BB64F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AE9-6833-4385-9C58-791B7552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115-46CF-4688-85C0-2DC8883F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E6C-771B-47EB-9871-184F8755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EEA-8588-48AC-B22C-DD151578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69B-738C-40BE-B1CA-FF6529B1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621-4477-419F-95CE-0E0EE781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3F9-2EF3-411F-9599-FBDF067A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708-952F-46A7-86CC-B79743D3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FE5-732C-4E8C-8225-FA692B8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4DC-C782-49F2-85D1-6DA5F19E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B5EC-654A-46B5-A2D7-FB807DC19E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5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?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aptive capacity will be limited if long-term changes are not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ow do long term changes relate to the time horizons of different ac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ng-term considerations should be addressed through short-term incentives of relevance and interest to stakeholders for their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tivations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cipated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58Z</dcterms:modified>
  <cp:revision>51</cp:revision>
  <dc:subject/>
  <dc:title>Action planning work Tuesday</dc:title>
</cp:coreProperties>
</file>