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770C-E208-4119-AAC3-CFEC888E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25B-AF19-4C55-9FF6-4F8C611D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84D-04C3-4F1D-B936-4265DF13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480-BAB6-4864-953A-5E3EF406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2788-7945-47C3-A523-40626B65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392-F3D9-4F43-89B8-B4E9650D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404-2EC8-416A-A364-98983651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EEC2-5F9C-41AC-921A-BAD89A9E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537-5675-4EF8-B6E5-86EAD719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1E6-263F-4ABC-9852-2D2FFB64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B82-52EB-4398-BDFF-49805915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7E5-8B51-40B7-9A61-F4693D0B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E8D4-1E33-4856-B597-E152DEFBC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1 – Catalyzing Change from Within (2012 – 201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ead: CCAFS Theme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rget Audience: CCAFS &amp; current project partn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inking social learning process to its annual Science Mee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(Social LS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2 – Facilitation (2012 – 20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Lead: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a dynamic network cutting across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dentify ways to coordinate &amp; facilitate th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ganize a working group to lead Activity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Use crowd sourc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roduce literature review on existing 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b) Phase 2 (loop 2): Research to action 2014-202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monstrate the evid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Move towards impact with partn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Funding ballpark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1 &amp; 2: $5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3: $30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9:06:21Z</dcterms:created>
  <dc:creator>Ak</dc:creator>
  <dc:description/>
  <dc:language>en-US</dc:language>
  <cp:lastModifiedBy>eleborgne</cp:lastModifiedBy>
  <dcterms:modified xsi:type="dcterms:W3CDTF">2012-05-10T12:02:14Z</dcterms:modified>
  <cp:revision>3</cp:revision>
  <dc:subject/>
  <dc:title>Social differentiation</dc:title>
</cp:coreProperties>
</file>