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F9F-0F9F-4444-A2FC-3A9ECB24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E0E-A388-4A6E-8D9F-7E52A3BD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152-6CCA-4ABA-8C8B-DA2D967B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1F7-A6C4-433D-B87E-A495CA42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A71-EF60-4BBE-AA2B-F21232F7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87C-D91A-4F6E-91B7-F93923AF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9CA-AD59-487D-8700-41B12ED7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847-61D8-46DC-8207-4CFCB01D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E27-6609-411E-8ECD-27D97FDA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D87-F5AE-4E99-9F08-B0820E8E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0D8-7032-449C-BE76-33990804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F43-5783-43A6-B28E-6D770EAA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1071-6330-4962-B1A6-D8C1EB598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1 – Catalyzing Change from Within (2012 –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ad: CCAFS Theme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 Audience: CCAFS &amp; current project partn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inking social learning process to its annual Science Me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Social LS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2 – Facilitation (2012 – 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Lead: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a dynamic network cutting across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dentify ways to coordinate &amp; facilitate th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ganize a working group to lead Activity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Use crowd sourc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roduce literature review on existing 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b) Phase 2 (loop 2): Research to action 2014-20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monstrate the evid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Move towards impact with partn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Funding ballpark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1 &amp; 2: $5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3: $30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06:21Z</dcterms:created>
  <dc:creator>Ak</dc:creator>
  <dc:description/>
  <dc:language>en-US</dc:language>
  <cp:lastModifiedBy>eleborgne</cp:lastModifiedBy>
  <dcterms:modified xsi:type="dcterms:W3CDTF">2012-05-10T12:02:14Z</dcterms:modified>
  <cp:revision>3</cp:revision>
  <dc:subject/>
  <dc:title>Social differentiation</dc:title>
</cp:coreProperties>
</file>