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00F-9FD7-45B0-B776-5CBA2E98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2B5-EA81-4165-9D4E-E1D426A7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AAB-4794-4B7F-AE4C-B333B414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742-ABED-4F7E-8007-E0AD1D7F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494-9764-4031-BC0E-A9353B6A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A2F-126D-4B04-914A-D32EBA69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3F1-D774-4291-959A-9BE21CB3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5FC-B94D-465F-B495-0F5999BB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5DC-D003-4B6A-8650-E7297572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E39-6DAE-4DF6-A9DC-C96DCFD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D5C-CB94-44B9-80DF-ACA00F00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FA4-2951-4FF6-85A0-33A67C2E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0EBE-7302-45AA-A17D-D3C4F3C31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1 – Catalyzing Change from Within (2012 –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d: CCAFS Theme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Audience: CCAFS &amp; current project part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inking social learning process to its annual Science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ocial LS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2 – Facilitation (2012 – 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d: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 dynamic network cutting across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dentify ways to coordinate &amp; facilitate th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ganize a working group to lead Activity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Use crowd sourc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roduce literature review on existing 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b) Phase 2 (loop 2): Research to action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monstrate the evid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Move towards impact with part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Funding ballpark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1 &amp; 2: $5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3: $30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06:21Z</dcterms:created>
  <dc:creator>Ak</dc:creator>
  <dc:description/>
  <dc:language>en-US</dc:language>
  <cp:lastModifiedBy>eleborgne</cp:lastModifiedBy>
  <dcterms:modified xsi:type="dcterms:W3CDTF">2012-05-10T12:02:14Z</dcterms:modified>
  <cp:revision>3</cp:revision>
  <dc:subject/>
  <dc:title>Social differentiation</dc:title>
</cp:coreProperties>
</file>