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C95B-E3AE-403F-AE65-16DCECAB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E81-1D8C-4F6C-AA7B-FC895EF9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165-B40C-47A5-9C0E-5C31F185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112-82FA-4222-8EDB-2638834A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231-6229-41C9-8080-CC2105CE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229-7434-4842-83E7-193D4A5C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CF1-06A7-4115-A208-CDE3D98D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ECFB-8E00-49CE-A5EC-E721689B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286-22AB-4FAD-96D4-0CE60E24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18EB-9E43-4385-9117-ABCB2706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45A-B05F-4540-A8EE-256A96F4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781-CB31-4563-B84E-C216E179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CE01-9EC7-4E7B-B82F-7BCB7365963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Docum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4360" y="3789360"/>
          <a:ext cx="7920000" cy="2728800"/>
        </p:xfrm>
        <a:graphic>
          <a:graphicData uri="http://schemas.openxmlformats.org/drawingml/2006/table">
            <a:tbl>
              <a:tblPr/>
              <a:tblGrid>
                <a:gridCol w="1295280"/>
                <a:gridCol w="3384360"/>
                <a:gridCol w="3240360"/>
              </a:tblGrid>
              <a:tr h="934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pecific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 “owners”, researchers, “champions”, keeping in mind social differentiation and representativ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84360" y="1557360"/>
          <a:ext cx="7991280" cy="180036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e / test social learning as a t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 researchers and policy community (and convince them) on the basis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 the practice itself – further developing the learning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4360" y="549360"/>
          <a:ext cx="7920000" cy="4119480"/>
        </p:xfrm>
        <a:graphic>
          <a:graphicData uri="http://schemas.openxmlformats.org/drawingml/2006/table">
            <a:tbl>
              <a:tblPr/>
              <a:tblGrid>
                <a:gridCol w="1366560"/>
                <a:gridCol w="1800360"/>
                <a:gridCol w="4753080"/>
              </a:tblGrid>
              <a:tr h="902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, Activities, Process, Results, Outputs, Outcome : Has SL reached its go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categories (Knowledge, Attitudes, Skills, Practi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focus: Mechanism of causality and at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: Analytical frameworks, selection of indic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84360" y="4941720"/>
          <a:ext cx="7991280" cy="144000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“owners” of each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jorge</cp:lastModifiedBy>
  <dcterms:modified xsi:type="dcterms:W3CDTF">2012-05-09T16:19:02Z</dcterms:modified>
  <cp:revision>25</cp:revision>
  <dc:subject/>
  <dc:title>Action planning work Tuesday</dc:title>
</cp:coreProperties>
</file>