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A7A5-C041-4C77-84F9-F41766530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DE01-6AA6-4DDD-9BDC-D3F59C3D7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15B-189E-48BE-A9D9-00BBFDBA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F9B-C673-47A7-9D91-008B65AC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17E-E0AB-429C-9385-8A2644A7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255-F258-4273-B56A-9B576188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1260-C340-4618-BA39-C689C9F5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05E2-E5B2-4CCF-A6C5-9FED7870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CC32-F77E-4CFE-8D84-53E54570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BF6F-AC71-45D4-AB16-633A2DFB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587C-A997-42D2-957E-69BB8536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64AF-850F-4B4F-B84A-10DC4554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C023-860D-4C0E-A222-66FB67AE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E36-458C-463A-B22C-0EC83518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6776-33CA-47D2-80D8-18781849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409B-823E-4220-BCDB-09A106B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669C-DC04-49B0-B9BF-A1BEEF25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B320-7CAE-45BA-ADC1-5643D184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D420-E271-4BF3-93EC-1648EE9C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B009-5FC2-4B1E-B9AD-7FD36859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5779-FE95-4A79-A6A3-9E5A9E9F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6847-610C-49B8-807A-87EEFF65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FA42-52A0-48AA-B818-D22456DD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0B251-F841-4C00-8507-30881C70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E85-CBEF-4730-AB0F-1743D110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2114-3290-46FD-8C6A-2AFA3461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AB92-4DD7-4E67-8C7E-1B7658FB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31338-A309-4447-8F7A-677B537F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F4B2-AEAE-4D82-B62F-3B5CC26A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FB76-AD77-4B36-AF9F-1B297BD7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E12BE-D524-4C95-8E9D-38F0E41C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65C8-28D5-4A11-B446-79337DBF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B02DC-5B05-4233-B457-FD166BCF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86EF-D395-4142-B6DF-A18398C3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F9685-5EAF-4C4A-8ACC-8789BA7E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430-04D0-4B62-8DC1-3FC5CFB4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7568-176B-4D0F-BD33-90D2CCDE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4CC1-5B2F-49D4-BE26-AAAB04AD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8695-7992-44B3-9F55-3D443AED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4A1A4-3609-4539-913A-8A687D1C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8C81-054D-4DAA-83AD-664A701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D687C-2341-4B6D-A853-25D57B90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D23A8-6DCE-4BC0-BE0C-F97A890B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53BDB-15E3-438E-A2A2-F6E68EB9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E4A04-6CA0-4E57-ACEF-07AAE521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ED8-13AF-48D9-A1E0-27BB61E5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CC8-A0BE-4C88-8829-ECBE63E7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85A-86CE-40D0-9CC0-DEC3A5B3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770-828D-48D3-B5C7-6C2B76B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99A-DE14-4C25-9FE2-D0F57546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530D-DDEE-4243-914B-3476B2A2C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F4F4-8B2C-49FF-B4E3-954910CE2D48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LOGOBAELTE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45720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192560" y="-1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pic>
        <p:nvPicPr>
          <p:cNvPr id="47" name="Picture 12" descr="LIFE"/>
          <p:cNvPicPr/>
          <p:nvPr/>
        </p:nvPicPr>
        <p:blipFill>
          <a:blip r:embed="rId3"/>
          <a:stretch/>
        </p:blipFill>
        <p:spPr>
          <a:xfrm>
            <a:off x="3352680" y="575460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GIAR"/>
          <p:cNvPicPr/>
          <p:nvPr/>
        </p:nvPicPr>
        <p:blipFill>
          <a:blip r:embed="rId4"/>
          <a:stretch/>
        </p:blipFill>
        <p:spPr>
          <a:xfrm>
            <a:off x="76320" y="5754600"/>
            <a:ext cx="793800" cy="101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IAT"/>
          <p:cNvPicPr/>
          <p:nvPr/>
        </p:nvPicPr>
        <p:blipFill>
          <a:blip r:embed="rId5"/>
          <a:stretch/>
        </p:blipFill>
        <p:spPr>
          <a:xfrm>
            <a:off x="2057400" y="5830920"/>
            <a:ext cx="1066680" cy="9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ESSP"/>
          <p:cNvPicPr/>
          <p:nvPr/>
        </p:nvPicPr>
        <p:blipFill>
          <a:blip r:embed="rId6"/>
          <a:stretch/>
        </p:blipFill>
        <p:spPr>
          <a:xfrm>
            <a:off x="990720" y="5754600"/>
            <a:ext cx="904680" cy="1017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3292560" y="60480"/>
            <a:ext cx="18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e2914"/>
                </a:solidFill>
                <a:latin typeface="Helvetica 45 Light"/>
              </a:rPr>
              <a:t>Addis Ababa, 8-10 May, 2012</a:t>
            </a:r>
            <a:endParaRPr b="0" lang="en-US" sz="10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295280" y="4038480"/>
            <a:ext cx="649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Helvetica 45 Light"/>
              </a:rPr>
              <a:t>Communication and social learning: supporting local decision making on climate change, agriculture and food security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D554-1BC9-4020-841B-67207B104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3D88-15AA-494F-83EA-F0A2E29F97FB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514C-5B94-4DD4-AAA8-0B98852522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4224-3568-42CB-A9B2-7D9D08AF1D7D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03CF-02BB-4687-89E7-F2A024FD6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6257880" y="45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3300"/>
                </a:solidFill>
                <a:latin typeface="Arial"/>
              </a:rPr>
              <a:t>Activiti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179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A dynamic Basket of Good Practices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Design, piloting &amp; launch of a baske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Innovation fun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Enabling environment…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atalysing Social Learning across CCAFS network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Facilitating the emergence of a Community of practic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Advisory group &amp;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Coaching Pane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Train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wareness Rais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 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3. 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4. Social learning</a:t>
            </a:r>
            <a:br>
              <a:rPr sz="3600"/>
            </a:b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and social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4. Social differ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1 – Catalyzing Change from Within (2012 – 2013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ead: CCAFS Theme 4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Target Audience: CCAFS &amp; current project partner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inking social learning process to its annual Science Meeting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187200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(Social LSD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2 – Facilitation (2012 – 2020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Lead: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Develop a dynamic network cutting across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dentify ways to coordinate &amp; facilitate the proces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Organize a working group to lead Activity 3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marL="312120" indent="-3121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Use crowd sourcing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Produce literature review on existing 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b) Phase 2 (loop 2): Research to action 2014-202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monstrate the evidence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Move towards impact with partner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Funding ballpark: 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1 &amp; 2: $5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3: $30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5. 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y?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daptive capacity will be limited if long-term changes are not considere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How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How do long term changes relate to the time horizons of different actors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at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Long-term considerations should be addressed through short-term incentives of relevance and interest to stakeholders for their engagemen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Theory of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e2914"/>
                </a:solidFill>
                <a:latin typeface="45 Helvetica Light"/>
              </a:rPr>
              <a:t>Activiti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Time horizons evaluation too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Motivations framework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Evaluating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2914"/>
                </a:solidFill>
                <a:latin typeface="45 Helvetica Light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2914"/>
                </a:solidFill>
                <a:latin typeface="45 Helvetica Light"/>
              </a:rPr>
              <a:t>Anticipated outcom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What’s next?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Feedback from our visitors…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>
            <a:lum bright="-6000"/>
          </a:blip>
          <a:srcRect l="935" t="1705" r="1871" b="1209"/>
          <a:stretch/>
        </p:blipFill>
        <p:spPr>
          <a:xfrm>
            <a:off x="-257040" y="19080"/>
            <a:ext cx="10424880" cy="5713560"/>
          </a:xfrm>
          <a:prstGeom prst="rect">
            <a:avLst/>
          </a:prstGeom>
          <a:ln w="9360">
            <a:solidFill>
              <a:srgbClr val="202020"/>
            </a:solidFill>
            <a:miter/>
          </a:ln>
        </p:spPr>
      </p:pic>
      <p:sp>
        <p:nvSpPr>
          <p:cNvPr id="190" name="Oval 5"/>
          <p:cNvSpPr/>
          <p:nvPr/>
        </p:nvSpPr>
        <p:spPr>
          <a:xfrm rot="601200">
            <a:off x="194760" y="74520"/>
            <a:ext cx="8948880" cy="5585040"/>
          </a:xfrm>
          <a:prstGeom prst="ellipse">
            <a:avLst/>
          </a:prstGeom>
          <a:solidFill>
            <a:srgbClr val="e6debc">
              <a:alpha val="32000"/>
            </a:srgbClr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7615080" y="2081160"/>
            <a:ext cx="1219320" cy="10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6319800" y="1471680"/>
            <a:ext cx="129528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4871880" y="1166760"/>
            <a:ext cx="1371600" cy="1206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4" name="Bent Arrow 9"/>
          <p:cNvSpPr/>
          <p:nvPr/>
        </p:nvSpPr>
        <p:spPr>
          <a:xfrm flipH="1" rot="10800000">
            <a:off x="2585880" y="2690280"/>
            <a:ext cx="2362320" cy="2514600"/>
          </a:xfrm>
          <a:custGeom>
            <a:avLst/>
            <a:gdLst/>
            <a:ahLst/>
            <a:rect l="l" t="t" r="r" b="b"/>
            <a:pathLst>
              <a:path w="2362200" h="2514600">
                <a:moveTo>
                  <a:pt x="0" y="2514600"/>
                </a:moveTo>
                <a:lnTo>
                  <a:pt x="0" y="1918780"/>
                </a:lnTo>
                <a:cubicBezTo>
                  <a:pt x="0" y="940325"/>
                  <a:pt x="793195" y="147130"/>
                  <a:pt x="1771650" y="147130"/>
                </a:cubicBezTo>
                <a:lnTo>
                  <a:pt x="1771650" y="147130"/>
                </a:lnTo>
                <a:lnTo>
                  <a:pt x="1771650" y="0"/>
                </a:lnTo>
                <a:lnTo>
                  <a:pt x="2362200" y="369094"/>
                </a:lnTo>
                <a:lnTo>
                  <a:pt x="1771650" y="738188"/>
                </a:lnTo>
                <a:lnTo>
                  <a:pt x="1771650" y="591058"/>
                </a:lnTo>
                <a:lnTo>
                  <a:pt x="1771650" y="591058"/>
                </a:lnTo>
                <a:cubicBezTo>
                  <a:pt x="1038369" y="591058"/>
                  <a:pt x="443928" y="1185499"/>
                  <a:pt x="443928" y="1918780"/>
                </a:cubicBezTo>
                <a:lnTo>
                  <a:pt x="443928" y="2514600"/>
                </a:lnTo>
                <a:lnTo>
                  <a:pt x="0" y="2514600"/>
                </a:lnTo>
                <a:close/>
              </a:path>
            </a:pathLst>
          </a:custGeom>
          <a:solidFill>
            <a:srgbClr val="ffff99"/>
          </a:solidFill>
          <a:ln w="19080">
            <a:solidFill>
              <a:srgbClr val="2020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cxnSp>
        <p:nvCxnSpPr>
          <p:cNvPr id="195" name="Straight Arrow Connector 10"/>
          <p:cNvCxnSpPr>
            <a:stCxn id="196" idx="0"/>
            <a:endCxn id="191" idx="3"/>
          </p:cNvCxnSpPr>
          <p:nvPr/>
        </p:nvCxnSpPr>
        <p:spPr>
          <a:xfrm flipV="1">
            <a:off x="6471000" y="2991960"/>
            <a:ext cx="1321200" cy="114696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7" name="Straight Arrow Connector 11"/>
          <p:cNvCxnSpPr/>
          <p:nvPr/>
        </p:nvCxnSpPr>
        <p:spPr>
          <a:xfrm flipV="1">
            <a:off x="6396120" y="2613960"/>
            <a:ext cx="457920" cy="152460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8" name="Straight Arrow Connector 12"/>
          <p:cNvCxnSpPr/>
          <p:nvPr/>
        </p:nvCxnSpPr>
        <p:spPr>
          <a:xfrm flipH="1" flipV="1">
            <a:off x="5758560" y="2347200"/>
            <a:ext cx="559800" cy="185508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sp>
        <p:nvSpPr>
          <p:cNvPr id="196" name="Oval 13"/>
          <p:cNvSpPr/>
          <p:nvPr/>
        </p:nvSpPr>
        <p:spPr>
          <a:xfrm>
            <a:off x="5024520" y="4138560"/>
            <a:ext cx="2895480" cy="1295280"/>
          </a:xfrm>
          <a:prstGeom prst="ellipse">
            <a:avLst/>
          </a:prstGeom>
          <a:solidFill>
            <a:srgbClr val="3e2914"/>
          </a:solidFill>
          <a:ln w="255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2506680" y="22716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Adapting Agriculture to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Climate Variability and Change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0" name="Rounded Rectangle 15"/>
          <p:cNvSpPr/>
          <p:nvPr/>
        </p:nvSpPr>
        <p:spPr>
          <a:xfrm>
            <a:off x="833400" y="1027080"/>
            <a:ext cx="37339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909720" y="1090440"/>
            <a:ext cx="3657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echnologies, practices, partnerships and policies for: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o Progressive Climate Change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hrough Managing Climate Risk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Pro-poor Climate Change Mitigation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2" name="Rounded Rectangle 17"/>
          <p:cNvSpPr/>
          <p:nvPr/>
        </p:nvSpPr>
        <p:spPr>
          <a:xfrm>
            <a:off x="1366920" y="2995560"/>
            <a:ext cx="3581280" cy="113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3" name="TextBox 39"/>
          <p:cNvSpPr/>
          <p:nvPr/>
        </p:nvSpPr>
        <p:spPr>
          <a:xfrm>
            <a:off x="4794120" y="1419120"/>
            <a:ext cx="152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Environmental Health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4" name="TextBox 40"/>
          <p:cNvSpPr/>
          <p:nvPr/>
        </p:nvSpPr>
        <p:spPr>
          <a:xfrm>
            <a:off x="6319800" y="1647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Rural Livelihood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5" name="TextBox 41"/>
          <p:cNvSpPr/>
          <p:nvPr/>
        </p:nvSpPr>
        <p:spPr>
          <a:xfrm>
            <a:off x="7691400" y="2309760"/>
            <a:ext cx="10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Food Secur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5175360" y="4386240"/>
            <a:ext cx="266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hanced adaptive capac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 agricultural, natural resource management, and food system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7" name="Oval 22"/>
          <p:cNvSpPr/>
          <p:nvPr/>
        </p:nvSpPr>
        <p:spPr>
          <a:xfrm rot="796800">
            <a:off x="5380200" y="3153960"/>
            <a:ext cx="2814480" cy="593640"/>
          </a:xfrm>
          <a:prstGeom prst="ellipse">
            <a:avLst/>
          </a:prstGeom>
          <a:solidFill>
            <a:srgbClr val="ceeab0"/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8" name="TextBox 44"/>
          <p:cNvSpPr/>
          <p:nvPr/>
        </p:nvSpPr>
        <p:spPr>
          <a:xfrm rot="767400">
            <a:off x="5661000" y="330624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rade-offs and Synergie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1442880" y="2995560"/>
            <a:ext cx="350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4. Integration for Decision Making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Linking Knowledge with Action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Assembling Data and Tools for Analysis and Planning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Refining Frameworks for Policy Analysis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42560" y="981000"/>
            <a:ext cx="7715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Review and analysis of existing approaches to social learning on climate change in the global South to identify gaps, good practices and opportunities for CCAFS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Concluded with a discussion paper to initiate discussion here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Bringing together people with skills in this area to share experience, views, and possibilities for partnership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Identify gaps and research priorities and proposed actions to guide CCAFS engagement in this area alongside partner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2400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workshop</a:t>
            </a:r>
            <a:endParaRPr b="0" lang="en-US" sz="4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Arial"/>
              </a:rPr>
              <a:t>Communication and Social Learning for Climat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700280"/>
            <a:ext cx="7848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Communication and learning – from linear to “looped” approaches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Social learning:  Facilitating sharing information, knowledge and experience between stakeholders for new collective learning and knowledge.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Relevance to the climate challenge: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20720" indent="-277200">
              <a:spcBef>
                <a:spcPts val="64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e2914"/>
                </a:solidFill>
                <a:latin typeface="45 Helvetica Light"/>
              </a:rPr>
              <a:t>Complexity; Uncertainty; Limited information; Access divides; Different timescales</a:t>
            </a: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64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CCAFS as a part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Long-term program and new set-up / new research space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CAFS as a testbed for new approach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brand to help leverage funding 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Access to CGIAR expertise: research, tools, models, impact assessment, agriculture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Increasing access to ESSP expertise: climate science, global change community, food systems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reach of CGIAR: scalability, regions, comparability, partners &amp; linkages, faciliti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GIAR commitment to producing international public goods, science-based evidence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5 area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Documentation and testing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learning in CCAFS/ the CG systesm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Endogenous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differentiation and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Timescales to embed in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3300"/>
                </a:solidFill>
                <a:latin typeface="Arial"/>
              </a:rPr>
              <a:t>1. Documentation and testing of social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3789360"/>
          <a:ext cx="7920000" cy="272736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0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84360" y="549360"/>
          <a:ext cx="7920000" cy="399240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775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2. </a:t>
            </a:r>
            <a:r>
              <a:rPr b="0" i="1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Social Learning is validated within CCAFS as a mainstream method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rmAutofit/>
          </a:bodyPr>
          <a:p>
            <a:pPr lvl="1"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3e2914"/>
                </a:solidFill>
                <a:latin typeface="Arial"/>
                <a:ea typeface="Arial"/>
              </a:rPr>
              <a:t>Indicators</a:t>
            </a:r>
            <a:endParaRPr b="0" lang="en-US" sz="27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Significant percentage of CG funded proposals that include SL explicitly as a central part, by 2020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Dynamic basket of artifacts with shared attribution/use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A porous CGIAR and partners’ network with two-way learning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13:43Z</dcterms:created>
  <dc:creator>Ann-Sophie Neuchs Smed</dc:creator>
  <dc:description/>
  <dc:language>en-US</dc:language>
  <cp:lastModifiedBy>eleborgne</cp:lastModifiedBy>
  <dcterms:modified xsi:type="dcterms:W3CDTF">2012-05-10T11:33:12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Type">
    <vt:lpwstr>Agenda</vt:lpwstr>
  </property>
  <property fmtid="{D5CDD505-2E9C-101B-9397-08002B2CF9AE}" pid="3" name="TemplateUrl">
    <vt:lpwstr/>
  </property>
  <property fmtid="{D5CDD505-2E9C-101B-9397-08002B2CF9AE}" pid="4" name="_dlc_DocId">
    <vt:lpwstr>D3D2VP4PYXC5-6-110</vt:lpwstr>
  </property>
  <property fmtid="{D5CDD505-2E9C-101B-9397-08002B2CF9AE}" pid="5" name="_dlc_DocIdItemGuid">
    <vt:lpwstr>1b9dc0f8-76d6-4893-bece-b1b6f1ac88d5</vt:lpwstr>
  </property>
  <property fmtid="{D5CDD505-2E9C-101B-9397-08002B2CF9AE}" pid="6" name="_dlc_DocIdUrl">
    <vt:lpwstr>http://intranet.ccafs.cgiar.org/_layouts/DocIdRedir.aspx?ID=D3D2VP4PYXC5-6-110, D3D2VP4PYXC5-6-110</vt:lpwstr>
  </property>
  <property fmtid="{D5CDD505-2E9C-101B-9397-08002B2CF9AE}" pid="7" name="display_urn:schemas-microsoft-com:office:office#Author">
    <vt:lpwstr>Jordan, Tania (CGIAR)</vt:lpwstr>
  </property>
  <property fmtid="{D5CDD505-2E9C-101B-9397-08002B2CF9AE}" pid="8" name="display_urn:schemas-microsoft-com:office:office#Editor">
    <vt:lpwstr>Jordan, Tania (CGIAR)</vt:lpwstr>
  </property>
  <property fmtid="{D5CDD505-2E9C-101B-9397-08002B2CF9AE}" pid="9" name="xd_ProgID">
    <vt:lpwstr/>
  </property>
</Properties>
</file>